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724F-45CF-4D69-8A9A-178DFEFA8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ementation Plan for TPL-007-2 is posted on the NERC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s due to FERC by July 2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C GMDTF presentation posted on the PGDTF landing p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67B1-3359-4809-A541-7FD66DC9CE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er data up from 95.8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383A-C929-4C06-9ACB-F35186326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BB70-6100-4E83-B477-4B6F091E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1BC-017C-48A5-9E52-D9460292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D90F9-D7DD-4C2E-9C47-C38AE919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38BCA-75BC-4D99-946F-6F130B08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0C664-5FB3-40FB-A5D2-EC6E21FE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4197A-C568-4088-B71F-D097BA2C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1D227-95D5-4AD7-B6F1-82C0EF82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BBF76-5ABF-44E1-8E6E-9C19FB2C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3954B-D7D4-4049-A55C-38D6044A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CD5AE-2F21-4BEB-B575-9E799ADE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5D1F1-8D56-48F0-9113-D8463382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31B7F-CAAF-4A66-B50E-474E16F0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D88-A225-46CC-A846-7CC1CF73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03916-F249-4D2C-9A3A-467152AB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C67EF-9DA1-4806-9BB8-9BB61BA4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28208-6667-4DCB-8EB7-20E5722C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770BF-8C6C-4793-A13E-F0E26FED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ED131-0E67-42D1-9BCD-B4FED554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2C4C6-9324-455A-85AE-A7FB3A24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717DD-B0B8-48F9-9604-5D7A17CB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FA1A1-F0A0-4C5F-9BA1-C4B3BB5A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38C29-F4A0-44F0-AFDC-0DAB59F6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6955D-5727-4154-83CF-E1DE81F9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75F-1D0F-4929-91AA-55476500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BDB7E-B0E1-4796-93BE-B84EEDBE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2C2CE-1FA7-4B83-9E6E-8C544E5C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46003-D297-486E-B0FF-CE3752B6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F8215-8F4D-4DBB-8C40-603EDCA2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39C90-FED2-48B2-A968-781A8054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4B710-942E-46E0-B113-C5036AD6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6467A-BADA-4C27-A70F-2C64D7FE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356A1-0611-45F9-A4A3-02A35BBE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1436D-D207-4D79-A9B3-6B091E0D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17A23-F517-4A22-99D1-784D4DA1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B910-7251-41F9-B0CE-ADE9D8FE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86EC9-2683-4003-8E6B-892FB104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A08A9-10DD-45FB-94F7-4B213977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A37CB-7186-4F4A-BDBE-DF31C54A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9E893-354A-4B31-BC0A-8B43D21D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A56D3-AC4E-4E07-9FC8-6C6610F3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4017F-DA76-4016-8F35-C6A6A03C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FF71A-E7E9-4EF5-BA8C-37E8E284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D82A9-2370-472C-A2B1-2EE765CB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14CF9-E31A-4A23-9D61-5AE14B0C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A12D1-C311-4F54-A91B-110B31D2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F7A1-1F6D-4D0F-8BF1-D898BF11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292A8-2A82-4F53-A482-6E1FA662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43F5C-E087-45A0-B78A-799F62AE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3C84C-8EC4-469D-A0E8-E31368B1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C7D15-3A75-43CD-95B8-191A8B90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ED74C-15F7-458B-857E-BE4C1769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93F4-9686-4653-A1B3-7521D290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186F-FDBE-4345-822F-696547C2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40CD-D614-4D34-AD59-A4BE340B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BD67-FD3B-4144-9516-FB1C48E4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CBAD-25D2-4267-9B65-BBA35EB5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371-98F4-411C-8E2A-FF9CDB66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2CE6-54E9-4546-9785-304624DB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3462-F875-445B-BCFE-ABCD5E7D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47D6-72ED-4D12-AE78-4DECE880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90BD-BD67-4058-A509-A3AE6024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F701-D45D-4F24-966E-A8CE6A8B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4ABD0-9FBA-4DDC-9FB3-A138DB1A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14712-0636-48C3-AEC1-5708153B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DFC23-9B24-405F-AAE2-A74747E3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584EC-3C4A-47CB-888C-B91DF63C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0EC30-4F10-41A6-A436-69AAE1A0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F32-5E01-4318-AE21-70B9BDDA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A7976-E2DE-4A11-A68F-4E70C883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B6A1E-1DFD-4322-A9A5-3370A6F8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72A74-21AE-4013-A51C-F4700E31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65698-074F-4898-8B08-E94475EC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C6A9F-17AF-4767-A28E-23788661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EECC8-2DE3-43A0-B71F-657E9F65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1C9AF-5CC2-4ED7-A49F-D7112775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02DB7-1784-4DBE-B153-193A36EA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368AA-A8F9-472C-8F2A-49E4C047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03826-3711-4FCD-89C9-62311BDE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AB2-DED9-475F-86E2-293CE634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0FF77-F15C-4E1B-8BBB-84058BF4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394BD-75FA-4220-A815-ED947600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3E1BA-710A-42D6-AF21-035005E2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FA0AE-A6D1-4A63-941C-65E88A3A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419CE-3C3E-4B98-830D-E41E176A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1DA2E-2D7E-483B-B5A6-E7221A85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CBA67-F23F-424F-9148-22BF05B1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817C9-B290-4731-B60A-CDCEDC16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D083F-F768-4651-8EE7-265A4359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92A41-9232-4284-AB43-E593A9FE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24A-044E-4896-AA79-97D33983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CFC6E-C87F-478F-AB31-9D29600C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ECC5A-D5FF-4C16-801C-4DD5239D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6A8D3-E79C-4379-995B-D7C20D1B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34AB1-3509-404A-84C8-F1A2B6B9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8D469-DF90-446A-BB8C-C1325544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47034-1AA0-4B98-813D-B8F7D11A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CAF66-5BAE-4FFD-A868-E290777E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D0104-EB1C-42FF-B748-17753292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02445-B9BF-46D4-B6AA-2736FBE6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2BE93-D8F9-41DE-B434-4D3F57F0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1EE-271D-4090-B13D-86804C76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EBD90-F5C8-432E-AEFE-7B9DB5DA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E90E2-693C-41A1-8A40-A9080DBB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2F25B-D061-4123-9334-7D7F1DD7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1A1A4-0532-4F6E-AC77-BEBDBCB9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8A186-8102-48D4-A524-D7D017C1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FBBB3-336C-4C04-A0C7-A36F166F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6F0A4-192D-4029-9A15-F542195C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123AE-E59B-47D9-88DD-27D7E25B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7F498-F5D6-4A38-9CD7-7A08067A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06D6B-E62E-4445-8E69-C44E829A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616-3BED-4F62-94F6-7700A5CA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E9A90-1ACB-493A-AAC0-9D6BCA4C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B34C6-2310-408A-AB7E-A6250454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D3E1B-9641-4AF8-9166-28F18F36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95995-297D-4EF9-A179-8E42C223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791D5-59CB-438B-B88D-8D7A1475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61B56-237C-473F-AF30-5BA28984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D273A-7D32-490D-AAC3-415BD11B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6D240-14CA-4E77-8377-E101D086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F2C4C-848A-45E9-AFC0-1950ECC2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D5D9B-B36A-4BE1-BE16-6CE2277D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159-77D7-4434-B93D-A1AE9DF5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49352-18DB-470A-B115-C470F95D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E66C2-1003-48DC-B980-CAD62025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3A894-5583-41C7-8788-E1B6BCFA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63684-D529-4149-85D7-921F3CD6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6194D-2BB3-4262-A33A-4CB94F72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09C5E-F5FE-4533-A750-807C9AB4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B07D3-7CFB-4867-8551-3A9D3C7E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4A510-79B8-4C2B-B819-2F062944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2ED5F-F59D-43D4-A354-94A2A59D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B13C6-2498-4CBC-A551-42565B5F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E46E-2051-4060-96F0-9F7D561A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9D08A-B373-4FCA-81F3-3621B12F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718D3-55A6-4815-8188-14B87217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24C9F-0FE4-4BF5-8990-393EA67F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58F5B-8441-4331-898E-BE6D4B26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789CF-A97B-4A28-9235-CC4DE055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51746-0FC2-44D3-868C-F9667753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7315B-1749-40F5-BEAA-F7D9F8BE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B71E7-922F-488A-AD77-673BB5A0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42450-8874-4D53-A565-BAFC1CD6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A86C1-79F1-4207-9F1B-1C65F1ED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1C33-F053-4562-BC26-5FEA2174E4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76E4A1E2-57C0-4896-AB3F-A39BF6445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621B-E2AA-452C-9988-658625AE42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A69C-0D7A-4CFB-A0A9-BA4B8345C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4DF1-1DED-4E15-B874-3A048DEBDB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E430-CDA0-42A2-B2FD-3D3522137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7BCA-1C2F-4E96-994D-C36B42D598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FF4B-F81D-465C-9FB1-3D3F5C60E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0EAC-24C2-480B-9960-9B32B4DD82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A4DB-1FFA-472D-AC02-460ED1F6A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1502-A064-4721-8BA3-662DDB6958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6B09-335A-4794-848F-E33E29FF9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9CE4-F233-46C3-9DBB-79CEB46CE6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82F8-C080-477D-8B64-70F6FD79D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AAC4-9FF4-4ACF-A8AD-43A561F1BD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84AC-3ACB-4692-9EE8-7875F1E96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DFBE-EA45-4ED1-B0DD-E1C43901B8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2EAB-2B97-4ECA-8500-24A91B30B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61B5-9459-46C0-9B9F-7FEABC0CA1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4A72-3989-4243-960A-337AAB4B3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63D6-E70B-4AC0-9867-1D8BB58B8E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1F7E-E4A3-4883-B842-5EBC573FD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1D38-3A8F-4D50-A63A-5B8939C9BB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F024-0A89-4F35-AAEE-3B902FBF5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976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lanning Geomagnetic Disturbance Task Force (PGDTF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Update to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July 12,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ylan Pre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GDTF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F2BE-05C2-45E4-A5E3-0BC1228E1FE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22480" y="685440"/>
            <a:ext cx="329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Arial"/>
              </a:rPr>
              <a:t>Questi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2" descr="question-mark3a.jpg"/>
          <p:cNvPicPr/>
          <p:nvPr/>
        </p:nvPicPr>
        <p:blipFill>
          <a:blip r:embed="rId1"/>
          <a:stretch/>
        </p:blipFill>
        <p:spPr>
          <a:xfrm>
            <a:off x="3236760" y="2206800"/>
            <a:ext cx="2670480" cy="331596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DB6F-BC61-496C-A9EB-C35420EE5B5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ooter Placeholder 6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12/2018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GDTF Meeting(s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28600" y="136836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meeting was held on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June 14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&amp; July 9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Federal and State activities regarding G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RC proposes to approve TPL-007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RC GMD Task Force meeting help on June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ke Juricek (Oncor) gave an update on the state of GIC modeling in ERC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COT RARF/TSP Submission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ewed ERCOT GMD Vulnerability Assessment 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GIC System Model updates and sched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COT TPL-007-1 (R2) Maintenance of the GIC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EBF8-8BEB-4AAA-B98C-CA9706757DB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12/2018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0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liminary GIC Flows release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698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July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ERCOT sent a market notice informing subscribers tha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relimin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GIC Transformer GIC Flow Information” is posted on the ERCOT MIS Secure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C flows are based on the current GIC System Models and include the removal of retired gene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COT requests that TSPs and REs provide comments via email by July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12/2018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E887-813C-4141-B71A-0A6B2A73CC1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RF Submission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82988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’s submit GIC System Model data via the RAR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ormer data provided via the RARF remains at 97.5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ormers miss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ector group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d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ains at 1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COT internal department and client services continue working with REs to get missing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12/2018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6D5E-CF13-468E-9B37-61FB3EDC467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ERCOT GMD Vulnerability Assessment Scop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86048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COT discussed the TSP submitted comments internally and incorporated agreeable items into the latest ERCOT GMD Vulnerability Assessment Sco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COT presented the scope to the PGDTF for discussion in Ju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 continued at the July PGDTF mee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0DBD-C95B-4A98-9434-F0E12B1EEB6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us of GIC System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81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GDTF discussed that GIC System Models created based on the 2021 summer peak/MIN cases (released in July 2017) may be outd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GDTF is determining the best approach to providing accurate results while meeting the intent of the NERC Stand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 current cases? Build all new c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12/2018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5406-1B34-4931-9B49-67B937177AB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frame for Transformer Thermal Impact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20131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 TPL-007-1 (R6), affected Owners have 24 months to conduct the Transformer Thermal Impact Assess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 in 2017, PGDTF recommended that Transformer Thermal Impact Assessment(s) be provided to ERCOT in 12 months to include possible mitigation in the GMD Vulnerability Assess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B48B-8EDB-4EDE-B0A4-51257753EF0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L-007-1 (R2) Maintenance of the GIC System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09480" y="1829880"/>
            <a:ext cx="79250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ective July 1,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COT developed an internal process to request GIC data via RFI/surve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COT noted that the minimum requirement to updated the model is once every 5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FI’s for ad-hoc studies may lead to new official GIC System Mod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COT to review ERCOT’s internal process document at the July (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PGDTF mee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12/2018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FFDB-B7C7-4154-8FE6-C9B3CF3D65F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0440" y="519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coming PGDTF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736280"/>
            <a:ext cx="769608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GDTF Business Meeting on August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-up discussion regarding the adoption of the 2022 Summer Peak and MIN c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e-to-face TSP only model building working session(s) as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ew GMD Vulnerability Assessment Scop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1A9E-D3E3-4983-9BA9-DC261A577F6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12/2018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dpreas</cp:lastModifiedBy>
  <dcterms:modified xsi:type="dcterms:W3CDTF">2018-07-05T19:48:51Z</dcterms:modified>
  <cp:revision>367</cp:revision>
  <dc:subject/>
  <dc:title>PGDTF Update to ROS</dc:title>
</cp:coreProperties>
</file>