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4015F-0799-43E0-8B93-37EC23B1E2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C0C4F-FD73-4C22-A45E-276053C54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5909-FB2F-44FC-82D7-EF4266947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84BE-968B-4C06-8C60-771D37CF8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972B19-D70F-473C-BDBB-DCCB00DC6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26803E-8612-412C-BDCF-398F0DFAB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1D6F1E-73BB-4486-B6B7-4B4FCE00B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2BC952-250F-41D3-8D69-6CB388D0A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F02677-A304-4125-ACD9-AB54631A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66DA7A-A516-475C-88CA-A34A74AB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C01152-1050-4D42-B065-04956514B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63686A-EB65-4BCA-9F3C-185F7C511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242616-40E9-4B69-8B94-238AF9D51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280FB6-EFC0-427C-A13D-6181AC1C9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509F-D0DF-4F19-82FE-4E4E58391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46FE4B-CE6E-48A7-AC09-30653BD5C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36C97B-148D-4EDA-B108-276B54C14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C5FCA7-8A33-4B14-A213-72C1DF8D5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968F1F-4B28-45D3-A7B5-206C2DF9B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A31E79-1114-4FFC-82F9-A30F64084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3696CF-56C7-44F2-85C7-0BFAB72E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AFB609-375F-4F6D-84C3-C5BE2A1F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9C9823-E295-4330-9D8E-C4D3E80C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375B54-2DB1-4236-9098-8CF63B248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68A38E-7A50-45BD-928F-96A062F3C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E5B5-B33A-40DC-AFA0-71A06AA64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99C44B-8A3C-41BC-83AE-8CD018842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D22218-C72E-4899-961E-D66F2D3E6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9EFAC5-B707-4927-A00D-0A18F0FAF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41CF03-FE92-4CC6-90D0-9B14AA9DB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F122C8-4CE2-4469-A434-529C26186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8043F0-FDDF-4D4F-B3E9-13D463015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8AAFC5-48C0-4930-AA2D-98446A338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1FA3F2-E2E4-4EC0-BE81-8644D740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67D4E9-3293-482D-83B2-BAC5A175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9DCB6E-3690-4BF4-ACA7-E0232F20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C0323-12E3-4AD9-B154-2DEA26128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F7BE3B-63CA-4A3B-9DDE-11232B8F6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65F076-C0E8-46A8-ACC2-96F451E14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CF4059-72B1-4C26-B2D3-2207A7845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EF4448-30D1-47DA-8243-381E348EB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C6DDF4-26C3-47DC-9DF8-0D2B439AF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7CAA12-1765-4E40-8B10-4EA1C3C86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5EF2C9-9A5A-497B-BD4A-38A2718EE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66FF84-FC36-481A-A254-28C9AB8CB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85202B-DB99-4C51-B1BF-2437CEEC6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71332B-5448-4925-B500-FD9E3994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CEC5B-DC18-4880-978F-59539377E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B6B9FD-AF23-4697-ACED-62F44A1C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364054-B6C1-4AC8-A94D-0420E4F4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EE06B2-C931-4F96-B2B8-3CF97CACC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959FDF-50CE-4765-A697-905FA0A14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659164-32FE-42CD-A14B-7E476647A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62F97-AD45-461B-B2D8-269B8B836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A1B57-A8D0-424A-BE5F-F58AF8272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8B760-95F6-42E8-847E-8E8327F9A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ABD2D-281A-4919-960A-925A2C1AF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54CF8-FBEC-458B-B9FA-86EBBC3A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2710-6A9B-40FA-B36F-18CDE1A3C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FA845-6750-40C1-9378-6852CF05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EDF17-ED5F-4D88-B955-8D673C70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CAC14-2C40-4AF8-BB54-6F25354E0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0125A-5FBF-46F0-B4AF-3268E04B4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4E8F0-158D-4AC8-9EF7-9FC8A57C9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608BD-6177-46F2-B88C-5C5664031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7ACAD-47FA-4860-874C-9807A116D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9F066-77BF-4B98-8041-8E0A892A1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57B0B-9D0B-4D40-96CA-740DF9F17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65D97-1FC4-4BAE-A4AF-61A21CBB2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7AB6-8289-43EA-86DC-38D9116D7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0A14E-35F8-4AFD-96BC-CF7E29A10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36D09-24D7-412A-9251-C7B98EB8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7C020-2E7F-4179-88FE-554C3B2E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E6541-3A00-4863-8517-15F20571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176B7-2371-4B5B-810A-9A851CC38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E2265-FACC-4F5E-A991-ABAF2D7A9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BE491-34EA-4DBA-84F3-8B1CACB7A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4CC0B-8650-4F06-8E79-59B1FA473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6BE24-EB10-418D-B85B-818D9D55E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0701C-D66F-4E03-B8E9-F5D2FEE11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B69E-3D23-4698-B511-98A76DCB1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C323D-B4DF-4E7D-B1B5-6596DD054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96887-B540-4D38-9EDD-8F69B1946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C6FC3-8532-4952-8A26-BC7D74467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221AF-1855-4372-9949-B87C6C11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FD22C-3972-419A-911B-B891E4F9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6ACA3-34AD-4B31-9B5C-3E7D293D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CF28B-FFE6-4D63-B3C2-5DECF0A9F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F67A3-FF6E-4EE7-ABC8-B766BCE7F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12B71-CCBB-4B2A-82E8-652D91823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33978-E4D1-4551-81F4-C1067E04A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7835-B833-40EB-82F6-C8ED1D042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36690-C583-4D38-956F-04E259AEF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9B9DC-3676-40CC-99C9-05EC219B3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EBA8F-32BB-4144-8761-FC15129CF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CEAAC-CC93-46BA-86F5-0E2EA7359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2F16B-A988-4E36-961F-A50ADFC36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854AD-4E98-47C6-AE35-7C0F1869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5E5AE-49B1-4843-95F2-F7596C66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9FE9A4-BEBA-4427-8E4A-D98219BF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49149-9D3E-47D8-BE7E-E64E90057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C759A-8CC8-46B6-A128-70B0A879B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CCF2-A6C2-4173-8942-7271B9233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8FB9A-A613-4156-B8D6-446D8D052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FD2F7-512B-425E-997E-92A612DD4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69F315-73DF-489A-932A-38FB5F024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89920-AB69-42C2-80BE-AECA24F34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FC472-3704-4A91-8C6A-5304AC950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A5B2B-6E25-4F8A-AB0D-CDBD5282D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2EEF6-9A83-460C-8901-7D36A7A76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5621E-F503-41E6-9610-FBC34CA5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BB952-BD44-48F9-80FE-3B3AB577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C59AC-911E-4CDC-B88F-43B2C6C6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A736-323D-4A05-8F75-A583109D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9DD1E4-C239-4D83-AF72-EF8483C43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E75189-D3EE-41D4-A37F-1ED30C2B3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72A71-93EA-4BB7-B29C-C901E6F45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BE6B3D-4403-41BA-A18C-3BDBD9EB8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DF2003-0ED3-41BA-AEF3-4F0F1F785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E922E1-4D13-4CD7-84A7-E4960509A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DDAE42-5AC3-4471-9691-DC65F9492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2E4C39-6942-4BE3-A1F0-E249DB712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597C2C-26B0-4406-B883-DF744C4EE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FA0D27-61B3-4DB8-9EBF-EE62B45F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1FAA-8D94-4A18-BDE1-FE907153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4DB50E-63D8-49B5-8CE2-0D516DC0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915851-8420-414E-B573-CD909228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25366-0303-485D-81AD-319325D70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21C5AF-A55A-4265-861C-DE548A3EA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5EB6C-1E9C-40F9-A52A-4DE41B0CF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2E88D2-05C9-48CD-97BD-5749136CB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BAEE79-AE77-417C-8547-8CF3BB90B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925A87-D85B-4A2E-B482-F4BEB6DF0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3D9371-5F77-4013-A315-24E681E61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D1C2ED-D789-4CA5-908F-3A31D07D4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B82B-BDCA-4EA1-89D5-99A04C5E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27FADE-1497-49FE-909B-52F29E514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50DC95-1C7D-475C-8489-938F4888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96A281-671E-492A-80F5-9627D275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CBC2C5-3005-483D-9DBE-6C73F757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A49AF5-9C5A-457F-A775-43011504E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762EB0-1EB4-4496-A7EF-FAE7CC2D0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DA78DC-5881-4F66-A2A9-089DFA6D3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A778A7-1FD2-4AFF-98F2-5475BE559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691309-93DF-45FF-9854-899C240CD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FC1AA3-C3C0-4075-96AC-2C0825A7A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Arial"/>
              </a:rPr>
              <a:t>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Arial"/>
              </a:rPr>
              <a:t>Meeting Title (optional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2E833-BEE6-4F43-9B50-BF7E7A79D9D4}" type="slidenum">
              <a:rPr b="0" lang="en-U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3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ounded Rectangle 21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43" name="Group 22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444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45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46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47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48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28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29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Meeting Title (optional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0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4FD72-056C-4845-9623-3C16C60E984A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49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9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9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9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497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98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Meeting Title (optional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0CD38-5B0C-44AE-9CE7-FEEB46F78A64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ounded Rectangle 2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541" name="Group 22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542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3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4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5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6" name="Freeform 27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3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3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Meeting Title (optional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3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B6A0F-1DA9-4BFE-A95F-C46631E32F9E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ounded Rectangle 21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51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2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5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6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7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Meeting Title (optional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5C7AD-501C-4CE1-A85F-8412FDD0FBB8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00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101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2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3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4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5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06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Meeting Title (optional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C8141-15FF-4F4E-9AEA-D6C93E69482D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ounded Rectangle 21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0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1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2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3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Meeting Title (optional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FB058-F204-47B7-B331-7B0632B41A90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7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198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9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00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01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02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03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4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Meeting Title (optional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3DB46-15C7-4E32-A9D3-59B67B5C792E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7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48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9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50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51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52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53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4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Meeting Title (optional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7538D-B88A-49AE-A376-59584BC0FE4F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97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98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9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00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01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02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303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04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Meeting Title (optional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E38E6-4BD7-4A82-802D-97B919DEF293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ounded Rectangle 2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347" name="Group 22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348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49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50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51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52" name="Freeform 27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2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3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Meeting Title (optional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4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1CCF9-40DF-45AB-BA3D-6F44BF033DF2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ounded Rectangle 2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395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396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97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98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99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00" name="Freeform 27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dt" idx="25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ftr" idx="26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2"/>
                </a:solidFill>
                <a:latin typeface="Times New Roman"/>
              </a:rPr>
              <a:t>Meeting Title (optional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sldNum" idx="27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7A49F-1A2C-409F-94CC-15C5C34B0A6A}" type="slidenum">
              <a:rPr b="0" lang="en-US" sz="10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 txBox="1"/>
          <p:nvPr/>
        </p:nvSpPr>
        <p:spPr>
          <a:xfrm>
            <a:off x="304920" y="23623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45720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Candara"/>
              </a:rPr>
              <a:t>June 21</a:t>
            </a:r>
            <a:r>
              <a:rPr b="0" lang="en-US" sz="2800" spc="-1" strike="noStrike" baseline="30000">
                <a:solidFill>
                  <a:srgbClr val="073e87"/>
                </a:solidFill>
                <a:latin typeface="Candara"/>
              </a:rPr>
              <a:t>st</a:t>
            </a:r>
            <a:r>
              <a:rPr b="0" lang="en-US" sz="2800" spc="-1" strike="noStrike">
                <a:solidFill>
                  <a:srgbClr val="073e87"/>
                </a:solidFill>
                <a:latin typeface="Candara"/>
              </a:rPr>
              <a:t> meeting highlights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lvl="1" marL="914400" indent="-45720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514440" indent="-45720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Candara"/>
              </a:rPr>
              <a:t>Approval of Nomination for Vice Chair (Vote)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lvl="2" marL="1314360" indent="-45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Pushkar Chhajed (LCRA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1314360" indent="-45720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514440" indent="-45720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Candara"/>
              </a:rPr>
              <a:t>Key dates and next meetings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lvl="2" marL="1314360" indent="-45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August 14</a:t>
            </a:r>
            <a:r>
              <a:rPr b="0" lang="en-US" sz="2400" spc="-1" strike="noStrike" baseline="30000">
                <a:solidFill>
                  <a:srgbClr val="073e87"/>
                </a:solidFill>
                <a:latin typeface="Candara"/>
              </a:rPr>
              <a:t>th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 and 28</a:t>
            </a:r>
            <a:r>
              <a:rPr b="0" lang="en-US" sz="2400" spc="-1" strike="noStrike" baseline="30000">
                <a:solidFill>
                  <a:srgbClr val="073e87"/>
                </a:solidFill>
                <a:latin typeface="Candara"/>
              </a:rPr>
              <a:t>th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1314360" indent="-4572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lvl="2" marL="1314360" indent="-45720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lvl="2" marL="1314360" indent="-4572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lvl="2" marL="1314360" indent="-4572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51444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914400" indent="-4572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ndara"/>
              </a:rPr>
              <a:t>Outage Coordination Working Group (OCWG)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1T16:22:17Z</dcterms:created>
  <dc:creator>Martha Henson</dc:creator>
  <dc:description/>
  <dc:language>en-US</dc:language>
  <cp:lastModifiedBy>Martha Henson</cp:lastModifiedBy>
  <dcterms:modified xsi:type="dcterms:W3CDTF">2018-07-11T16:44:28Z</dcterms:modified>
  <cp:revision>2</cp:revision>
  <dc:subject/>
  <dc:title>Outage Coordination Working Group (OCWG)</dc:title>
</cp:coreProperties>
</file>