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9181-4CF4-40AB-A03C-F43CA0C40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er data up from 95.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F329-4840-4F15-A65E-3AEC46926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B30-95E0-4952-9544-188CC976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120D-EA48-4862-A90D-F5125C8F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AAD13-AE11-4C52-9179-29DD145D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69F5C-E029-4906-AE22-BE007DEE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D3909-CAD8-4F08-A5F0-99834FE5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6D06E-34AB-42B2-9123-7A92019D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41F74-DF03-4D19-B35B-5F603FA5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A6CB7-15D5-44F7-AFA4-B0FF6092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4EFF0-770B-4DEE-B808-8DE43345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873E7-D729-49DF-99AE-E5C71DD8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4CEF3-5966-42B0-BBDF-1737BEFE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B8265-A7BB-444D-9727-DA4A116F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0BC-5DF6-4060-8351-C70EDF6E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87157-38B6-4E83-98FE-47AF5462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63C24-FC2E-4570-BD24-ED76084F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5D8F4-41AD-4F3B-AB78-F91117CF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C815A-DCA4-4923-AB0C-D506AC22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3D31E-7E88-4B5E-8522-5EE76F32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5493E-78F7-4E89-A841-CE0B7199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084DF-BD02-4741-89DE-D06783DE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0723E-24F4-4EBD-997E-6D5A9C6A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D239D-194E-420A-A2B9-069B8AD5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C1F78-3060-433C-989B-D72F4EC9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BDE-3057-4384-82F2-4E2D4754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DC32C-7074-43A5-B678-03F082AF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5EF04-22F0-4A4A-81F8-3FC4391E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7F4F5-B54C-4BE1-B3DF-8D1C9949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FA5CA-03D4-48A1-B399-85BEC749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9CCE4-A638-4617-BBB0-68BC33F7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046C5-8320-4B5B-BA83-0EC55072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25A48-9DCE-4B5A-8602-D6912EAD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7BE9A-ECB3-460A-802F-9A56E2EB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4A88E-2680-4668-8F5A-A62EB259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5CB04-2CCB-4078-B9C3-A802BE9D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A647-CBBD-4463-943D-5CED1308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8F2EC-3037-4612-B77A-0CD9CEFC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17657-994D-4026-A9AA-D59D1DFD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1C0FD-0734-44BC-9279-ED9AFFE5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603C2-6D2B-4A89-A60B-44379A5C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2BDBC-38E2-4183-9298-35E9A0F7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F4DCD-8E4B-42EC-8394-E697CFE7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1F8DF-6221-4512-ADC5-4C57AFA5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7514D-3EC7-47FE-A4A7-2C4546F9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F2F37-4579-48F3-BF87-6C0D10EF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B629B-4217-40D7-9F21-52651677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0175-8F86-4499-80B9-A9B2228F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C54A5-712C-400D-8987-0E670D76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6ADDA-8849-4580-9837-E30DD553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FC396-6DE8-4E45-B31A-1B9C8E2B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4CF67-182E-40B3-BF9B-EB990506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69F69-9F54-49C2-A1A4-6372188B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C7E3-7EA8-44F4-826B-823F249F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09CF-D753-4C50-9231-AF465914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8AF4-A639-4FC3-B644-1D089F91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38CC-554E-478A-B726-AD330094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341C-2B04-4D46-9F9C-64476EF4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00B-A6E5-4705-BECE-806723E3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4895-E025-4FDE-AB95-AA553528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5981-96E1-41D8-AA9E-A8E55C28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886C-7E7C-4494-8C87-9D1E76DF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B843-E0AC-4527-BAC8-8E82BB2F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AE04-B939-491F-968D-B1682E74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CAECD-C78B-4E38-A08F-73943195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4E68E-3F79-4F49-9956-065138AE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16D09-BEFF-4530-B46F-EBA1296B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AE3C6-62CB-4F1D-A348-93A16E95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5A2D7-4DCC-4B1B-A17B-D9699E61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EC1-03AB-4C73-AFAE-D2E3C8E4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E5262-9D9D-48A3-9EC3-3B78BA5E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5945-D29E-4FB1-A6D2-D3F5C7A8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77A7C-E099-4427-9A03-4BDBD178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E5F43-4678-4EC1-9F26-662E2FE3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B36CA-0ACB-4851-9ADE-6047C82B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2547E-873C-460D-A0B8-373CCBEB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3647B-0D69-4FA8-917B-9FBCE585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E4F5F-0998-4A90-A645-D6D8EC63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BD85B-7178-4D37-AA68-4359FAE1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CC050-2291-40A7-8671-7B2430F0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225-7C4B-4133-AEF4-B78598C8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895ED-B8C9-43B8-B1E4-C2F28010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4C2BB-A162-4EC3-9199-93CD2850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56B55-E8B8-4847-B071-5449594C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1CE57-7926-4922-ACAB-FB15F768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F36E7-6BD8-4232-9CA9-B6CC39FC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761CB-6E2D-4305-AC1A-5488BFD2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586BA-8F42-4D92-87EB-40A2DDD1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3482A-975D-43A0-9B6D-CE9BF1EB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947BA-48BD-4E32-ABD7-ED46CF46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0D1F8-68FD-40AF-B8B1-9971D373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A7D-214E-46FE-9A83-A0532764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B27EE-1D2B-41A7-804A-DEBE7AE1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5C065-F674-4E38-BFD9-61E0C2E9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21CB4-0632-4460-A4D0-5CE55B4B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B6D0E-D47D-489F-BDF5-0C3BA3B0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7957E-BF06-4717-A578-62F9B9CB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88524-D566-4E33-91F6-8098FF38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2DFE4-AA72-4D28-BDAF-6B5C5D80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1C6CB-9B75-49C2-B20D-71921522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8A8EE-59EA-45B9-9570-CC2EDE71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F49DB-F5E4-4178-8B8D-3A40675F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706-7B6C-4163-A5C3-DF5297D9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9A366-EFFC-422C-A5ED-CFF313C3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D5C52-2444-4E3E-B509-1517028E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13D96-5E10-46E9-9B99-D64E294D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C8332-FBAA-4675-B02C-938F3F31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2A424-7461-48BC-AB26-F6B43435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94298-2944-461E-AFE1-819A43D7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89C52-4516-4B92-AA65-12B18486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F89E8-88FB-4B7C-94A6-CCA4ED8E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14112-D4ED-4CA9-B724-956EAF3B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97ECC-EA67-45B6-B17E-1E81E7AA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59C-3F72-4048-AB98-9D502A14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94282-182C-4E78-AA17-765D4472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ABE2E-7EED-4AED-A742-7F7910BE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1D657-2788-4A00-AC66-BBAD6D49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79717-37A0-4693-975F-D3CE113D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4551E-C715-4DB0-BC64-6658A095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D108B-7DD4-4D8D-B4D3-476BC4EE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2780C-035E-4FF7-87D9-E09D67B4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BAF22-F341-42CA-8736-79C851BF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A9384-B659-4BA3-8077-E804E09E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D727F-496B-46D5-8423-81A14E25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9ED-A887-4DCA-8ABC-085DDC4E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8B82B-8B8B-4D64-9E94-C6F3A63F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542C6-393B-4A7F-B056-C54AAD1F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02BAF-C446-4025-B681-2EA73CEC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89412-B2C0-40D6-8D2A-34012E23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2D420-DD1B-4F43-938C-BFD97989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DD8E0-1A7B-427F-A8E9-448C292A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2D524-A2A6-4C48-A076-97135FCA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0AFD8-4245-4CCE-BB8A-5ED0B2BD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CD28C-DB61-4CEE-B5ED-E1F642B6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A2745-9D93-445F-B5FF-A3491158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409-4C00-4A9B-A31E-6568CEC9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26320-BAA2-4CAB-95F0-AC3A8223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9D027-446D-4901-B993-CB212306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9B0CC-40A2-48D2-945F-AA52B6AE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C7A8A-0652-4C27-A788-3140ABDA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85096-D824-447C-A38F-CF5B943A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EBF12-65EA-4314-B191-7EEC7FB9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E5106-67C0-4046-9AE0-68BF647A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214B7-D106-49CF-9D5E-2F1A1B1D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17C0D-58BA-4E03-B527-D606C1E5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610C5-9C61-4B1C-A3D2-96B4CEB5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B36A-4A89-4770-93BA-766003A8B7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FAE7A154-2FE8-44E1-93F4-44E27AF51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F939-C9C7-42DF-A6E7-1CD29369CC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FE8A-7074-4008-8D55-390CD0C5B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1A9E-D46A-4585-8FFC-D25D5BB2CD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5226-1E89-41FE-B376-C558B0567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004F-FE13-4B6E-A1E7-ED284ECE91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2552-7C04-4527-87F1-7489D3531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6AE1-46EE-4799-BE01-0F707B32AE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3E63-97BB-473D-9635-0EFB9BBC9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15EE-485A-4EB5-B71E-BCCB3DDB63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CB6A-E437-46AA-8C43-3E8B234D9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45E1-DA04-4A7E-BC76-C6FD97155B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5294-6FD3-4B21-BE58-4BF18D3CC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D9C9-DE7F-43E2-B281-DB03A4C8E9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A038-FB53-412C-A569-DEED0CD99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EF68-769B-4BD5-A08D-81058B128E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B715-4D01-44C0-9B9D-7068C2FF1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7E43-5ECC-4C76-B341-EDE02653D5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894F-E86C-4D14-B222-EDA794E61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8680-0838-4E76-8505-CBEA1F5C86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FE41-5A32-4B81-9F6A-7F38EED71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D770-0615-437F-B89A-5508828B72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6785-CB0F-4D10-9BEF-179A4A618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18/5/10/142185-PGDTF" TargetMode="External"/><Relationship Id="rId2" Type="http://schemas.openxmlformats.org/officeDocument/2006/relationships/hyperlink" Target="http://www.ercot.com/calendar/2018/5/10/142185-PGDTF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976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lanning Geomagnetic Disturbance Task Force (PGDTF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Update to the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June 7,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ster Amahat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GDTF Vice-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EB67-74BB-4614-82CE-D41FFA434C3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7/2018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33440" y="488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MU GIC Monitoring Project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Geo-magnetically Induced Curr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28600" y="18284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grid research by Texas A&amp;M to deploy a real-time magnetometer and GIC monitor network in Tex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essor Overbye with Texas A&amp;M gave a presentation titled “Overview of GMD Activities at Texas A&amp;M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k force discussed confidentiality regarding sharing of GIC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essor Overbye’s presentation is posted on the PGDTF meeting notice page 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www.ercot.com/calendar/2018/5/10/142185-PGDT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E57A-B9DD-4F64-B610-4611A94B5A9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7/2018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RF Submission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28600" y="18298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’s submit GIC System Model data via the RAR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er data provided via the RARF is 97.5% up from 96.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ers miss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ector group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d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34 to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COT internal department and client services continue working with REs to get missing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7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C093-38AF-4271-86BF-33CF705E997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us of GIC Data 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GDTF provided ERCOT with a final GIC data file based on the TSP face-to-face working s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COT is using this GIC data file for its review of model data and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k force discussed updating the 2021 GIC base cases (which were published in July 2017) to reflect system changes (i.e. generation retirements and system topolo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6987-514D-467D-9715-F00AF05C3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RC TPL-007-1 R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55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developing process to request GIC data via RFI/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’s goal is to develop a better way of requesting and submitting GIC System Model data requiring less effort than current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may propose updating the GIC system model cases every three years instead of annually as proposed by PGDT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states that years in which the GMD Vulnerability Assessment is not conducted does not require more extensive model building efforts and may request updates a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TSPs expressed concerns about not performing annual GIC system model case buil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7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164F-CDF0-42C5-9E8F-BFE6D0CB825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MD Vulnerability Assessment Scop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SPs have provided comments to the ERCOT GMD Vulnerability Assessment S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GDTF working through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GDTF discussed case updates including removal of retired generation and necessary generation re-dispa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proposed that “material changes” will be presented to R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CAEC-27A8-4F38-9C1D-826FD1ADD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33280" y="3297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coming PGDTF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00040" y="138240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GDTF Business Meetings on June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mee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methodology to update the GIC base case(s) with system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 on the ERCOT process for maintaining the GIC System Model (NERC TPL-007-1 R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ew GMD Vulnerability Assessment Scop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78F7-C1DF-4E82-99A8-60AD9DF03A9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7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22480" y="685440"/>
            <a:ext cx="329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Ques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  <p:sp>
        <p:nvSpPr>
          <p:cNvPr id="5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2C5F-3C18-42D4-A249-D15C743623C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7/2018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dpreas</cp:lastModifiedBy>
  <dcterms:modified xsi:type="dcterms:W3CDTF">2018-05-29T23:33:19Z</dcterms:modified>
  <cp:revision>333</cp:revision>
  <dc:subject/>
  <dc:title>PGDTF Update to ROS</dc:title>
</cp:coreProperties>
</file>