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7B68-C60A-460D-A43C-E13E41F55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2938-6F55-4212-9DE3-3D805A3CE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BB69-4FE7-4E22-BB30-227D2F8F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5269-D77A-4696-A1D6-B76BC13C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6FCD-0843-41F7-8761-7559B84D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2F3F-FA46-44F8-BA0D-ED6312BA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4785-5938-42E0-9A6F-8E691E2C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BE71-6A45-48A8-9FEE-E07C1499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D0BB-5380-4767-9CB2-1BFC7FAF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053E7-69FE-4A3B-A772-D93CA3D4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DA56-D8C7-4565-9190-FE7EAD6B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6EB2A-91D6-468E-8F3D-3F0F2B59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B02A-C15B-4ECD-AC5F-010752E9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8F4D-F9EC-46AE-985E-DF6CF6EC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F3C08-C85A-465C-A0B3-BF2BF69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FCAD-C3EB-401E-9AC8-C9680541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BCC3-5855-4FBA-B2A8-B836E8D1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D19A-7ED1-4A5D-98FC-5D539E98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77C6-49E2-4AC6-8AED-AC004F36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C5BE0-6460-4F80-9F42-BA5F33618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40D73-C8D9-4895-83A5-F4E24D78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97C78-C0BF-4286-8E79-6DCA1832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A2741-C1BB-4799-912E-8DCF58792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B101-FAE8-4030-9DA0-13C331BD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B788E-4A78-45A4-99C0-D0A482A1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5CC3-246D-45EA-9304-035814BE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32D0C-4126-4D13-B0CB-0146E178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649C-2FEE-4856-A889-A13E6C1E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945C5-9A6C-47C4-84DB-1A6D5070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3599C-5786-4ADE-AA4A-19CE7DF5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785E6-28EB-485D-8A83-005048D4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C634-940E-462C-ADA7-23ABA1F6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5DF9-4614-4A24-A909-276AD225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C58FD-53C7-4A37-9713-FE7501D9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6EE24-F021-4286-9124-AE985BA9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DB4C-F959-495B-BD52-C50F801C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5FB6D-CD72-4154-8F52-08C0ECF3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47B5-9B15-4373-9CD5-A8B379649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C83E-5BFB-44A6-8B42-E1E835996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4E00-8D7F-4D76-BE3F-4B901D128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BCAD-1090-4239-AE8B-2418A5B9E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0ACE-370C-45E9-BFA3-C1A70B30B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3EB8-185C-47AA-9712-9DCA01550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May 9th,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93FD-AC5F-420F-924C-70ED6574B8A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38088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2018 Annual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609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IAL ESIs current profile distribution by weather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8DF6-A020-43BB-AE54-8330807327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38088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Default Profiles – 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878120" y="1852560"/>
            <a:ext cx="4751280" cy="43578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4379760" y="3048120"/>
            <a:ext cx="384480" cy="5634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"/>
          <p:cNvPicPr/>
          <p:nvPr/>
        </p:nvPicPr>
        <p:blipFill>
          <a:blip r:embed="rId3"/>
          <a:stretch/>
        </p:blipFill>
        <p:spPr>
          <a:xfrm>
            <a:off x="6705720" y="2514600"/>
            <a:ext cx="457200" cy="338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4"/>
          <a:stretch/>
        </p:blipFill>
        <p:spPr>
          <a:xfrm>
            <a:off x="6705720" y="299412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5"/>
          <a:stretch/>
        </p:blipFill>
        <p:spPr>
          <a:xfrm>
            <a:off x="6705720" y="3468600"/>
            <a:ext cx="457200" cy="335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"/>
          <p:cNvPicPr/>
          <p:nvPr/>
        </p:nvPicPr>
        <p:blipFill>
          <a:blip r:embed="rId6"/>
          <a:stretch/>
        </p:blipFill>
        <p:spPr>
          <a:xfrm>
            <a:off x="6705720" y="394020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"/>
          <p:cNvPicPr/>
          <p:nvPr/>
        </p:nvPicPr>
        <p:blipFill>
          <a:blip r:embed="rId7"/>
          <a:stretch/>
        </p:blipFill>
        <p:spPr>
          <a:xfrm>
            <a:off x="6705720" y="440856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"/>
          <p:cNvPicPr/>
          <p:nvPr/>
        </p:nvPicPr>
        <p:blipFill>
          <a:blip r:embed="rId8"/>
          <a:stretch/>
        </p:blipFill>
        <p:spPr>
          <a:xfrm>
            <a:off x="6705720" y="4876920"/>
            <a:ext cx="457200" cy="334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"/>
          <p:cNvPicPr/>
          <p:nvPr/>
        </p:nvPicPr>
        <p:blipFill>
          <a:blip r:embed="rId9"/>
          <a:stretch/>
        </p:blipFill>
        <p:spPr>
          <a:xfrm>
            <a:off x="6705720" y="5343480"/>
            <a:ext cx="457200" cy="336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"/>
          <p:cNvPicPr/>
          <p:nvPr/>
        </p:nvPicPr>
        <p:blipFill>
          <a:blip r:embed="rId10"/>
          <a:stretch/>
        </p:blipFill>
        <p:spPr>
          <a:xfrm>
            <a:off x="6705720" y="5823000"/>
            <a:ext cx="457200" cy="3348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16"/>
          <p:cNvSpPr/>
          <p:nvPr/>
        </p:nvSpPr>
        <p:spPr>
          <a:xfrm>
            <a:off x="2743200" y="4275000"/>
            <a:ext cx="762120" cy="9828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ESIs current default profile is BUS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profile distribution of NIDR 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5971-7B4C-4D06-948D-035DDD194D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"/>
          <p:cNvSpPr/>
          <p:nvPr/>
        </p:nvSpPr>
        <p:spPr>
          <a:xfrm>
            <a:off x="38088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Default Profiles –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4379760" y="3048120"/>
            <a:ext cx="384480" cy="563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2"/>
          <a:stretch/>
        </p:blipFill>
        <p:spPr>
          <a:xfrm>
            <a:off x="228600" y="1940040"/>
            <a:ext cx="8686800" cy="2865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tretch/>
        </p:blipFill>
        <p:spPr>
          <a:xfrm>
            <a:off x="838080" y="4829040"/>
            <a:ext cx="1981440" cy="137952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5"/>
          <p:cNvSpPr/>
          <p:nvPr/>
        </p:nvSpPr>
        <p:spPr>
          <a:xfrm>
            <a:off x="3276720" y="4952880"/>
            <a:ext cx="563868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th the Sharyland/Oncor transition, does the larger population of BUSMEDLF ESIs represent the default profiles for the new Oncor ESIs created or were historical profiles considered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87440" y="1004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NIDR Changes for 2018 Annual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BD28-41A3-4361-8C76-044F3808AF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"/>
          <p:cNvSpPr/>
          <p:nvPr/>
        </p:nvSpPr>
        <p:spPr>
          <a:xfrm>
            <a:off x="38088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Default Profiles –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tretch/>
        </p:blipFill>
        <p:spPr>
          <a:xfrm>
            <a:off x="4379760" y="3048120"/>
            <a:ext cx="384480" cy="5634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5"/>
          <p:cNvSpPr/>
          <p:nvPr/>
        </p:nvSpPr>
        <p:spPr>
          <a:xfrm>
            <a:off x="228600" y="5045040"/>
            <a:ext cx="84582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he Sharyland/Oncor ESIs would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have been included in the AV process due to lack of historical consumption for ERCOT re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lotting of the default profiles for BUSHILF, BUSMEDLF, and BUSLOLF are to be made to determine possible impact of new default  pro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2567160" y="1509840"/>
            <a:ext cx="37810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Annual Validation Proposed Process Re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Content Placeholder 6" descr=""/>
          <p:cNvPicPr/>
          <p:nvPr/>
        </p:nvPicPr>
        <p:blipFill>
          <a:blip r:embed="rId1"/>
          <a:stretch/>
        </p:blipFill>
        <p:spPr>
          <a:xfrm>
            <a:off x="480960" y="3200400"/>
            <a:ext cx="8229600" cy="2060640"/>
          </a:xfrm>
          <a:prstGeom prst="rect">
            <a:avLst/>
          </a:prstGeom>
          <a:ln w="0">
            <a:noFill/>
          </a:ln>
        </p:spPr>
      </p:pic>
      <p:sp>
        <p:nvSpPr>
          <p:cNvPr id="2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58AE-0395-40CA-AC9D-B2AE2B374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et Participants, including ERCOT, are asked to review the proposal to determine if changes will impact any business processes such as forecasting, procurement, pricing/quoting, etc. before an LPGRR is draf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457200" y="1219320"/>
            <a:ext cx="82296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Joint TDSP proposal for streamlining AV proces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ESIs reviewed annu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idential ESIs reviewed every 3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l TDSPs to process same ye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Visibility of Distributed Generation for BUSIDRR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06E8-1915-4A1B-9477-9F054DAD3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419040" y="1143000"/>
            <a:ext cx="8382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597a0"/>
                </a:solidFill>
                <a:latin typeface="Arial"/>
              </a:rPr>
              <a:t>First Step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isting ESIs with &lt; 1 MW of DG (unregistered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rovided a list of respective BUSIDRRQ ESIs to each TDSP noting any associated Resource IDs (RI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SPs determined if an existing Interconnection Agreement (IA) exi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NMP- has no 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P – 14 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P - &lt;60 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or – meeting with ERCOT to review reports already sub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399960" y="5018040"/>
            <a:ext cx="82868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iven the low counts of known unregistered DG with BUSIDRRQ profiles, the discussion on the go-forward process has been tabled pending ERCOT re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6"/>
          <p:cNvSpPr/>
          <p:nvPr/>
        </p:nvSpPr>
        <p:spPr>
          <a:xfrm>
            <a:off x="571680" y="1028880"/>
            <a:ext cx="8001000" cy="5650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May 23rd, 9:30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Ex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Update on BUSIDRRQ profiled ESIs for DG identification need on a go-forward b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2018 Annual Validation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view of BUS default profile shapes &amp; clarification of Oncor NIDR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Validation Propos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buClr>
                <a:srgbClr val="3c8c9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Discuss feedback on AV propos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buClr>
                <a:srgbClr val="3c8c9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BUS review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buClr>
                <a:srgbClr val="3c8c9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S review every three years (next AV 20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buClr>
                <a:srgbClr val="3c8c93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5AE8-4EC2-48BE-A699-E2EBC4B68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49A8-E5F2-45F0-885C-FE92164D9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8-05-07T20:16:24Z</dcterms:modified>
  <cp:revision>1286</cp:revision>
  <dc:subject/>
  <dc:title>Instructions</dc:title>
</cp:coreProperties>
</file>