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Lst>
  <p:sldSz cx="9144000" cy="6858000"/>
  <p:notesSz cx="6973888"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732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18" name="PlaceHolder 1"/>
          <p:cNvSpPr>
            <a:spLocks noGrp="1"/>
          </p:cNvSpPr>
          <p:nvPr>
            <p:ph type="hdr"/>
          </p:nvPr>
        </p:nvSpPr>
        <p:spPr>
          <a:xfrm>
            <a:off x="0" y="0"/>
            <a:ext cx="302256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PlaceHolder 2"/>
          <p:cNvSpPr>
            <a:spLocks noGrp="1"/>
          </p:cNvSpPr>
          <p:nvPr>
            <p:ph type="dt" idx="4"/>
          </p:nvPr>
        </p:nvSpPr>
        <p:spPr>
          <a:xfrm>
            <a:off x="3949200" y="0"/>
            <a:ext cx="3022920" cy="463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20" name="PlaceHolder 3"/>
          <p:cNvSpPr>
            <a:spLocks noGrp="1"/>
          </p:cNvSpPr>
          <p:nvPr>
            <p:ph type="sldImg"/>
          </p:nvPr>
        </p:nvSpPr>
        <p:spPr>
          <a:xfrm>
            <a:off x="1407600" y="1153800"/>
            <a:ext cx="4157640" cy="31179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1" name="PlaceHolder 4"/>
          <p:cNvSpPr>
            <a:spLocks noGrp="1"/>
          </p:cNvSpPr>
          <p:nvPr>
            <p:ph type="body"/>
          </p:nvPr>
        </p:nvSpPr>
        <p:spPr>
          <a:xfrm>
            <a:off x="696960" y="4444560"/>
            <a:ext cx="5580000" cy="363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2" name="PlaceHolder 5"/>
          <p:cNvSpPr>
            <a:spLocks noGrp="1"/>
          </p:cNvSpPr>
          <p:nvPr>
            <p:ph type="ftr" idx="5"/>
          </p:nvPr>
        </p:nvSpPr>
        <p:spPr>
          <a:xfrm>
            <a:off x="0" y="8772480"/>
            <a:ext cx="3022560" cy="463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PlaceHolder 6"/>
          <p:cNvSpPr>
            <a:spLocks noGrp="1"/>
          </p:cNvSpPr>
          <p:nvPr>
            <p:ph type="sldNum" idx="6"/>
          </p:nvPr>
        </p:nvSpPr>
        <p:spPr>
          <a:xfrm>
            <a:off x="3949200" y="8772480"/>
            <a:ext cx="3022920" cy="463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D6E7D-75D9-44CB-B087-0CA09D2F296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407960" y="1154160"/>
            <a:ext cx="4157640" cy="3117960"/>
          </a:xfrm>
          <a:prstGeom prst="rect">
            <a:avLst/>
          </a:prstGeom>
          <a:ln w="0">
            <a:noFill/>
          </a:ln>
        </p:spPr>
      </p:sp>
      <p:sp>
        <p:nvSpPr>
          <p:cNvPr id="149" name="PlaceHolder 2"/>
          <p:cNvSpPr>
            <a:spLocks noGrp="1"/>
          </p:cNvSpPr>
          <p:nvPr>
            <p:ph type="body"/>
          </p:nvPr>
        </p:nvSpPr>
        <p:spPr>
          <a:xfrm>
            <a:off x="696960" y="4444560"/>
            <a:ext cx="5580000" cy="36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Slide Number Placeholder 3"/>
          <p:cNvSpPr/>
          <p:nvPr/>
        </p:nvSpPr>
        <p:spPr>
          <a:xfrm>
            <a:off x="3949560" y="8772480"/>
            <a:ext cx="302292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3B4F2-EAF3-4B0A-BCB3-8BD422F84C6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407960" y="1154160"/>
            <a:ext cx="4157640" cy="3117960"/>
          </a:xfrm>
          <a:prstGeom prst="rect">
            <a:avLst/>
          </a:prstGeom>
          <a:ln w="0">
            <a:noFill/>
          </a:ln>
        </p:spPr>
      </p:sp>
      <p:sp>
        <p:nvSpPr>
          <p:cNvPr id="152" name="PlaceHolder 2"/>
          <p:cNvSpPr>
            <a:spLocks noGrp="1"/>
          </p:cNvSpPr>
          <p:nvPr>
            <p:ph type="body"/>
          </p:nvPr>
        </p:nvSpPr>
        <p:spPr>
          <a:xfrm>
            <a:off x="696960" y="4444560"/>
            <a:ext cx="5580000" cy="36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949560" y="8772480"/>
            <a:ext cx="302292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657ED-7914-4E77-AD9D-C0752882D80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EA365F-9291-4CF1-BEEC-DCFD4D0BF1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55A0F-3B3A-492A-911D-78DDDF7FA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2044DB-0105-4D60-AA32-B8B5064632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AAEA31-85DD-4F57-BA0B-8E235FA0AE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6946D-2A09-41D7-8FE2-4555CDAF0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BEBDC-0A22-4F40-A551-041846A11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8E305-4460-4A11-8107-F7F9D3267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5FEA5-68CF-4823-8E9F-C14DA9059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BB9F0-C1C6-40CC-88E2-C71E609C3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2436B-82B0-49A4-9673-18A820DA3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5DBB7-2970-4025-9F14-8D807BD61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F1F93-29AC-4D19-8689-54B03CB38F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FE5DE-A341-43DC-9CAD-EC62A9ACAA91}"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B16D2-F6A1-4683-BC41-28DFB68D296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3230640" y="0"/>
            <a:ext cx="5913360" cy="6858000"/>
          </a:xfrm>
          <a:prstGeom prst="rect">
            <a:avLst/>
          </a:prstGeom>
          <a:solidFill>
            <a:srgbClr val="d7dcd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7" descr=""/>
          <p:cNvPicPr/>
          <p:nvPr/>
        </p:nvPicPr>
        <p:blipFill>
          <a:blip r:embed="rId2"/>
          <a:stretch/>
        </p:blipFill>
        <p:spPr>
          <a:xfrm>
            <a:off x="196920" y="2876400"/>
            <a:ext cx="2857320" cy="110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tangle 6"/>
          <p:cNvSpPr/>
          <p:nvPr/>
        </p:nvSpPr>
        <p:spPr>
          <a:xfrm>
            <a:off x="3505320" y="0"/>
            <a:ext cx="5638680" cy="6858000"/>
          </a:xfrm>
          <a:prstGeom prst="rect">
            <a:avLst/>
          </a:prstGeom>
          <a:solidFill>
            <a:srgbClr val="d7dcd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0" name="Picture 7" descr=""/>
          <p:cNvPicPr/>
          <p:nvPr/>
        </p:nvPicPr>
        <p:blipFill>
          <a:blip r:embed="rId2"/>
          <a:stretch/>
        </p:blipFill>
        <p:spPr>
          <a:xfrm>
            <a:off x="343080" y="2876400"/>
            <a:ext cx="2857320" cy="110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124" name=""/>
          <p:cNvSpPr txBox="1"/>
          <p:nvPr/>
        </p:nvSpPr>
        <p:spPr>
          <a:xfrm>
            <a:off x="152280" y="152280"/>
            <a:ext cx="8839440" cy="64771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mbria Math"/>
              </a:rPr>
              <a:t>Resource Cost Working Group</a:t>
            </a: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mbria Math"/>
              </a:rPr>
              <a:t>May 2, 2018</a:t>
            </a: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mbria Math"/>
              </a:rPr>
              <a:t>WMS Update</a:t>
            </a:r>
            <a:endParaRPr b="0" lang="en-US" sz="4000" spc="-1" strike="noStrike">
              <a:solidFill>
                <a:srgbClr val="000000"/>
              </a:solidFill>
              <a:latin typeface="Calibri"/>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BDDD4-2C33-4518-A141-69D5434F5AF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CWG Leadership</a:t>
            </a: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ir = Not avail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ce-chair = Kristy Ashley</a:t>
            </a:r>
            <a:endParaRPr b="0" lang="en-US" sz="3200" spc="-1" strike="noStrike">
              <a:solidFill>
                <a:srgbClr val="000000"/>
              </a:solidFill>
              <a:latin typeface="Calibri"/>
            </a:endParaRPr>
          </a:p>
        </p:txBody>
      </p:sp>
      <p:sp>
        <p:nvSpPr>
          <p:cNvPr id="1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50E21-9F49-4D8F-B1A2-95C2E6A99B1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533160" y="837720"/>
            <a:ext cx="8001000" cy="571500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PRR838 Updated O&amp;M Cost for RMR Resources</a:t>
            </a:r>
            <a:endParaRPr b="0" lang="en-US" sz="2400" spc="-1" strike="noStrike">
              <a:solidFill>
                <a:srgbClr val="000000"/>
              </a:solidFill>
              <a:latin typeface="Calibri"/>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going discussion on the proper value for the variable O&amp;M, which impacts calculations to: </a:t>
            </a:r>
            <a:endParaRPr b="0" lang="en-US" sz="2000" spc="-1" strike="noStrike">
              <a:solidFill>
                <a:srgbClr val="000000"/>
              </a:solidFill>
              <a:latin typeface="Calibri"/>
            </a:endParaRPr>
          </a:p>
          <a:p>
            <a:pPr lvl="2" marL="1108440" indent="-2214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e-Whole Payments</a:t>
            </a:r>
            <a:r>
              <a:rPr b="0" lang="en-US" sz="2000" spc="-1" strike="noStrike" baseline="30000">
                <a:solidFill>
                  <a:srgbClr val="000000"/>
                </a:solidFill>
                <a:latin typeface="Calibri"/>
              </a:rPr>
              <a:t>1</a:t>
            </a:r>
            <a:r>
              <a:rPr b="0" lang="en-US" sz="2000" spc="-1" strike="noStrike">
                <a:solidFill>
                  <a:srgbClr val="000000"/>
                </a:solidFill>
                <a:latin typeface="Calibri"/>
              </a:rPr>
              <a:t>,and </a:t>
            </a:r>
            <a:endParaRPr b="0" lang="en-US" sz="2000" spc="-1" strike="noStrike">
              <a:solidFill>
                <a:srgbClr val="000000"/>
              </a:solidFill>
              <a:latin typeface="Calibri"/>
            </a:endParaRPr>
          </a:p>
          <a:p>
            <a:pPr lvl="2" marL="1108440" indent="-2214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l-Time Mitigation </a:t>
            </a:r>
            <a:endParaRPr b="0" lang="en-US" sz="20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cus is on O&amp;M values for Real-Time Mitigation instead of Make-Whole Payments. </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MR  Units are not  typical commercial generators, therefore, the O&amp;M should not necessarily be treated as such.</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ng actual RMR O&amp;M costs into the Mitigated Offer Cap could result in very high Locational Marginal Prices (LMPs)</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Calibri"/>
              </a:rPr>
              <a:t>1</a:t>
            </a:r>
            <a:r>
              <a:rPr b="0" lang="en-US" sz="1600" spc="-1" strike="noStrike">
                <a:solidFill>
                  <a:srgbClr val="000000"/>
                </a:solidFill>
                <a:latin typeface="Calibri"/>
              </a:rPr>
              <a:t>Not paid to RMR Units but charged to capacity short QSEs</a:t>
            </a:r>
            <a:endParaRPr b="0" lang="en-US" sz="1600" spc="-1" strike="noStrike">
              <a:solidFill>
                <a:srgbClr val="000000"/>
              </a:solidFill>
              <a:latin typeface="Calibri"/>
            </a:endParaRPr>
          </a:p>
        </p:txBody>
      </p:sp>
      <p:sp>
        <p:nvSpPr>
          <p:cNvPr id="1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72D56-0375-43E7-9B92-46D8793E6DC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31" name="Title 1"/>
          <p:cNvSpPr/>
          <p:nvPr/>
        </p:nvSpPr>
        <p:spPr>
          <a:xfrm>
            <a:off x="84240" y="9360"/>
            <a:ext cx="8907480" cy="8287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RMR Discussion Item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533160" y="837720"/>
            <a:ext cx="8001000" cy="5715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MM expressed support for a single reference price ($50/MWh - $500/MWh), explaining that the O&amp;M costs </a:t>
            </a:r>
            <a:r>
              <a:rPr b="0" i="1" lang="en-US" sz="2400" spc="-1" strike="noStrike">
                <a:solidFill>
                  <a:srgbClr val="000000"/>
                </a:solidFill>
                <a:latin typeface="Calibri"/>
              </a:rPr>
              <a:t>should be higher </a:t>
            </a:r>
            <a:r>
              <a:rPr b="0" lang="en-US" sz="2400" spc="-1" strike="noStrike">
                <a:solidFill>
                  <a:srgbClr val="000000"/>
                </a:solidFill>
                <a:latin typeface="Calibri"/>
              </a:rPr>
              <a:t>than those of competitive units because they have reliability obligations and requirements that competitive generators do no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RCOT agrees that a single O&amp;M value meets their needs and is the least implementation cost optio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CWG members express general support for the single number concept but would like the Qualified Scheduling Entity Managers Working Group (QMWG) to discuss what the number should be.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AF3FC-F362-4B75-8A0F-33328A91D4C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34" name="Title 1"/>
          <p:cNvSpPr/>
          <p:nvPr/>
        </p:nvSpPr>
        <p:spPr>
          <a:xfrm>
            <a:off x="84240" y="9360"/>
            <a:ext cx="8907480" cy="8287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RMR Discussion Item-continu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228240"/>
            <a:ext cx="67816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ouston Ship Channel (HSC) Price Liquidity </a:t>
            </a:r>
            <a:endParaRPr b="0" lang="en-US" sz="2800" spc="-1" strike="noStrike">
              <a:solidFill>
                <a:srgbClr val="000000"/>
              </a:solidFill>
              <a:latin typeface="Calibri"/>
            </a:endParaRPr>
          </a:p>
        </p:txBody>
      </p:sp>
      <p:sp>
        <p:nvSpPr>
          <p:cNvPr id="136" name=""/>
          <p:cNvSpPr txBox="1"/>
          <p:nvPr/>
        </p:nvSpPr>
        <p:spPr>
          <a:xfrm>
            <a:off x="380880" y="99072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RCOT shared data with the RCWG illustrating that HSC liquidity has been declining and that on some days there are no trades at al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the days where there is no pricing information, ERCOT currently uses the previous day price.  This can be problematic when there are weather events that can cause large price divergence between day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ch a case occurred on a day during the cold weather event between Jan 15 and 18, 2018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aty prices were available for all days where HSC prices were no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MM expressed concern about using an illiquid price point for the use of HSC (FIP).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SC vs Katy</a:t>
            </a:r>
            <a:endParaRPr b="0" lang="en-US" sz="4400" spc="-1" strike="noStrike">
              <a:solidFill>
                <a:srgbClr val="000000"/>
              </a:solidFill>
              <a:latin typeface="Calibri"/>
            </a:endParaRPr>
          </a:p>
        </p:txBody>
      </p:sp>
      <p:pic>
        <p:nvPicPr>
          <p:cNvPr id="138" name="table" descr=""/>
          <p:cNvPicPr/>
          <p:nvPr/>
        </p:nvPicPr>
        <p:blipFill>
          <a:blip r:embed="rId1"/>
          <a:stretch/>
        </p:blipFill>
        <p:spPr>
          <a:xfrm>
            <a:off x="231840" y="3738600"/>
            <a:ext cx="3886200" cy="2020680"/>
          </a:xfrm>
          <a:prstGeom prst="rect">
            <a:avLst/>
          </a:prstGeom>
          <a:ln w="0">
            <a:noFill/>
          </a:ln>
        </p:spPr>
      </p:pic>
      <p:sp>
        <p:nvSpPr>
          <p:cNvPr id="139" name=""/>
          <p:cNvSpPr txBox="1"/>
          <p:nvPr/>
        </p:nvSpPr>
        <p:spPr>
          <a:xfrm>
            <a:off x="4648320" y="1600200"/>
            <a:ext cx="4038480" cy="4525920"/>
          </a:xfrm>
          <a:prstGeom prst="rect">
            <a:avLst/>
          </a:prstGeom>
          <a:no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an effort to bring the issue to a larger group of stakeholders, the RCWG would like the WMS to refer the issue to the QMWG for further discussion and review.</a:t>
            </a:r>
            <a:endParaRPr b="0" lang="en-US" sz="2700" spc="-1" strike="noStrike">
              <a:solidFill>
                <a:srgbClr val="000000"/>
              </a:solidFill>
              <a:latin typeface="Calibri"/>
            </a:endParaRPr>
          </a:p>
        </p:txBody>
      </p:sp>
      <p:pic>
        <p:nvPicPr>
          <p:cNvPr id="140" name="table" descr=""/>
          <p:cNvPicPr/>
          <p:nvPr/>
        </p:nvPicPr>
        <p:blipFill>
          <a:blip r:embed="rId2"/>
          <a:stretch/>
        </p:blipFill>
        <p:spPr>
          <a:xfrm>
            <a:off x="231840" y="1952640"/>
            <a:ext cx="3886200" cy="1847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17520" y="151920"/>
            <a:ext cx="788688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aty has a larger volume of trades than HSC</a:t>
            </a:r>
            <a:endParaRPr b="0" lang="en-US" sz="2800" spc="-1" strike="noStrike">
              <a:solidFill>
                <a:srgbClr val="000000"/>
              </a:solidFill>
              <a:latin typeface="Calibri"/>
            </a:endParaRPr>
          </a:p>
        </p:txBody>
      </p:sp>
      <p:graphicFrame>
        <p:nvGraphicFramePr>
          <p:cNvPr id="142" name=""/>
          <p:cNvGraphicFramePr/>
          <p:nvPr/>
        </p:nvGraphicFramePr>
        <p:xfrm>
          <a:off x="1371600" y="1447920"/>
          <a:ext cx="6197760" cy="2792160"/>
        </p:xfrm>
        <a:graphic>
          <a:graphicData uri="http://schemas.openxmlformats.org/drawingml/2006/table">
            <a:tbl>
              <a:tblPr/>
              <a:tblGrid>
                <a:gridCol w="2065320"/>
                <a:gridCol w="2067120"/>
                <a:gridCol w="2065320"/>
              </a:tblGrid>
              <a:tr h="1028520">
                <a:tc>
                  <a:txBody>
                    <a:bodyPr lIns="68400" rIns="684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alibri"/>
                        </a:rPr>
                        <a:t>Average Daily Volume (MMBtu)</a:t>
                      </a:r>
                      <a:endParaRPr b="0" lang="en-US" sz="21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alibri"/>
                        </a:rPr>
                        <a:t>Houston Ship Channel</a:t>
                      </a:r>
                      <a:endParaRPr b="0" lang="en-US" sz="21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alibri"/>
                        </a:rPr>
                        <a:t>Katy Texas</a:t>
                      </a:r>
                      <a:endParaRPr b="0" lang="en-US" sz="21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1360">
                <a:tc>
                  <a:txBody>
                    <a:bodyPr lIns="68400" rIns="684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2014</a:t>
                      </a:r>
                      <a:endParaRPr b="0" lang="en-US" sz="21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71,753</a:t>
                      </a:r>
                      <a:endParaRPr b="0" lang="en-US" sz="21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295,628</a:t>
                      </a:r>
                      <a:endParaRPr b="0" lang="en-US" sz="21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41360">
                <a:tc>
                  <a:txBody>
                    <a:bodyPr lIns="68400" rIns="684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2015</a:t>
                      </a:r>
                      <a:endParaRPr b="0" lang="en-US" sz="21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48,406</a:t>
                      </a:r>
                      <a:endParaRPr b="0" lang="en-US" sz="21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329,658</a:t>
                      </a:r>
                      <a:endParaRPr b="0" lang="en-US" sz="21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9560">
                <a:tc>
                  <a:txBody>
                    <a:bodyPr lIns="68400" rIns="684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2016</a:t>
                      </a:r>
                      <a:endParaRPr b="0" lang="en-US" sz="21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69,017</a:t>
                      </a:r>
                      <a:endParaRPr b="0" lang="en-US" sz="21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487,626</a:t>
                      </a:r>
                      <a:endParaRPr b="0" lang="en-US" sz="21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41360">
                <a:tc>
                  <a:txBody>
                    <a:bodyPr lIns="68400" rIns="684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2017</a:t>
                      </a:r>
                      <a:endParaRPr b="0" lang="en-US" sz="21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42,238</a:t>
                      </a:r>
                      <a:endParaRPr b="0" lang="en-US" sz="21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356,487</a:t>
                      </a:r>
                      <a:endParaRPr b="0" lang="en-US" sz="21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43" name="TextBox 5"/>
          <p:cNvSpPr/>
          <p:nvPr/>
        </p:nvSpPr>
        <p:spPr>
          <a:xfrm>
            <a:off x="1455840" y="4524480"/>
            <a:ext cx="110268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ource: Argus</a:t>
            </a:r>
            <a:endParaRPr b="0" lang="en-US" sz="1300" spc="-1" strike="noStrike">
              <a:solidFill>
                <a:srgbClr val="000000"/>
              </a:solidFill>
              <a:latin typeface="Calibri"/>
            </a:endParaRPr>
          </a:p>
        </p:txBody>
      </p:sp>
      <p:sp>
        <p:nvSpPr>
          <p:cNvPr id="144" name="Slide Number Placeholder 2"/>
          <p:cNvSpPr/>
          <p:nvPr/>
        </p:nvSpPr>
        <p:spPr>
          <a:xfrm>
            <a:off x="8610480" y="6561000"/>
            <a:ext cx="457200" cy="212760"/>
          </a:xfrm>
          <a:prstGeom prst="rect">
            <a:avLst/>
          </a:prstGeom>
          <a:noFill/>
          <a:ln w="0">
            <a:noFill/>
          </a:ln>
        </p:spPr>
        <p:style>
          <a:lnRef idx="0"/>
          <a:fillRef idx="0"/>
          <a:effectRef idx="0"/>
          <a:fontRef idx="minor"/>
        </p:style>
        <p:txBody>
          <a:bodyPr lIns="90000" rIns="90000" tIns="46800" bIns="46800" anchor="ctr">
            <a:normAutofit fontScale="6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F3214-DF17-4162-A645-425BD6FCD8D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685800" y="1218960"/>
            <a:ext cx="7886880" cy="3606840"/>
          </a:xfrm>
          <a:prstGeom prst="rect">
            <a:avLst/>
          </a:prstGeom>
          <a:noFill/>
          <a:ln w="0">
            <a:noFill/>
          </a:ln>
        </p:spPr>
        <p:txBody>
          <a:bodyPr anchor="t">
            <a:normAutofit fontScale="96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ith the indexes already being provided to ERCOT by Argus, there may be some cost effective ways to address missing HSC data.</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ption 1 – No change (Keep doing what we are doing)</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ption 2 – Fill in the missing days with prices from Katy</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ption 3 – Replace HSC with Katy </a:t>
            </a:r>
            <a:endParaRPr b="0" lang="en-US" sz="2200" spc="-1" strike="noStrike">
              <a:solidFill>
                <a:srgbClr val="000000"/>
              </a:solidFill>
              <a:latin typeface="Calibri"/>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ption 4 – Fill in the missing days with prices from Katy for X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years and than replace with Katy</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6" name="PlaceHolder 1"/>
          <p:cNvSpPr>
            <a:spLocks noGrp="1"/>
          </p:cNvSpPr>
          <p:nvPr>
            <p:ph type="title"/>
          </p:nvPr>
        </p:nvSpPr>
        <p:spPr>
          <a:xfrm>
            <a:off x="380880" y="304920"/>
            <a:ext cx="7886880" cy="48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sible Solutions</a:t>
            </a:r>
            <a:endParaRPr b="0" lang="en-US" sz="4000" spc="-1" strike="noStrike">
              <a:solidFill>
                <a:srgbClr val="000000"/>
              </a:solidFill>
              <a:latin typeface="Calibri"/>
            </a:endParaRPr>
          </a:p>
        </p:txBody>
      </p:sp>
      <p:sp>
        <p:nvSpPr>
          <p:cNvPr id="147" name="Slide Number Placeholder 1"/>
          <p:cNvSpPr/>
          <p:nvPr/>
        </p:nvSpPr>
        <p:spPr>
          <a:xfrm>
            <a:off x="8610480" y="6561000"/>
            <a:ext cx="457200" cy="2127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C700A-0A9C-469D-9BA4-6D2A3B31BBB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4T02:55:06Z</dcterms:created>
  <dc:creator>john</dc:creator>
  <dc:description/>
  <dc:language>en-US</dc:language>
  <cp:lastModifiedBy>Gonzalez, Ino</cp:lastModifiedBy>
  <cp:lastPrinted>2017-12-01T14:04:24Z</cp:lastPrinted>
  <dcterms:modified xsi:type="dcterms:W3CDTF">2018-05-01T15:47:52Z</dcterms:modified>
  <cp:revision>460</cp:revision>
  <dc:subject/>
  <dc:title>PowerPoint Presentation</dc:title>
</cp:coreProperties>
</file>