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1308-391B-4C1E-B7E9-0196E03800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ormer data up from 95.8%</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A133-89DC-41E8-9DD0-5085F006D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2715-4913-4758-BF7D-4C4D4DC18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4785-0E9C-4012-9B8C-B15BE0922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E40F7-7797-4983-9FF7-5B8A95112B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21BE9-C751-4D7E-A498-1FFF7D4FFB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A0F26C-F671-4909-A8B6-87B5DD1E9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C941A-8B63-46CE-AA5E-99022C8A7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63C30-2493-4AEF-AA78-03A52F636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39491-C0A7-4897-88B2-5C26BA407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E7EE9-628A-4453-8034-CF43D0E795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634501-EDDA-4E6F-B211-728315B6AB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6E8C94-BEFC-4360-AF59-8A750B821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48A509-3405-4A97-8794-EAA2448D5D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6A56A-CBDF-4E66-B4BF-E251FB9DC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09E9D8-3BDA-44F6-B322-38F7DC704E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02A958-EE02-4D15-8468-89906F1C91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624E63-25C5-4697-8174-0FEFA7E762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5BB592-1227-4840-93DE-DCE7318367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A9AA8A-B909-4F77-A635-5086E2AEF5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221BE1-EB3B-48AE-89BA-6EE5854908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92221B-5AE7-4C0C-BD8C-AEF9F7BA75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430774-5145-45D0-90F2-90109160E7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158948-8FFA-4062-A8DF-1F8C7303BB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04AB02-E611-4313-B079-C03896AC7F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BD5CB-9731-4C5C-ACA6-8E2915397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CF8DF2-2D53-4ADA-800B-0553BE83B2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510556-F913-4364-AAFD-C5DBE2587F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0A071A-9BC7-452D-BF18-519FDFC107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AF541F-7241-48F1-9DAB-5051F11527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2DEB3C-C46C-4329-A307-C8AC34B96B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5BA256-E5EB-417D-8F2E-E8DA61A847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403928-EE48-449B-AB48-82BAB54288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0D9F14-08D2-4E28-8FA7-FC0B651C2B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F5EC75-6FC2-4627-B4DD-4A4991B0EA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5725F-CE54-459F-A976-FBD3B1F104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5B881-4D1C-4F77-8115-D1A405E8C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1123FF-896B-49BE-9918-FCE2FB722C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90BEE4-8F4A-4D94-932D-19974BFE8C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EAE2AF-A11B-4D5D-81D1-5DD67F3EB7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A10762-3E00-4CB0-8D86-E078415387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407E15-8628-4A57-AA7B-695B0F7DD3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8007F6-A09D-44A7-838E-F2AE879DA6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6E394D-BC38-4070-857E-3DBCDB15E3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6A3A59-77AF-4FEE-9D18-E527A11A7F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AD73FA-0CAC-4453-8849-B5FFD2FDE4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B7C511-932A-4C00-84FF-1523718FE8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100D9-B624-4EA3-9515-D5A098C09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F0362F-92B2-4908-BDA1-C6C556268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B3608-C56C-4F63-BEAA-C94A95CB5E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EF4C96-1193-40FF-AD3E-609851C624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B030A5-6DF8-4148-BD8D-E901828681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DEE467-B745-4199-8ACF-B9493D49B5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2064C-7E69-4E45-AF83-7640FE1D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544ED-3ED5-4707-943B-F04E274FF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95134-9631-4300-A9C9-C36252C41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716E6-AD22-4EC2-9673-B56297B6E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9FDB6-C586-4944-A507-76C486DC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2DA3-0201-4AB8-BF90-73D919A6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F6E26-089E-4049-9288-6CFFE7026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098EB-EA41-4859-AE86-3E50BF040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BCE71-184A-45B0-936B-0BCB021AC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E2F9D-65B8-402F-AF9F-B2013FCF8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3C808-897B-4BED-82CD-8E1E04136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AB328-AE97-49EA-8EBF-05C941F245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62BFD-BA85-4BE0-B7A0-CFBB9F591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3C8D8-A5FE-4EB8-B3F3-8F2B3696B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688DA-B272-49C1-9607-B9BBBA06A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34B35-A3D9-473E-A74E-B6BB927D3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CFEC-4C30-493B-B833-17140391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C48A8-04AF-4E68-A1CC-115671226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AE843-2B81-412F-AA8B-511612415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C41C5-7951-40C2-9943-C83A617F1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1292F-C3F7-4920-A714-D6A232F34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C22F0-A8D4-4FF8-9DB4-2B3375403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9A477F-988F-4A2D-962F-BD37937D82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080E9-BB02-4D36-B920-BF3FDB160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44685-E54B-4687-A8FC-D1CC2712B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C9C76-F92D-4BCB-BBD6-1C961AD69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FD0B2-B1B8-448A-B232-56AE32382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3D47-11F9-475E-8604-48FC89E3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E0A59-0FF3-419B-8AF8-44B1AB355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14F73-AA45-4D90-A1A1-073D07ED4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32352-3C0F-461D-BAED-D83A65861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C8B35-5517-43E8-95EC-5B6DCBCD6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83911-A87B-4DD9-89DA-FAD3DA421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076C6-2D84-4D69-A6F3-44C4B6344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B2C08-4469-41DB-85B0-7A2DCB7CA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95A900-BA5E-416A-91B9-85178FFBE9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494467-9BE9-42CC-B06A-E9B863FC2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A4FE2E-EB87-411E-859E-1A46A5108B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26F2-E2B6-4AAF-A70A-A8A3F7A2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2DAED-642E-4E8C-B9DB-5C7C320EA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E7FF1-0ECD-4530-8B07-91996CBBE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2558B-8792-4438-8221-A7F17F9568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5CD25-64D0-40F6-9141-8CC85940C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1060C-2183-4008-88FA-93BF5F092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A5C3C-CBC7-429B-8507-5AF76A4B9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43FD9-2530-4743-843E-5AB39D02F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5F79E-D602-4AFA-8999-F854E6B6C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7F001-4CB2-4E37-ACFF-C39CDCC44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73888C-EE08-423E-97F5-05D5A4ACE5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6C00-AB39-4602-8FFC-73F809D7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81F1F-3DDA-449B-8CE2-9E8AB1C567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6AADA4-B6C2-40F2-BD63-F8D30F19BA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A9105B-F2CD-4423-927F-553C4E99F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D7F8D-0B11-4984-B6C3-642414098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BBD29-0A36-442B-A7B7-82FF9C1AC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0F994C-C96E-43BD-86CC-B4BC3F994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CDA5C-CCC5-48DB-B80B-D6CF82122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2B999-9875-4130-BF36-5A9B7C314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96363-1AC0-4553-9109-236A47A05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A3ECB-0278-4B0E-9166-9F604D634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C995-6005-4FB6-9D95-58FA66FA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7C300-E21F-4250-BC10-A8A2B3FA2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FC1B85-204F-4906-A480-FF64B1FB0A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56B8F4-057D-4D38-AB21-B127E2FA1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40201E-692A-4941-BFC4-11FDB5AA47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BA856-46D3-4187-9A56-8EE990049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A04824-4553-47D0-9AE7-A9D867C4E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CAA69A-BEB0-44BD-973C-3FE6D24A9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3745C-4BCC-44AC-8623-25986DCB3D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AF358-05F1-459E-AFC0-8996EDBDF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3C52D-976C-45EE-9454-57BF1881E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DDF2-4C3D-4F74-B11D-9136AF21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47833-9091-441A-8C71-E1F83C30C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7CE37-46AC-4DB5-8063-46B16A336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78CD0-2C94-4250-99FE-ADC9FD0D8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326BF8-C58A-436D-9C50-2C656E6D17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B2E60E-F1B8-4A50-A23C-A8B6F8188C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A28FB8-5336-483B-AF42-363317D820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3FE461-FF44-446F-B635-22B121AD93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8DD6E-93FE-4937-B00B-D87BE39186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E64A33-CF73-40F9-B134-DF97C222E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D9145-DCB7-455B-994A-5D59300A44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8348-B1EF-4D42-9E52-111AC3F1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CFEF5-B780-46F9-A83C-9ADD68C6D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94592-6325-4556-AD19-C784D0958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DB74C-1289-466B-AEB4-316582777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3AF16-30B6-4030-8094-DA04BCF64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05DD4-252A-455E-BA45-B5758E284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282384-9EDC-4672-A15B-ADD412A917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7B16E-1A71-48AC-87AF-C581B1CBE4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DD4561-E2A4-4556-B373-58117EAF9B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D5F6C-519E-46A7-A276-81611DC83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06E699-6753-440D-88CC-4AAA565D35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19C3-8634-40EB-9C63-B8D1A3FE034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7C98138F-28A1-491C-A1C9-6308F63C51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48E0-66A1-4F5E-93D1-F9E2E8AFAB1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3BD1-EB61-470C-AE12-D70E88C35C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FA6B-B543-46E9-B0B1-55FB8703086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9686-A45C-42BB-97D4-2FE4898F96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69E2-19E1-4CFD-9710-3B7FE4DF106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A89D-0490-4581-8633-7FC0EEF722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941D-6349-4A41-873B-8AACD3C4D91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BFAC-9197-4AD0-AEDE-7C8CEBA60A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8A7B-41ED-498D-96C6-20127188C96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E9F3-D252-4585-8345-02C4A7611F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6F19-44E2-4BD4-93CE-04B3EA92C7B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1D84-4330-42BD-B911-C198B67D94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7428-10B0-4C79-B3DF-5D8E2655870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0FA1-E872-4D44-AFDF-BE52589362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9CBD-B0AC-40C2-B7D3-D840221751C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06EF-02AD-437A-87D9-16C4EE0710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FFA7-50D7-41EF-8D77-0D302C26B73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9CD8-79D8-474E-9B99-89432D8342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43C7-6E6E-40A0-960D-60FDCB2EAA2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68C6-4BD5-450C-8DA5-E6CCE0A9C4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1FF2-EBF9-47F0-AF7A-E71C364FAE5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5261-BC39-4C27-9672-5C5F43DF69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97632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ea typeface="Arial"/>
              </a:rPr>
              <a:t>Planning Geomagnetic Disturbance Task Force (PGDTF)</a:t>
            </a:r>
            <a:br>
              <a:rPr sz="4400"/>
            </a:br>
            <a:r>
              <a:rPr b="0" lang="en-US" sz="4400" spc="-1" strike="noStrike">
                <a:solidFill>
                  <a:srgbClr val="000000"/>
                </a:solidFill>
                <a:latin typeface="Calibri"/>
                <a:ea typeface="Arial"/>
              </a:rPr>
              <a:t> Update to the ROS</a:t>
            </a:r>
            <a:br>
              <a:rPr sz="4400"/>
            </a:b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200040"/>
            <a:ext cx="640080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y 3, 2018</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ylan Prea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GDTF Chair</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BE1B-82FD-4904-8B13-66D94AACF9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33440" y="488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C System Model Working Session</a:t>
            </a:r>
            <a:br>
              <a:rPr sz="4400"/>
            </a:br>
            <a:r>
              <a:rPr b="0" lang="en-US" sz="3200" spc="-1" strike="noStrike">
                <a:solidFill>
                  <a:srgbClr val="000000"/>
                </a:solidFill>
                <a:latin typeface="Calibri"/>
              </a:rPr>
              <a:t>(Geo-magnetically Induced Currents)</a:t>
            </a:r>
            <a:endParaRPr b="0" lang="en-US" sz="3200" spc="-1" strike="noStrike">
              <a:solidFill>
                <a:srgbClr val="000000"/>
              </a:solidFill>
              <a:latin typeface="Calibri"/>
            </a:endParaRPr>
          </a:p>
        </p:txBody>
      </p:sp>
      <p:sp>
        <p:nvSpPr>
          <p:cNvPr id="504" name=""/>
          <p:cNvSpPr txBox="1"/>
          <p:nvPr/>
        </p:nvSpPr>
        <p:spPr>
          <a:xfrm>
            <a:off x="228600" y="1828440"/>
            <a:ext cx="8686800" cy="5181480"/>
          </a:xfrm>
          <a:prstGeom prst="rect">
            <a:avLst/>
          </a:prstGeom>
          <a:noFill/>
          <a:ln w="0">
            <a:noFill/>
          </a:ln>
        </p:spPr>
        <p:txBody>
          <a:bodyPr anchor="t">
            <a:normAutofit/>
          </a:bodyPr>
          <a:p>
            <a:pPr marL="343080" indent="-343080">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SP-only working session on April 12</a:t>
            </a:r>
            <a:r>
              <a:rPr b="0" lang="en-US" sz="2900" spc="-1" strike="noStrike" baseline="30000">
                <a:solidFill>
                  <a:srgbClr val="000000"/>
                </a:solidFill>
                <a:latin typeface="Calibri"/>
              </a:rPr>
              <a:t>th</a:t>
            </a:r>
            <a:r>
              <a:rPr b="0" lang="en-US" sz="2900" spc="-1" strike="noStrike">
                <a:solidFill>
                  <a:srgbClr val="000000"/>
                </a:solidFill>
                <a:latin typeface="Calibri"/>
              </a:rPr>
              <a:t> (afternoon)  and April 13</a:t>
            </a:r>
            <a:r>
              <a:rPr b="0" lang="en-US" sz="2900" spc="-1" strike="noStrike" baseline="30000">
                <a:solidFill>
                  <a:srgbClr val="000000"/>
                </a:solidFill>
                <a:latin typeface="Calibri"/>
              </a:rPr>
              <a:t>th</a:t>
            </a:r>
            <a:endParaRPr b="0" lang="en-US" sz="2900" spc="-1" strike="noStrike">
              <a:solidFill>
                <a:srgbClr val="000000"/>
              </a:solidFill>
              <a:latin typeface="Calibri"/>
            </a:endParaRPr>
          </a:p>
          <a:p>
            <a:pPr marL="343080" indent="-343080">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Reviewed GIC flow results for TSPs/REs submitted data</a:t>
            </a:r>
            <a:endParaRPr b="0" lang="en-US" sz="2900" spc="-1" strike="noStrike">
              <a:solidFill>
                <a:srgbClr val="000000"/>
              </a:solidFill>
              <a:latin typeface="Calibri"/>
            </a:endParaRPr>
          </a:p>
          <a:p>
            <a:pPr marL="343080" indent="-343080">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ade corrections/updates to the GIC System Model</a:t>
            </a:r>
            <a:endParaRPr b="0" lang="en-US" sz="2900" spc="-1" strike="noStrike">
              <a:solidFill>
                <a:srgbClr val="000000"/>
              </a:solidFill>
              <a:latin typeface="Calibri"/>
            </a:endParaRPr>
          </a:p>
          <a:p>
            <a:pPr marL="343080" indent="-343080">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nded with a “combined master GIC System Model”</a:t>
            </a:r>
            <a:endParaRPr b="0" lang="en-US" sz="2900" spc="-1" strike="noStrike">
              <a:solidFill>
                <a:srgbClr val="000000"/>
              </a:solidFill>
              <a:latin typeface="Calibri"/>
            </a:endParaRPr>
          </a:p>
          <a:p>
            <a:pPr marL="343080" indent="-343080">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SP submitted final pass model updated on April 20</a:t>
            </a:r>
            <a:r>
              <a:rPr b="0" lang="en-US" sz="2900" spc="-1" strike="noStrike" baseline="30000">
                <a:solidFill>
                  <a:srgbClr val="000000"/>
                </a:solidFill>
                <a:latin typeface="Calibri"/>
              </a:rPr>
              <a:t>th</a:t>
            </a:r>
            <a:endParaRPr b="0" lang="en-US" sz="2900" spc="-1" strike="noStrike">
              <a:solidFill>
                <a:srgbClr val="000000"/>
              </a:solidFill>
              <a:latin typeface="Calibri"/>
            </a:endParaRPr>
          </a:p>
          <a:p>
            <a:pPr marL="343080" indent="-343080">
              <a:spcBef>
                <a:spcPts val="726"/>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74F0-3D6B-4929-B9F5-BB20A0F55C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RF Submission Update</a:t>
            </a:r>
            <a:endParaRPr b="0" lang="en-US" sz="4400" spc="-1" strike="noStrike">
              <a:solidFill>
                <a:srgbClr val="000000"/>
              </a:solidFill>
              <a:latin typeface="Calibri"/>
            </a:endParaRPr>
          </a:p>
        </p:txBody>
      </p:sp>
      <p:sp>
        <p:nvSpPr>
          <p:cNvPr id="508" name=""/>
          <p:cNvSpPr txBox="1"/>
          <p:nvPr/>
        </p:nvSpPr>
        <p:spPr>
          <a:xfrm>
            <a:off x="228600" y="1829880"/>
            <a:ext cx="86868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 submit GIC System Model data via the RAR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former data provided via the RARF is 96.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COT has added GIC data from “pending RARF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group identifiers continue to be a problem</a:t>
            </a:r>
            <a:endParaRPr b="0" lang="en-US" sz="32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 </a:t>
            </a:r>
            <a:endParaRPr b="0" lang="en-US" sz="1200" spc="-1" strike="noStrike">
              <a:solidFill>
                <a:srgbClr val="000000"/>
              </a:solidFill>
              <a:latin typeface="Arial"/>
            </a:endParaRPr>
          </a:p>
        </p:txBody>
      </p:sp>
      <p:sp>
        <p:nvSpPr>
          <p:cNvPr id="5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2D69-CDFA-4D42-AE53-04C996E2AA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RC TPL-007-1 R2</a:t>
            </a:r>
            <a:endParaRPr b="0" lang="en-US" sz="4400" spc="-1" strike="noStrike">
              <a:solidFill>
                <a:srgbClr val="000000"/>
              </a:solidFill>
              <a:latin typeface="Calibri"/>
            </a:endParaRPr>
          </a:p>
        </p:txBody>
      </p:sp>
      <p:sp>
        <p:nvSpPr>
          <p:cNvPr id="512" name=""/>
          <p:cNvSpPr txBox="1"/>
          <p:nvPr/>
        </p:nvSpPr>
        <p:spPr>
          <a:xfrm>
            <a:off x="457200" y="2013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ch responsible entity, as determined in Requirement R1, shall maintain System models and GIC System models of the responsible entity’s planning area for performing the study or studies needed to complete GMD Vulnerability Assess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RC enforceable on July 1, 20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is developing an internal process for maintenance of the GIC System Models for the ERCOT reg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SPs will submit GIC System Model data via data requests</a:t>
            </a:r>
            <a:endParaRPr b="0" lang="en-US" sz="2400" spc="-1" strike="noStrike">
              <a:solidFill>
                <a:srgbClr val="000000"/>
              </a:solidFill>
              <a:latin typeface="Calibri"/>
            </a:endParaRPr>
          </a:p>
        </p:txBody>
      </p:sp>
      <p:sp>
        <p:nvSpPr>
          <p:cNvPr id="5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 </a:t>
            </a:r>
            <a:endParaRPr b="0" lang="en-US" sz="1200" spc="-1" strike="noStrike">
              <a:solidFill>
                <a:srgbClr val="000000"/>
              </a:solidFill>
              <a:latin typeface="Arial"/>
            </a:endParaRPr>
          </a:p>
        </p:txBody>
      </p:sp>
      <p:sp>
        <p:nvSpPr>
          <p:cNvPr id="5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05BD-DFD9-4BF0-96E1-6448380516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Guide Section 6: Data/Modeling</a:t>
            </a:r>
            <a:br>
              <a:rPr sz="3200"/>
            </a:br>
            <a:r>
              <a:rPr b="0" lang="en-US" sz="2000" spc="-1" strike="noStrike">
                <a:solidFill>
                  <a:srgbClr val="000000"/>
                </a:solidFill>
                <a:latin typeface="Calibri"/>
              </a:rPr>
              <a:t>(included as part of R2 discussion – if needed)</a:t>
            </a:r>
            <a:endParaRPr b="0" lang="en-US" sz="2000" spc="-1" strike="noStrike">
              <a:solidFill>
                <a:srgbClr val="000000"/>
              </a:solidFill>
              <a:latin typeface="Calibri"/>
            </a:endParaRPr>
          </a:p>
        </p:txBody>
      </p:sp>
      <p:sp>
        <p:nvSpPr>
          <p:cNvPr id="516" name=""/>
          <p:cNvSpPr txBox="1"/>
          <p:nvPr/>
        </p:nvSpPr>
        <p:spPr>
          <a:xfrm>
            <a:off x="380880" y="1082160"/>
            <a:ext cx="8229600" cy="5257800"/>
          </a:xfrm>
          <a:prstGeom prst="rect">
            <a:avLst/>
          </a:prstGeom>
          <a:noFill/>
          <a:ln w="0">
            <a:noFill/>
          </a:ln>
        </p:spPr>
        <p:txBody>
          <a:bodyPr anchor="t">
            <a:normAutofit/>
          </a:bodyPr>
          <a:p>
            <a:pPr>
              <a:lnSpc>
                <a:spcPct val="100000"/>
              </a:lnSpc>
              <a:spcBef>
                <a:spcPts val="1199"/>
              </a:spcBef>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1</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rocess for Developing Geomagnetically-Induced Current (GIC) System Models</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To adequately simulate Geomagnetic Disturbance (GMD) events, it is necessary to establish and maintain GIC system models and conduct geomagnetic disturbance vulnerability assessments to determine whether the ERCOT System can withstand performance requirements of the benchmark geomagnetic disturbance event described in North American Electric Reliability Corporation (NERC) Reliability Standards.  These models, known as GIC base cases, shall contain appropriate system data, and shall represent projected system conditions that provide a starting point for the required year(s).  </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Transmission Service Providers (TSPs) and ERCOT shall develop the GIC base cases.  These base cases are derived from the steady-state base cases developed by Steady-State Working Group (SSWG) for the near-term transmission planning horizon to ensure consistency between the system topology in the SSWG base cases and GIC system models. </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Each TSP, or its Designated Agent, shall provide its respective transmission network GIC model data in accordance with the GIC System Model Procedure Manual.</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  Each Resource Entity, or its Designated Agent, shall provide its respective Resource Entity-owned generating units, plants, transmission lines, shunt devices and Generation Step Ups (GSUs) connected to the ERCOT System in accordance with the GIC System Model Procedure Manual and the Resource Registration Glossary. </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  ERCOT shall aggregate the GIC system model data supplied by each TSP and Resource Entity and shall compile and maintain the GIC system models.  Upon completion of compiling the data for the GIC base cases, ERCOT shall post these cases on the ERCOT Market Information System (MIS) </a:t>
            </a:r>
            <a:r>
              <a:rPr b="0" lang="en-US" sz="1200" spc="-1" strike="noStrike">
                <a:solidFill>
                  <a:srgbClr val="000000"/>
                </a:solidFill>
                <a:latin typeface="Times New Roman"/>
                <a:ea typeface="Times New Roman"/>
              </a:rPr>
              <a:t>Certified Transmission Service Provider Information page</a:t>
            </a:r>
            <a:r>
              <a:rPr b="0" lang="en-US" sz="1200" spc="-1" strike="noStrike">
                <a:solidFill>
                  <a:srgbClr val="5b6770"/>
                </a:solidFill>
                <a:latin typeface="Times New Roman"/>
                <a:ea typeface="Times New Roman"/>
              </a:rPr>
              <a:t> </a:t>
            </a:r>
            <a:r>
              <a:rPr b="0" lang="en-US" sz="1200" spc="-1" strike="noStrike">
                <a:solidFill>
                  <a:srgbClr val="000000"/>
                </a:solidFill>
                <a:latin typeface="Times New Roman"/>
                <a:ea typeface="Times New Roman"/>
              </a:rPr>
              <a:t>for review and comments as described in the GIC System Model Procedure Manual.  </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  Guidelines and formats for the GIC system model data and model maintenance can be found in the GIC System Model Procedure Manual.</a:t>
            </a:r>
            <a:endParaRPr b="0" lang="en-US" sz="1200" spc="-1" strike="noStrike">
              <a:solidFill>
                <a:srgbClr val="000000"/>
              </a:solidFill>
              <a:latin typeface="Calibri"/>
            </a:endParaRPr>
          </a:p>
          <a:p>
            <a:pPr>
              <a:lnSpc>
                <a:spcPct val="100000"/>
              </a:lnSpc>
              <a:spcAft>
                <a:spcPts val="1199"/>
              </a:spcAft>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  GIC data is considered Protected Information pursuant to Protocol Section 1.3, Confidentiality.</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 </a:t>
            </a:r>
            <a:endParaRPr b="0" lang="en-US" sz="1200" spc="-1" strike="noStrike">
              <a:solidFill>
                <a:srgbClr val="000000"/>
              </a:solidFill>
              <a:latin typeface="Arial"/>
            </a:endParaRPr>
          </a:p>
        </p:txBody>
      </p:sp>
      <p:sp>
        <p:nvSpPr>
          <p:cNvPr id="5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5B51-FC2D-4EF9-8A56-5243CC6791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RC TPL-007-1 R3</a:t>
            </a:r>
            <a:endParaRPr b="0" lang="en-US" sz="4400" spc="-1" strike="noStrike">
              <a:solidFill>
                <a:srgbClr val="000000"/>
              </a:solidFill>
              <a:latin typeface="Calibri"/>
            </a:endParaRPr>
          </a:p>
        </p:txBody>
      </p:sp>
      <p:pic>
        <p:nvPicPr>
          <p:cNvPr id="520" name="Content Placeholder 2" descr=""/>
          <p:cNvPicPr/>
          <p:nvPr/>
        </p:nvPicPr>
        <p:blipFill>
          <a:blip r:embed="rId1"/>
          <a:stretch/>
        </p:blipFill>
        <p:spPr>
          <a:xfrm>
            <a:off x="165240" y="987480"/>
            <a:ext cx="8673840" cy="5205240"/>
          </a:xfrm>
          <a:prstGeom prst="rect">
            <a:avLst/>
          </a:prstGeom>
          <a:ln w="0">
            <a:noFill/>
          </a:ln>
        </p:spPr>
      </p:pic>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 </a:t>
            </a:r>
            <a:endParaRPr b="0" lang="en-US" sz="1200" spc="-1" strike="noStrike">
              <a:solidFill>
                <a:srgbClr val="000000"/>
              </a:solidFill>
              <a:latin typeface="Arial"/>
            </a:endParaRPr>
          </a:p>
        </p:txBody>
      </p:sp>
      <p:sp>
        <p:nvSpPr>
          <p:cNvPr id="5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FBB8-754E-4E81-A502-D7E3747F01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33280" y="3297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PGDTF Activities</a:t>
            </a:r>
            <a:endParaRPr b="0" lang="en-US" sz="4400" spc="-1" strike="noStrike">
              <a:solidFill>
                <a:srgbClr val="000000"/>
              </a:solidFill>
              <a:latin typeface="Calibri"/>
            </a:endParaRPr>
          </a:p>
        </p:txBody>
      </p:sp>
      <p:sp>
        <p:nvSpPr>
          <p:cNvPr id="524" name=""/>
          <p:cNvSpPr txBox="1"/>
          <p:nvPr/>
        </p:nvSpPr>
        <p:spPr>
          <a:xfrm>
            <a:off x="457200" y="1122120"/>
            <a:ext cx="7696080" cy="518148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GDTF Business Meetings on May 10</a:t>
            </a:r>
            <a:r>
              <a:rPr b="0" lang="en-US" sz="2800" spc="-1" strike="noStrike" baseline="30000">
                <a:solidFill>
                  <a:srgbClr val="000000"/>
                </a:solidFill>
                <a:latin typeface="Calibri"/>
              </a:rPr>
              <a:t>th</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meeting </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to the ERCOT process for maintaining the GIC System Model (R2)</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GMD Vulnerability Assessment Scope </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SP comments due on April 20</a:t>
            </a:r>
            <a:r>
              <a:rPr b="0" lang="en-US" sz="2800" spc="-1" strike="noStrike" baseline="30000">
                <a:solidFill>
                  <a:srgbClr val="000000"/>
                </a:solidFill>
                <a:latin typeface="Calibri"/>
              </a:rPr>
              <a:t>th</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MU GIC Monitoring Presentation</a:t>
            </a: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ower grid research to deploy real-time a real-time magnetometer and GIC monitor network in Texas</a:t>
            </a:r>
            <a:endParaRPr b="0" lang="en-US" sz="28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80E5-CEF5-4759-9919-9A238AE363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922480" y="685440"/>
            <a:ext cx="32990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Arial"/>
              </a:rPr>
              <a:t>Questions</a:t>
            </a:r>
            <a:endParaRPr b="0" lang="en-US" sz="6000" spc="-1" strike="noStrike">
              <a:solidFill>
                <a:srgbClr val="000000"/>
              </a:solidFill>
              <a:latin typeface="Calibri"/>
            </a:endParaRPr>
          </a:p>
        </p:txBody>
      </p:sp>
      <p:pic>
        <p:nvPicPr>
          <p:cNvPr id="528" name="Picture 2" descr="question-mark3a.jpg"/>
          <p:cNvPicPr/>
          <p:nvPr/>
        </p:nvPicPr>
        <p:blipFill>
          <a:blip r:embed="rId1"/>
          <a:stretch/>
        </p:blipFill>
        <p:spPr>
          <a:xfrm>
            <a:off x="3236760" y="2206800"/>
            <a:ext cx="2670480" cy="3315960"/>
          </a:xfrm>
          <a:prstGeom prst="rect">
            <a:avLst/>
          </a:prstGeom>
          <a:ln w="0">
            <a:noFill/>
          </a:ln>
        </p:spPr>
      </p:pic>
      <p:sp>
        <p:nvSpPr>
          <p:cNvPr id="5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AA7E-7231-43AB-82D5-CDE05857AE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3/2018 RO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dpreas</cp:lastModifiedBy>
  <dcterms:modified xsi:type="dcterms:W3CDTF">2018-04-27T15:17:46Z</dcterms:modified>
  <cp:revision>323</cp:revision>
  <dc:subject/>
  <dc:title>PGDTF Update to ROS</dc:title>
</cp:coreProperties>
</file>