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B3AD-ED0F-422C-B683-65CD01685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14A2-44B7-4A0F-9D6B-0AA41438F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5147-8DED-4DDE-B8FC-B7CF29146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F740A-6167-4749-A27B-4DDA7466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9F22-827F-48BA-AA78-E0AA739C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33A5-CACE-45F7-84EC-EC5AB886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C38E-ACA2-44B6-886F-ED6C0060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9769-EF0A-4907-9F31-2F59B2F2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7EF7-8782-42D6-9F60-DEA98914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29B2-C098-4E81-BC42-3289F73D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2C6C-8ECF-473F-AFE0-89BB414F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3C74-B0BF-4FDF-8552-87C58F05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3C94-2D94-497F-8023-4F92724B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2D38-92AB-4E5A-9002-D9B7A5D4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3861-9A83-47A1-85E0-038785AA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4C0C-6F1A-4D12-A2D4-84D735B0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49B1-A8E2-424A-B72B-190130AB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E7670-EEE1-44A3-839B-8ECEEABD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65DF-6D45-4822-9416-651610D9B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EB2F-50BE-40EA-A615-ED6C3E4A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637D1-3EAF-4F75-9A85-55DBEC5D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DE946-92FD-4307-973D-F9564A63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B15E5-A4E1-4FF9-872A-33DD3FA0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2EBD0-F198-44BA-BFCB-5FB6811B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D8219-F606-42D9-8E2E-DDE444BD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D238B-74F3-4916-B060-A812B204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739F1-3CEC-4A6A-973E-432550CE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1C74F-47F8-4DAF-AB07-28F9038C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2C7A8-F870-43CB-8C00-03CA545D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BBD97-255C-48D8-9F14-27F59630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0DAB7-B20A-4B28-91A2-DB3F41AE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D02B4-9EB7-45DC-AC9C-CDD5C7B2C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7E8C3-B6B9-4866-A307-23D80B42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99FEC-729F-4CEB-9390-C93601C3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31FC-72BC-49BD-A96E-85FF5680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A980-BBE5-4808-83F8-18E8C089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CB2E-9D0D-49C8-8599-5F29E94D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8DA67-2B0C-45B2-A5FC-9596E4DD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D5240-24A2-43FB-8D7B-014B5DDC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E19A-C18A-4597-A769-FE5367373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0662-0D18-40AC-BACA-438704A64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7A71-AB5A-4B44-A0AC-2D8D73CF7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51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A61E-70C5-4D71-B98E-EDA942E79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Copy of Ercot Logo"/>
          <p:cNvPicPr/>
          <p:nvPr/>
        </p:nvPicPr>
        <p:blipFill>
          <a:blip r:embed="rId2"/>
          <a:stretch/>
        </p:blipFill>
        <p:spPr>
          <a:xfrm>
            <a:off x="7315200" y="76320"/>
            <a:ext cx="1752480" cy="941400"/>
          </a:xfrm>
          <a:prstGeom prst="rect">
            <a:avLst/>
          </a:prstGeom>
          <a:ln w="0">
            <a:noFill/>
          </a:ln>
        </p:spPr>
      </p:pic>
      <p:sp>
        <p:nvSpPr>
          <p:cNvPr id="95" name="Line 8"/>
          <p:cNvSpPr/>
          <p:nvPr/>
        </p:nvSpPr>
        <p:spPr>
          <a:xfrm flipV="1">
            <a:off x="0" y="980640"/>
            <a:ext cx="9144000" cy="9720"/>
          </a:xfrm>
          <a:prstGeom prst="line">
            <a:avLst/>
          </a:prstGeom>
          <a:ln w="3168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"/>
          <p:cNvSpPr/>
          <p:nvPr/>
        </p:nvSpPr>
        <p:spPr>
          <a:xfrm>
            <a:off x="458640" y="6248520"/>
            <a:ext cx="822672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rcot.com/committees/board/tac/cops/pwg/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C5263-8847-4CB0-AF78-C92E2D2E2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76176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c8c93"/>
                </a:solidFill>
                <a:latin typeface="Arial"/>
                <a:ea typeface="Times New Roman"/>
              </a:rPr>
              <a:t>Profiling Working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Update to RMS/C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April 3</a:t>
            </a:r>
            <a:r>
              <a:rPr b="1" lang="en-US" sz="3200" spc="-1" strike="noStrike" baseline="30000">
                <a:solidFill>
                  <a:srgbClr val="3c8c93"/>
                </a:solidFill>
                <a:latin typeface="Arial"/>
                <a:ea typeface="Times New Roman"/>
              </a:rPr>
              <a:t>rd</a:t>
            </a: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 &amp; 11</a:t>
            </a:r>
            <a:r>
              <a:rPr b="1" lang="en-US" sz="3200" spc="-1" strike="noStrike" baseline="30000">
                <a:solidFill>
                  <a:srgbClr val="3c8c93"/>
                </a:solidFill>
                <a:latin typeface="Arial"/>
                <a:ea typeface="Times New Roman"/>
              </a:rPr>
              <a:t>th</a:t>
            </a:r>
            <a:r>
              <a:rPr b="1" lang="en-US" sz="3200" spc="-1" strike="noStrike">
                <a:solidFill>
                  <a:srgbClr val="3c8c93"/>
                </a:solidFill>
                <a:latin typeface="Arial"/>
                <a:ea typeface="Times New Roman"/>
              </a:rPr>
              <a:t>,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heri Wiegand (TXU) –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3c8c93"/>
                </a:solidFill>
                <a:latin typeface="Arial"/>
                <a:ea typeface="Times New Roman"/>
              </a:rPr>
              <a:t>Sam Pak (Oncor) – Vice-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33FF-0AD8-4117-958D-031A85E7C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1" descr=""/>
          <p:cNvPicPr/>
          <p:nvPr/>
        </p:nvPicPr>
        <p:blipFill>
          <a:blip r:embed="rId1"/>
          <a:stretch/>
        </p:blipFill>
        <p:spPr>
          <a:xfrm>
            <a:off x="2363760" y="1219320"/>
            <a:ext cx="441648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Visibility of Distributed Generation for BUSIDRR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6C33-AB9C-4413-A460-A5D18E17B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28600" y="4645080"/>
            <a:ext cx="8763120" cy="1739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AL is for ERCOT to gain visibility into the BUSIDRRQ profiled ESIs with unregistered DG including those that self serv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457200"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dentify the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457200"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port DG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457200">
              <a:buClr>
                <a:srgbClr val="ffffff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lude (negative) generation into sett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0" y="1295280"/>
            <a:ext cx="4572000" cy="3178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4648320" y="1295280"/>
            <a:ext cx="4343400" cy="31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Visibility of Distributed Generation for BUSIDRR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E502-E511-423B-8D03-021D2C5CE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6"/>
          <p:cNvSpPr/>
          <p:nvPr/>
        </p:nvSpPr>
        <p:spPr>
          <a:xfrm>
            <a:off x="419040" y="1143000"/>
            <a:ext cx="83822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597a0"/>
                </a:solidFill>
                <a:latin typeface="Arial"/>
              </a:rPr>
              <a:t>First Step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ng the population by leveraging existing reports submitted by TDSPs to ERCOT …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PG – Decision Tree, DG 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isting ES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to provide a list of respective BUSIDRRQ ESIs to each TDSP noting any associated Resource IDs (RI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DSPs will determine if an existing Interconnection Agreement (IA)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ose with IAs, TDSPs will note DG and provide any known capac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84120" y="2286000"/>
          <a:ext cx="8229600" cy="1704960"/>
        </p:xfrm>
        <a:graphic>
          <a:graphicData uri="http://schemas.openxmlformats.org/drawingml/2006/table">
            <a:tbl>
              <a:tblPr/>
              <a:tblGrid>
                <a:gridCol w="1608120"/>
                <a:gridCol w="687600"/>
                <a:gridCol w="912600"/>
                <a:gridCol w="1079640"/>
                <a:gridCol w="761760"/>
                <a:gridCol w="835200"/>
                <a:gridCol w="1104840"/>
                <a:gridCol w="1239840"/>
              </a:tblGrid>
              <a:tr h="24912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S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DSP-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7400"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 of Reques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11/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I I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A 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Inverter Capacity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cy Ra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PV capcacity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Wind Capacity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Other: Renewable Capacity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Other: Non-Renewable Capacity 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W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15732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4648213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/24/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7647-10F6-4269-8C07-933DD7D0609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4"/>
          <p:cNvSpPr/>
          <p:nvPr/>
        </p:nvSpPr>
        <p:spPr>
          <a:xfrm>
            <a:off x="380880" y="228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2018 Annual 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406440" y="1447920"/>
            <a:ext cx="823104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4457880" y="6561000"/>
            <a:ext cx="2286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54D7-E262-47C4-A650-59342660E95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380880" y="228600"/>
            <a:ext cx="6477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c8c93"/>
                </a:solidFill>
                <a:latin typeface="Arial"/>
              </a:rPr>
              <a:t>2018 Annual Validation – RES cha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190440" y="1447920"/>
            <a:ext cx="8534520" cy="41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6C641-1081-42A1-B47F-5A41640288D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380880" y="2286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2018 Annual Validation – BUS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089480" cy="48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ESIs currently default to BUSMED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597a0"/>
                </a:solidFill>
                <a:uFillTx/>
                <a:latin typeface="Arial"/>
              </a:rPr>
              <a:t>Is BUSLO more appropriate for the default prof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ENTIAL ESIs current default profiles based on weather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597a0"/>
                </a:solidFill>
                <a:uFillTx/>
                <a:latin typeface="Arial"/>
              </a:rPr>
              <a:t>Current distribution will be review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4597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2D1C-BFE8-4B2D-89E4-4816F5CB65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380880" y="228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c8c93"/>
                </a:solidFill>
                <a:latin typeface="Arial"/>
              </a:rPr>
              <a:t>Default Profiles – RES &amp;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019240" y="1500120"/>
          <a:ext cx="5105520" cy="1828800"/>
        </p:xfrm>
        <a:graphic>
          <a:graphicData uri="http://schemas.openxmlformats.org/drawingml/2006/table">
            <a:tbl>
              <a:tblPr/>
              <a:tblGrid>
                <a:gridCol w="2470320"/>
                <a:gridCol w="2635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ILES (inc D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4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M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,7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,5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4,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2019240" y="4495680"/>
            <a:ext cx="510552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Arial"/>
              </a:rPr>
              <a:t>Annual Validation Proposed Process Re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Content Placeholder 6" descr=""/>
          <p:cNvPicPr/>
          <p:nvPr/>
        </p:nvPicPr>
        <p:blipFill>
          <a:blip r:embed="rId1"/>
          <a:stretch/>
        </p:blipFill>
        <p:spPr>
          <a:xfrm>
            <a:off x="480960" y="3200400"/>
            <a:ext cx="8229600" cy="2060640"/>
          </a:xfrm>
          <a:prstGeom prst="rect">
            <a:avLst/>
          </a:prstGeom>
          <a:ln w="0">
            <a:noFill/>
          </a:ln>
        </p:spPr>
      </p:pic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D87A-3897-44E0-86A2-FF796CA08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457200" y="5257800"/>
            <a:ext cx="815328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et Participants, including ERCOT, are asked to review the proposal to determine if changes will impact any business processes such as forecasting, procurement, pricing/quoting, etc. before an LPGRR is draf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7"/>
          <p:cNvSpPr/>
          <p:nvPr/>
        </p:nvSpPr>
        <p:spPr>
          <a:xfrm>
            <a:off x="457200" y="1219320"/>
            <a:ext cx="822960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Joint TDSP proposal for streamlining AV process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iness ESIs reviewed annu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idential ESIs reviewed every 3 ye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ll TDSPs to process same yea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6"/>
          <p:cNvSpPr/>
          <p:nvPr/>
        </p:nvSpPr>
        <p:spPr>
          <a:xfrm>
            <a:off x="571680" y="1028880"/>
            <a:ext cx="8001000" cy="53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PWG meeting dat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, April 25th , 9:30 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COT Met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c8c93"/>
                </a:solidFill>
                <a:uFillTx/>
                <a:latin typeface="Arial"/>
              </a:rPr>
              <a:t>AGE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8c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2018 Annual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8c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Review of BUS default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8c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Update on BUSIDRRQ lists provided to TDSPs for DG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c8c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Annual Valida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buClr>
                <a:srgbClr val="3c8c9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Review of RES profile distributions per weather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buClr>
                <a:srgbClr val="3c8c9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Discuss feedback on AV propos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buClr>
                <a:srgbClr val="3c8c9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BUS review ann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86080" indent="-343080">
              <a:buClr>
                <a:srgbClr val="3c8c9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c8c93"/>
                </a:solidFill>
                <a:latin typeface="Arial"/>
              </a:rPr>
              <a:t>RES review every three years (next AV 20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C124-16ED-4FA0-8492-9422D41FF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61"/>
          <p:cNvSpPr/>
          <p:nvPr/>
        </p:nvSpPr>
        <p:spPr>
          <a:xfrm>
            <a:off x="519120" y="139716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rcot.com/committees/board/tac/cops/pwg/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asaran, Harika</dc:creator>
  <dc:description/>
  <dc:language>en-US</dc:language>
  <cp:lastModifiedBy>Wiegand, Sheri</cp:lastModifiedBy>
  <dcterms:modified xsi:type="dcterms:W3CDTF">2018-03-27T23:08:07Z</dcterms:modified>
  <cp:revision>1276</cp:revision>
  <dc:subject/>
  <dc:title>Instructions</dc:title>
</cp:coreProperties>
</file>