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54F-5EE7-4CB6-A416-A1814AD5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64B-0814-49BE-BAD8-5B44D7DA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3BA4A-BBA9-4896-AE36-DC7EAA37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A329B-C52B-4AF0-9CC2-5600C519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DDC1A-9B9B-458D-AE0B-F39BC53D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242B7-6172-4050-83D7-4BFD89A3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C84D0-7EEE-4DC3-889B-B825A38F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4061E-1FE6-4478-A538-92DC0046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DC03D-188D-4655-8C61-0AD7A359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CD93D-CBC7-42FF-A7F0-B51D7FF2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4A024-A2EC-4E87-8D46-8D905141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0381F-7DA1-4F0B-BA6F-F3BB2FC2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F6F7-B6D8-4F7C-89DE-AA360452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029E7-84B1-4D89-A8F1-87819453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B9741-403B-43B0-8E71-61873D75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91756-E084-4E96-A737-3D7854BA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298A6-7A48-46DE-AA93-A3F85333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2948C-2A1F-412E-8242-193D2C3C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E594A-77D2-4F5C-A169-6F6F1706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A0021-1CCF-47BD-AEBC-9BB53D27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73B4F-1FC9-4F37-86D0-8B0E5C36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1C716-1710-4264-86EC-44882A0E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B7E1F-0DB0-4C98-BC1E-A2B9FEA1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6F7-6652-4B61-B62D-A5A91843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170E1-557A-495C-9F61-FF4577AD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CC144-D767-451E-A00F-D968F67F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2D432-A2C1-4851-98B0-8508FE1D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F5BF7-C312-4F00-87A2-84E8EF93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018C3-DA8D-4BB7-94B0-1E56040E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4C117-DFA0-44A5-9A5D-5989FB7E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A5540-8256-400A-BCFF-67BA65D7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7579D-602F-4B6B-ADCF-28C92AC5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3D861-A03E-4466-8CF1-077C3FC6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78459-D976-4D98-8A74-4D8DC64B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C976-DD9C-4E85-8BF9-758B7982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3886F-F582-4CD4-A401-140E823F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71C00-FE28-4A40-90BF-163F843B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AD97E-C35C-448A-8511-5058D951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5D910-4715-4606-9B5C-1BEA38C8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AC116-79AB-45DA-8327-75271B3D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77F82-D1DB-4C4A-BCAD-AB807E79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3F8E9-0FCB-40B7-90A5-35AB020E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44F6D-3C74-43C3-8303-C7647FFE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8CEC8-BB67-43AF-A5F1-C3BD75ED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6151D-7E28-4873-B865-FA8BDB4D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94A6-FF0F-493E-B602-978A3CE3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D877D-FD54-4424-9F8B-0A2EBF03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56DCD-E5DC-4A22-888E-26AFE1EA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8336A-693B-42B0-B7D5-AC78BFBC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41A5C-E6B3-4DCB-B6E0-7A1D16F4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5DF8F-64BC-4311-ACD0-876F164E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6078-679E-47C5-B3FC-60ACAAA9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517A-BBAC-4F8D-A3F5-0076C266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CA54-928C-4268-AE6D-6C1FE3B0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075B-6AA3-4B57-85FA-0CE1593E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38E2-D18A-42A5-A271-1BC3B405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6D3-E8B6-44E3-AE3B-9FCD0A1B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547C-393B-459E-B98C-8D75199D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57BC-DAE5-4121-82D6-83C95601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F06A-3CBC-49ED-B6E4-64A71301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0F2D-7F2A-45B3-A219-145DD3E4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8787-B600-4796-813A-D223DCCC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A79CC-DED3-407E-9DC5-14F986DA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09C1D-5C68-41DC-B5DB-02638213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50611-D89B-48B4-B3F4-F0174C1C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5BA14-5C21-41E5-945A-223CB419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F8E99-BFF8-4ED7-BD32-737166DD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A127-6710-40EE-B95F-CADBEAB1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05C57-3387-468C-BA68-10171358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912A5-36F5-4448-A1A7-FC9098EA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E11BC-D18D-4FD6-BC2B-B524E1D8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0E69B-CD01-45D2-92FC-266FBAC7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E37CB-14F7-408B-9970-925D3D4C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54736-5FF2-44B3-8844-8322390D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512FC-1B09-4B51-8394-EF5AB27C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A1419-E8EE-4D93-A688-DFBFAB91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33FE7-7121-4E8A-93C8-D83562E5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4EEC4-B710-4BFD-BA1E-113106AE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40C-32B5-4342-8989-AF557E63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C9A94-90BC-4AD0-85A5-783941A8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3412C-51F6-41D3-8912-4DBEA8DB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AE4D8-9A0A-4CD0-A5B9-026C2EC0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8AFF7-B05A-422D-9D2D-6D0EF6ED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418B4-3A55-402B-9419-663B2932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9CE24-3CD1-4821-A2D4-1AD79D3E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C01D8-B12E-4ACB-869B-0C2B77E5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C6A94-FC50-4F8A-8B06-527A097C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2F01A-5A5D-4CF4-9394-36467D32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965AF-EAC5-4594-B5E4-BF675BC5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C0E-067B-4AE8-8895-5A62F73C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AAD08-9F8B-4856-90A3-4D840EBA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D513D-405D-4E8F-B760-FE21C539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FA979-A394-4F0B-9CD6-8D422205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260E9-9468-4027-AE42-A78ABD34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A1CF0-712C-4AFA-8B5D-6A449DCD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8EB3D-7D79-4B66-8A48-96E3EF50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45BF1-9C93-4801-B722-FC1A137A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EE176-D816-4F91-A1CC-A290B63F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9D57A-5262-4C63-B20B-15935D0A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CE0F8-7498-461C-927C-E3AF55B5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B3C-1EC2-4C7B-9AF5-CCE3AA5C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3A8E7-805D-44E3-9D1F-E4A6E499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8D0F9-F8C0-4583-963A-4FC773E4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35877-A315-4AE4-9867-D2940F24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F5118-1BB7-42CB-8CF6-EE90AAD7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025F8-A065-482D-890C-9C809C1D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28E49-3976-43FA-BEB8-270F4364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69176-67C4-42C7-B674-1E8A0834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F1D0E-6A78-488C-9A6F-3DABDECB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B4D56-C44D-475F-B303-A76D29DD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47CDD-A724-4641-A44E-FEBDE445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E92-EC50-4D10-AB35-9FCCC004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9AC1F-6611-4602-9678-17F600B5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4B6F3-17FD-40EF-8411-018E549A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DF027-955B-47AB-844F-22B8A320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E3376-4817-416E-B7BC-E56B72E8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ED780-9383-4AB7-BB25-1897DB75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73D99-EE0F-4A33-A9E1-4BC8282E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C4998-EA23-430B-AD03-0D8E34C6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7234B-1D34-4650-9BD5-7257CBBE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1DA66-4A99-4DFF-BF3F-12C459C0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3CA3C-265B-410C-A7FC-C6D4197E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794-DB5D-4C94-8D9C-DF630E53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1BE4E-5DFE-4364-A3BA-94682253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2E655-BB85-4D8A-909A-F10C2CB3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9D80D-D82D-4CA8-8803-E819D718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BE005-389E-42C0-A0FC-86B6F8F8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C1E3F-3213-44A1-BB06-8AB0F4EF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80AA3-8C17-4FDC-A6C0-0346B234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2E7F0-2928-4205-A883-38D8CFE3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0F647-B5BD-4671-BC67-7317B3AD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96A21-94E5-4B98-99B0-97C8D172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A561D-4961-4E40-ABC4-8D331C3B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F46-CE20-46FE-BB97-6D9B0A45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DD8CA-B704-43E5-B279-0ABDF7E2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EE910-89EA-4E4C-818C-A7C9C117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FDB96-1B20-46CA-B46A-B8D94CEB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63B81-9083-4C88-BF8D-9A7A985A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459D7-3044-4AFC-B2E5-D9F9722C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5EB9B-1123-48B5-91FF-CF068904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8569E-FEE7-4395-ADC8-C0DBAA92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1245E-E483-4781-BF6E-924FD04D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2DA22-5B22-4112-836B-151F0515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0F26E-D3ED-4ED0-9F8B-D18AF975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49C4-AC4E-45B7-B547-8B5ED780FB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B5A01E09-9496-4DBA-A024-3D17A32A2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39DE-BE02-4401-8912-819727A676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E7A8-2A43-4DB0-9B28-0BD96E57D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05A4-3BE8-4734-A655-D54E6E55A9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CDC9-F074-4BD5-8B48-7763D8281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3FC6-E53D-4E2A-B3E0-9B94C28868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928A-BC78-4A26-8C37-B851880C8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EEAC-3F7E-4BA8-955B-827CD6BAD3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941C-2F92-40A7-804F-E4924974E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3CB1-320B-4C4A-BCE0-63611E9303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832A-E04F-4C91-BD9C-ED8764876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347C-33E7-4AC6-8E24-222B28A10C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A5C4-5151-4F57-8962-9C7368698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97A6-FEAE-441F-AF7F-45A19A87C9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59ED-AC82-4A4E-9A67-4D2C9BB3A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D675-1A7D-49EF-86C5-051FC28858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E311-7D00-43DD-8B42-ADDFBA15A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103F-F8A1-4B84-B506-833C28D571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128D-E191-471C-884F-DC9123F03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D857-0EF8-4264-A285-A1FE9131A3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4F32-1D79-4C74-9E11-9576F1FA2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C259-D6AA-4554-B823-93AD82D426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AF3F-2840-4834-854E-A85204349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1858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lanning Geomagnetic Disturbance Task Force (PGDTF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Update to the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pril 5,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ylan Pre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GDTF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BF3E-454B-40BE-9343-8D459714C2C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/5/2018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3440" y="488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C System Model Working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2286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SP-only working session on March 7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and 8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Reviewed the PGDTF GIC User Guide – data check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Reviewed GIC flow results for TSPs/REs submitted dat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Made corrections/updates to the GIC System Mod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11AF-E204-43BF-A2B2-D47BC9B7D31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/5/2018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6840" y="113328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Pass Release RAW &amp; GIC Files – March 1st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Pass GIC/VAR Values – March 1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GIC Model Review Face-to-Face Meeting (TSP Only) –March 7th &amp; 8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Pas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SP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Peak and MIN Update – March 13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Release RAW &amp; GIC Files – March 22nd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GIC/VAR Values – March 22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GIC Model Review Face-to-Face Meeting (TSP Only) – April 12th (afterno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GIC Model Review Face-to-Face Meeting (TSP Only) – April 13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Final Pas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SP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Peak and MIN Update – April 18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Final Release RAW &amp; GIC Files – April 25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Final GIC/VAR Values – April 25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F573-58E6-4AE5-B001-1DD0668936C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9320" y="18216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C System Model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/5/2018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RC TPL-007-1 R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riteria for acceptable System steady state voltage performance for its System during the benchmark GMD ev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January 1, 20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vent voltage collapse, cascading, and uncontrolled islanding minimizing load l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GDTF develop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raf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eria for use in the initial GMD Vulnerability Ass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5427-C7FF-46CB-A19D-4B0EC1AAABD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152280" y="115884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)  The following performance criteria shall be applicable to the Geomagnetic                                 Disturbance (GMD) Vulnerability Assessmen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0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)  Following the occurrence of the benchmark GMD event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RC Reliability Standard addressing GMD Planning Performan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ments, the list of GMD event contingencies as defined 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tion 6.11 (2) of the Planning Guide, and any manual or automatic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shedding resulting from the even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257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i)  buses owned by Resources Entities shall not have voltages less than known or assumed minimum generator under-voltage trip limi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257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ii)  buses owned by Resources Entities shall not have voltages exceeding known or assumed maximum generator over-voltage trip limi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257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iii)  load serving buses greater than 100 kV shall not have voltages below 0.88 per uni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257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iv)  buses greater than 100 kV shall not have voltages above 1.05 per un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9DAE-79EB-47B1-894C-4CF241B08B3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685800" y="228600"/>
            <a:ext cx="83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1.1.7 Planning Geomagnetic Disturbance (GMD) System Steady State Voltage Performanc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837720" y="182844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74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b)  The ERCOT System shall remain stable with no cascading a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d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1692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i)  total load loss greater than 6% of the total initial system lo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 TSP has communicated to ERCOT that a Facility has unique characteristics and may operate outside of the above ranges and deviation (e.g. Facilities located near a series capacitor) or that the Facility needs to be operated in a more restrictive range (e.g. a nuclear plant, UVLS relay settings) or its system is designed to operate with different voltage limits or voltage deviation then the TSP’s specified limits will be considered accep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7EE3-3868-4D31-B30A-1AFF8640FD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"/>
          <p:cNvSpPr/>
          <p:nvPr/>
        </p:nvSpPr>
        <p:spPr>
          <a:xfrm>
            <a:off x="838080" y="22860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1.1.7 Planning Geomagnetic Disturbance (GMD) System Steady State Voltage Performanc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ontinued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33280" y="3297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coming PGDTF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6840" y="112212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447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GDTF Business Meetings on April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morn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4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meet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4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ERCOT’s proposed language regarding TPL-007-1 R2 “maintaining the GIC system model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4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Vulnerability Assessment Scop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478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C System Model Building Face-to-Face Meeting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ril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afternoon) and April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all-da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4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SP-only due to confidenti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4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transformer data &amp; bran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4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GIC flow interpretation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4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the GIC System Model as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4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3DF2-90E8-46CA-A2FE-ADFA0F94863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/5/2018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922480" y="685440"/>
            <a:ext cx="329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Arial"/>
              </a:rPr>
              <a:t>Questio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Picture 2" descr="question-mark3a.jpg"/>
          <p:cNvPicPr/>
          <p:nvPr/>
        </p:nvPicPr>
        <p:blipFill>
          <a:blip r:embed="rId1"/>
          <a:stretch/>
        </p:blipFill>
        <p:spPr>
          <a:xfrm>
            <a:off x="3236760" y="2206800"/>
            <a:ext cx="2670480" cy="3315960"/>
          </a:xfrm>
          <a:prstGeom prst="rect">
            <a:avLst/>
          </a:prstGeom>
          <a:ln w="0">
            <a:noFill/>
          </a:ln>
        </p:spPr>
      </p:pic>
      <p:sp>
        <p:nvSpPr>
          <p:cNvPr id="5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F552-E0AE-43D3-B225-F58AF583B23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/5/2018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dpreas</cp:lastModifiedBy>
  <dcterms:modified xsi:type="dcterms:W3CDTF">2018-03-28T20:36:03Z</dcterms:modified>
  <cp:revision>301</cp:revision>
  <dc:subject/>
  <dc:title>PGDTF Update to ROS</dc:title>
</cp:coreProperties>
</file>