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973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949200" y="0"/>
            <a:ext cx="30229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407600" y="1153800"/>
            <a:ext cx="4157640" cy="311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96960" y="4444560"/>
            <a:ext cx="558000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0" y="877248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949200" y="8772480"/>
            <a:ext cx="30229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2FE9-2051-4EE8-9AAB-3D2E66571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407960" y="115416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6960" y="4444560"/>
            <a:ext cx="558000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49560" y="8772480"/>
            <a:ext cx="3022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2968-A96B-47D0-81B0-3E18A3DA4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2C0-169D-4457-948C-69E133BC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1ED-BDE5-4ED9-961A-8F23FE1A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FB1-0EA1-4CB1-B402-73B1DB74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C75-DEBE-4413-A924-0C254E36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734-62C0-4D74-86F1-740865E7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E0C-BA59-408C-89A5-1F2627D9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A2C-C364-44B1-B563-0FE1A2FC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40A-7035-4AAA-B1C1-68A7BCC5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68D-86B8-4F94-90AB-55DDE310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41C-ED69-4BE3-B599-88FC3F4E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995-EE6F-4A02-9CF7-0C6CA8E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E3E-5CCA-4266-BB84-7BD765D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2B45-A37D-4B47-B440-ECB0900B15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7B90-93C3-4FFB-BA84-2596B4EF0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April 4, 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BA2D-61CA-4C70-8F2A-7A224B952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80" y="9360"/>
            <a:ext cx="89074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Solution to Coal Index Pr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7840" y="1434600"/>
            <a:ext cx="8001000" cy="49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CMRR014 provided an interim solu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$1.10 fuel adder for coal and lignite resources that is added to the $1.50 Solid Fuel Pr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ults in $2.60/MMBtu ($1.50 + $1.10) for make-whole, but MOC at FIP (gas) + $1.10 fuel add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nsets 6/1/1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draft NPRR for Coal Fuel Index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FIP”  Coal Fuel Index Price: “Delivered to ERCOT” index price based on PRB 8800 coal plus rail transport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eliminary Cost Impact of $275k to $375k, but exploring options to reduce the impa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viewed historical coal prices vs FI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est impact would be to continue with fuel adder for coal and lignite resources, similar to VCMRR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$1.10 or another val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02BF-8FA3-42EA-B8D8-9994275E3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Solution to Coal Index Pr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the direction given at the last WMS meeting  RCWG generated VCMRR020, Delay the Fuel Adder Sunset Related to VCMRR014, Revise Fuel Adder Factor for Coal and Lignite Resour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sunset is June 1,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ding the sunset date permits the development of the NPRR while ensuring coal and lignite units are not started up below their 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will be developing  the NPRR to direct ERCOT to do an annual review and plan on having the NPRR available for stakeholder consideration in the near ter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127B-5147-4A82-BB1A-C0DA5940D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3160" y="8377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838 Updated O&amp;M Cost for RMR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going discussion of using the budgeted variable O&amp;M per the RMR contract instead of the 10 year average normally used to establish O&amp;M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s RMR Make-whole Payment and Real-Time Mitig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CWG tended to agree that the RMR is not a typical commercial unit, therefore, the O&amp;M should not necessarily be treated as su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the actual O&amp;M costs into the mitigated offer caps could result in very high Locational Marginal Prices (LM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is engaged in conversation with the IMM on potential sol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solution is to adopt a single price (e.g., $50/MW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750B-E71B-4C21-9407-F875B162F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84240" y="9360"/>
            <a:ext cx="89074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MR I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784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has discovered that there are some days where there are no prices for the Houston Ship Channel (HSC) due to lack of liquidity or trading on a particular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17, there were nine days where there was not a price available at HS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pointed out that Katy has a much higher trade volume than H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offered three options for stakeholder consider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inue to use the previous day HSC p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l in missing days with prices from Ka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 HSC with Katy perman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A141-47EC-4AF8-849F-81D1D104F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84240" y="9360"/>
            <a:ext cx="89074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ther RCWG I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Gonzalez, Ino</cp:lastModifiedBy>
  <cp:lastPrinted>2017-12-01T14:04:24Z</cp:lastPrinted>
  <dcterms:modified xsi:type="dcterms:W3CDTF">2018-04-03T17:16:19Z</dcterms:modified>
  <cp:revision>448</cp:revision>
  <dc:subject/>
  <dc:title>PowerPoint Presentation</dc:title>
</cp:coreProperties>
</file>