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FB9-1422-4348-B5DF-0E49BE6E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D7E-564C-48D3-B027-BA506E0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8435F-F141-44EA-BD99-1632D24E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BE1A3-4337-409B-A61A-AFBEF468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4F172-FD74-43FA-A277-40C4FD6D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A6C54-0579-4711-BE79-58F33E35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D0526-D3CC-4657-8346-23B40622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1A5C7-9959-4356-BBC5-049C33C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69EEB-A875-45EF-929D-5DBC24A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09E76-C006-4718-9645-1ED3DE6B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57769-0D24-4129-A64B-A2E7C667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AC262-6C7A-49E2-B985-CC4F4003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97F-1595-419D-B22C-327AE5F7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2B6FD-9A2A-476F-A6F2-7A60D99E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97E82-73D1-471A-A489-4F7025D4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29DA0-1A6E-4B44-A11E-29425D9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63E40-8069-4D36-8C72-FE9B28AA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F9D87-9C92-4EE1-BEC2-50B8393B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A7B5E-7439-4240-8016-C257E27C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83744-DE68-45A3-9F59-FAC4223F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CB498-7162-43D2-8EE6-E655C41E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9E419-0D14-483C-9A80-FB06B15D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B7830-8E6D-4231-8A53-B6788982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0E7-8FD4-4F51-8583-E9771BD1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06706-CE3A-4C71-9ACE-69A312D0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58A68-E1D6-47DC-962E-51F9FB43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FD378-7673-4B6C-AE49-7EA9168F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9169A-6ECA-48B6-BEA1-B754BC25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3825B-B165-498C-AA3B-A25C6C40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AE298-5206-4244-BD43-49066FEC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E23A2-A630-4853-947F-5E8F0CB4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2FD2C-2AAE-4665-961C-73F9E6A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93A4A-B812-4811-84A4-E3EC4AC4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C566D-6FD2-49DF-A879-4ACC5B24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2CFE-787B-4465-ADCC-60EA5679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B7A63-75C8-45D7-BC95-945BD027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944DF-0C57-4DDC-9256-3FF3A072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410CD-6C11-454C-B6D7-72EF79EB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4F78D-34D9-4C48-9384-4CA076B3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B7960-4E1E-49DA-9E16-60B46505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D5130-905F-4D9E-AB5E-9C78CFAD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703D5-DA78-4567-A943-28191343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6E785-F6DB-479E-9B61-329D6218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3743B-CD7F-445D-9C62-74EEF916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03E36-5249-45EA-96DC-06CE8CC1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F26D-C12E-4DAC-B6C7-BE34000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ED7E3-029D-423E-9930-6CD298C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22A5E-D771-48EA-A1BF-A38C3780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42BB5-499A-4E14-A5B5-BC3D546D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C4393-0D64-4463-8EFB-D3A3BB33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DFF3F-16B5-4458-B847-CD15490E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322F-6B83-4BCD-91D3-0296172A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36E3-8A88-4CE7-9808-E4A0B184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DBBD-6D16-47F2-86CC-C6DC55D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E3C6-6FB8-43C0-981E-2E768EDB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5B21-173D-4F48-B9F6-8E5E12F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E94-CDE7-4548-9103-45203948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7372-4B73-4422-A072-B250997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2D7A-BFB1-4724-ACEC-F267B0CB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3468-53C7-478E-8A28-18942129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3CA3-55ED-47C6-A35E-FE9B04C2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C589-4E8B-43C2-8B72-768C3B07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9D5E-F391-4768-A380-30B97248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0123-60CF-4226-81E9-A4639DE2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F6BD-9363-478A-A4D9-37A648E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D856-919B-4636-8ABA-26601937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B18F-E0BF-4EF5-8765-BC84D909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F11-FCB1-48E0-A541-2256482C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BB919-1106-4181-A825-F89B46C9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5844-6FE1-4C08-AD5C-1BF1197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EEB5-DDB8-4D8C-B7A1-5C242D9B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C425-3599-44B6-BFC5-CFE4EBCF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53DD-8072-4455-9CA8-3351B884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BA6C-43C7-47F3-B87A-D7AD4CE5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6999-29F4-4B69-BB7E-50C576B0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666F-78A9-4270-AFCE-21D6E5BC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7168-2A6B-4947-A6A2-94893A85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1374-0E99-435E-B215-ACF3655D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A40-826D-4F06-B053-2DB300B3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8DEA2-FAFC-4B4E-AAE9-9DE0502E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B026-C118-4426-87AD-C1632568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D8A28-6572-4F7A-9712-F70E89A1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429A-CE11-4D7A-AC17-538AEFA9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FFF0-75EC-4ECC-AC30-682F17C9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75F94-7392-40D0-AA83-7C39C588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A3D9-C318-4ABE-A56F-E0108189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7861-BA5E-4307-966A-57A7F18B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F3A6-1394-4FC2-B7B9-04E83588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909F4-5B35-4929-887C-A60FB00A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22F-868E-4EF8-9121-F4E93231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129F2-714D-4416-97BB-0F44BC8E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73E93-DD6E-43BF-9419-13B0D3B6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60F9-48D9-4BF4-BA2F-DF14CA42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4C86A-474F-4500-B4BF-F0144A6E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A3DAD-6589-4B29-A469-34A2B315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64F07-758A-4E5D-8D57-D000715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8EE8-BF28-4735-97B0-764C199A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7628-C3B7-4FF0-B827-F13EA1E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98A1F-5D7A-44F9-A68C-C0C1CE6F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7633-5B6B-4F80-82A9-662D3959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505-082F-41B3-9F26-47B783A0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45AC6-19CC-4AB9-970D-6134F7F5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20B16-9A83-4B61-BB2B-BC0D0628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39675-D913-4384-9333-AF1CCA08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530CD-3727-4B67-81C7-646BB2B2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91BF-441A-40E5-AF1F-7A084B1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039C-1594-459C-85E8-DCC0111A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F0B20-93B5-46FF-95A1-495A67EC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10C1-03E2-4B71-97A3-E4761417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30FBC-6041-44DF-B0C7-C8924793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A1A0-7FA3-4D24-BEBB-EC3CF14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F91-2BA7-4A95-B5DF-06EC66D6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90B4-B71E-407A-8CED-7452F32B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35A75-C624-4E10-B040-9DD9849A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8BA3B-A1F1-46F8-9B3F-9D05EE5E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A56B8-3A56-476B-ADCC-0A5E80E2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4C2DA-B911-4046-B1DD-5567985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09DED-EF7B-4EDB-9CE9-F85769F5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0DA27-0E8E-4F6E-B414-AE7273FF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2B321-A280-4255-A355-E7A9EC89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A3E1-1958-4C5C-8F60-102E4FBD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8040E-E7FF-47F5-BFE0-1C36C4B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FD3-B331-4A76-809C-E3CE729E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392DF-1B8E-49DB-8F7D-6320C0C1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E8E25-AFDD-41D7-92AD-1105A882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08DEE-6EE6-4664-9F65-2A6E9438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E1AFE-E607-46EA-9E01-A47A07A4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76798-6E2A-4F2B-9ABB-E4B4F07D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01083-3C82-428D-85EC-E0F3540C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F9AF-53BA-4DC2-AE51-B8A3D042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E7B09-9CEF-4C95-A93C-1280D0AE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09E1-7FA4-44C6-B846-7031173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858F9-3E44-4295-A296-9CB4D4B9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088-91B8-4783-9AC6-8DC6A6E1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71CA8-E942-4C1C-901D-AF837E9F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AE1EE-0BD2-48E3-99FE-E48B9D9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FBB8-E794-47BA-9FCF-58FD278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5D2D6-85CC-4354-A242-273896B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7EC8B-A7DB-40C8-AF69-B1EB888F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306E9-D655-4EBE-9F43-3C485726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26F6-C91A-4824-A380-55F17736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78ECF-CE24-4AD4-B9F7-A030B35A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24774-424A-4535-AB4B-59A9C8D7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9F3FA-FA2E-4E51-843D-36F6B367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0AAA-635F-4188-9FBD-AB6C8DCE3B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8E46DF5E-195A-49F7-BF0A-B62EBA418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EA09-3EB3-47EC-8D3F-A3FD582F9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599D-DEE1-4BF9-9324-889EF4E61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F6E2-963C-4E7B-BA73-8D304FC1F1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7CD-F770-4809-BD66-A2FAF3995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8933-1192-4F0C-8803-14485D0CCD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71FC-AE9F-4984-8DAE-CE60F24F8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6642-0D08-4DA2-9BCC-2AB19403A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8AE6-268E-4676-939D-F39FCF48D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1C04-FFEE-403D-A14A-FC25F59611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7969-0B4C-4A51-810C-2307EABBA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20EA-0659-4E71-A46F-668CD5CD4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D738-DE3B-4B9C-B8D9-7B040BBB9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152D-2C79-407A-B749-B9B0A7C0EE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09AA-64AB-4630-B295-FB5AFAA76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D0D9-7A36-4447-8640-3C0C3DB54E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A821-FDF0-4116-A91A-C2C48731C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0E19-40BB-4037-B395-A0A351FB64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83A6-686A-4C38-876C-AF992C8CA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5F1B-B4A4-4052-BD66-3BD4DEFAE1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BD05-B74C-4A22-A573-5CFBB8788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6C78-DFD2-45F8-A8D0-65027734E2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49B-3147-4B6E-BB53-40C1F85E9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1858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rch 1,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ylan Pr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9831-44E3-4EF8-A2D4-B18BC22367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3440" y="488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C System Model 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28600" y="153972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SP-only working session on February 15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and 16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Updated the PGDTF GIC User Guide – data check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viewed GIC flow results for TSPs/REs submitted dat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de corrections/updates to the GIC System Mod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BBE-554E-400C-9628-C17D13D0EC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GIC Model Review Face-to-Face Meeting – January 11</a:t>
            </a:r>
            <a:r>
              <a:rPr b="0" i="1" lang="en-US" sz="24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 &amp; 12</a:t>
            </a:r>
            <a:r>
              <a:rPr b="0" i="1" lang="en-US" sz="24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Second Pass TSP Peak and MIN Update – January 26</a:t>
            </a:r>
            <a:r>
              <a:rPr b="0" i="1" lang="en-US" sz="24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Third Pass Release RAW &amp; GIC Files – February 5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Third Pass GIC/VAR Values – February 6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GIC Model Review Face-to-Face Meeting (TSP Only) – February 15th  &amp; 16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Calibri"/>
              </a:rPr>
              <a:t>Third Pass TSP Peak and MIN Update – February 21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ourth Pass Release RAW &amp; GIC Files – March 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st 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ourth Pass GIC/VAR Values – March 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GIC Model Review Face-to-Face Meeting (TSP Only)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arch 7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&amp; 8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ourth Pas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SP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Peak and MIN Update – March 13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inal Release RAW &amp; GIC Files – March 2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inal GIC/VAR Values – March 2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B498-CA38-495A-862E-6977B3C63C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GIC System Model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3280" y="3297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oming PGDTF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2280" y="120960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C System Model Building Face-to-Face Meeting – March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amp;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SP only due to confidenti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transformer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bran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GIC flow interpretation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GDTF Business Meetings on March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Open me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ROS goal and update for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Vulnerability Assessment Scop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comments to the draft language for TPL-007-1 R3 – Steady-State System Performance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A3B5-1C27-4187-BDDA-3F5BC6C9C4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1819-458B-46A9-B03B-6B8B31D5800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1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dpreas</cp:lastModifiedBy>
  <dcterms:modified xsi:type="dcterms:W3CDTF">2018-02-22T15:38:19Z</dcterms:modified>
  <cp:revision>284</cp:revision>
  <dc:subject/>
  <dc:title>PGDTF Update to ROS</dc:title>
</cp:coreProperties>
</file>