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F12-9A88-4ED4-9B17-4F119587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467-B1E8-436D-AA40-164B6EB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029-28FB-4CCC-AC59-434D61F7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D77-336E-4AFA-9E10-83ADEEB5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7636-D2AA-4A3A-A0A9-40532E8F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0D2-9DBE-49EA-ACBF-EA79613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EF28-5863-4A00-B56D-3BCDBA99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7F71-52A4-4D66-B61E-F79D42E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F6FF-B386-4708-9725-03FCD0D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72D-213A-43BA-B230-ED3A022E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E8FE-0A09-4BD4-9A21-16CAE6B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F3A-7F12-4C52-9160-D6DB742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C2B-3716-4EBC-B1C0-2866A66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26BD-239F-4F98-984E-9C023CA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9DC3-5B6C-4384-8D41-70C37344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362A-AE45-48C3-B47D-2350152B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301A-887B-4987-B326-5D804A96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3C4-69B0-4BE0-8D0D-863F4A6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4A4-4725-4267-9E84-2D20887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3C4-8855-42D4-9736-19B37123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CA8-4234-44C5-B735-02BA3306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A71-85FB-4EED-97ED-87268A8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DF7-E6B7-4319-8E4B-C42694A6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400-4CF1-42EC-ACA0-689A7A5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B4C-D99F-4E31-BF0C-13FB011D374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926B-B489-44B8-B6D7-3B045ED3DC8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LWG Report to R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(March 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, 2018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PRR-837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RPG Process Reform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WG Consensus on ERCOT’s 02/16/2018 Comments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Consensus Points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Participant ‘Tier 1 Processing’ Reclassification Reques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s to Projects $50M - $100M with CC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PG to Receive Pre-CCN Cost Increase Notificatio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s to ‘Economic-Driven’ Projects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Increase Over RPG Endorsed/Approved Co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TSP Funded Projects Language Remove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going PLWG Discussio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ure NPRR Planne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" name="Straight Connector 4"/>
          <p:cNvSpPr/>
          <p:nvPr/>
        </p:nvSpPr>
        <p:spPr>
          <a:xfrm>
            <a:off x="228600" y="1600200"/>
            <a:ext cx="8610480" cy="0"/>
          </a:xfrm>
          <a:prstGeom prst="line">
            <a:avLst/>
          </a:prstGeom>
          <a:ln w="2556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3"/>
          <p:cNvSpPr/>
          <p:nvPr/>
        </p:nvSpPr>
        <p:spPr>
          <a:xfrm>
            <a:off x="228600" y="1600200"/>
            <a:ext cx="8610480" cy="0"/>
          </a:xfrm>
          <a:prstGeom prst="line">
            <a:avLst/>
          </a:prstGeom>
          <a:ln w="2556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GRR-059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Related to NPRR-837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led at ROS; Awaiting NPRR-837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WG Consensus on CNP’s 09/08/17 Comments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ontentious” RPG Process Updates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PG Submission Content;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ssion Process;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ent Period Defined in Business Days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GRR-060 &amp; PGRR-06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3"/>
          <p:cNvSpPr/>
          <p:nvPr/>
        </p:nvSpPr>
        <p:spPr>
          <a:xfrm>
            <a:off x="228600" y="1600200"/>
            <a:ext cx="8610480" cy="0"/>
          </a:xfrm>
          <a:prstGeom prst="line">
            <a:avLst/>
          </a:prstGeom>
          <a:ln w="2556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-060 (DC-Tie Reliability Criteria)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PLWG Review on 02/26/2018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WG Consensus with 02/26/2018 Desktop Edits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WG Changes: Administrative Edits and Table Number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ailable for ROS Vote or Direction to PLW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-061 (DER and Load Resource Mapping)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PLWG Review on 02/26/2018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U Segment Concerns with Data Verification Responsibilities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ence ONCOR Comments Filed 02/27/2018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king ROS Directio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CT Directive #5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Planning Model Consideration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3"/>
          <p:cNvSpPr/>
          <p:nvPr/>
        </p:nvSpPr>
        <p:spPr>
          <a:xfrm>
            <a:off x="228600" y="1600200"/>
            <a:ext cx="8610480" cy="0"/>
          </a:xfrm>
          <a:prstGeom prst="line">
            <a:avLst/>
          </a:prstGeom>
          <a:ln w="25560">
            <a:solidFill>
              <a:srgbClr val="606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PLWG Recommendation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T_Directive5_Modeling_DRAFT1.docx”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ch ROS: Review and Non-Voting Item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Future PGRR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C-Tie Parallel to Existing PG 6.9 Requirements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WG Seeking Future ROS Approval/Endorsemen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15:39:06Z</dcterms:created>
  <dc:creator>s204949</dc:creator>
  <dc:description/>
  <dc:language>en-US</dc:language>
  <cp:lastModifiedBy>s204949</cp:lastModifiedBy>
  <dcterms:modified xsi:type="dcterms:W3CDTF">2018-02-28T22:08:22Z</dcterms:modified>
  <cp:revision>15</cp:revision>
  <dc:subject/>
  <dc:title>PLWG Report to ROS</dc:title>
</cp:coreProperties>
</file>