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548D-B330-4E6D-A2F1-2507A80D5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D521-BB5A-4AF1-ABA5-CC8129FBD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2432-5E01-4539-A5CC-AABAA0253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6C5E-5AB8-47BC-9BA7-B817F5F3C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8A89-C238-46A9-A884-D2A890166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4158-3F82-4A37-BEAB-95CED5E3F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57C2-4CBD-49E0-9706-C89A09DAB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FC04-7531-4BDD-8D5C-267EC4AF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9C00-7A95-4D6D-B51A-DB569576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D1D5-A745-4804-8D2F-702AA91D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1720-84EA-4ED8-A68E-B4CCD05C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B508-6862-4C0C-8308-A2DE2030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BDD3-B73C-41CA-B7AD-5598C8A3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9AE9-FF26-424B-AC47-5957EEC6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60A0-ADEC-4E02-A35B-39B604FC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1D93-44DF-4DF4-B7AC-E71892DB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D990-2F85-40E2-A0CB-5D30FF4D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96AF-8788-4871-8707-D59C3562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5C31-0C2F-4D73-B176-1C16EDF6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A218-CF3B-449A-AA6B-EAA3F0D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7191-0ECF-41D2-B805-FB193A79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3F0C-5048-452D-9761-927DF967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ACC6-FE4D-4942-835B-78499E2B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829A-6371-4C20-BA65-15937C5F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C8C3-3172-4107-83B6-871B0936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FF28-CC3B-4363-B6A5-3124BFE1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135F-10C8-4DAF-9613-251B2DF4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288E-6576-433F-8D6B-FFF69769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5D3A-8E0B-4B5F-9EB7-A5628F8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15B4-59EA-4F11-A0C0-A78ACE62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C4FE-11D3-4FA1-9194-B8247F04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52A2-D19B-487B-B5E9-7B7AB57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EE13-C64F-412A-AAF0-DAD8AD2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4264-C1AB-447C-B4E5-D2A3E00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04D81-2A5C-46E9-BF72-B7C532C9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1D40-1777-4F4D-B4CB-9C3B77F1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5FC5-6101-450F-A5CD-B3FB22DA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CCF7C-1162-44E8-B433-CEFBCE44FD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D9098E-FE4E-472B-B627-0EFC653BA8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FF247-F0E7-446D-BAE1-9106C3055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1506-233A-468C-B49E-84E5DEFF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D0797-123D-4D48-98C6-2AB21E4723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D8DEB-A96B-4C0D-9341-7BFD65755A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39A06-ED49-42EF-A99B-2F325F893B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16BFC-E056-4B48-B944-664FE8E3AC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CE7D5-A431-4BC4-8D1C-0CF12965C7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BEB11-8030-489A-84CE-8F8999E70E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19242-6803-4E5E-B6C7-5D7D09BE32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2BD70-6B5E-4788-A894-867A9F1C0B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4A809-3172-4E2C-BABC-4CB3F44C2F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9792-8B17-4F93-A2E8-70397D3D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9BEC-CF4C-48BD-B691-1177A884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64BFC-A68D-4750-A790-9BB39900DC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90A95-42CD-4F84-A33C-4759C38090F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046B6-507E-4BE1-BB73-FC12DCD151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58077-A60E-4C45-9A1E-56EC27D0122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7A517-3D46-4851-A6A6-5CA7BC570F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221E5-3F4B-493E-99DF-DB14E8744DF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1888-370D-43C1-ACD7-95471BE9907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FA8D4-9D41-42D4-913C-4A5E4ACD51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887D7-D45C-45B4-8C64-356083B19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398D-D08B-45D1-BAF3-D2B51669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66E34-735C-454F-BF00-619C705E3D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A2E02-A004-4912-9D8F-C68C3DBADA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9B732-06D7-4AF3-B889-F034487C0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5648-B5B7-40EF-B4AA-1B877D81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EA29-E2BA-418B-BC44-8D2051EE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F5D0-9295-4BAA-8F0E-6FE1954CE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996C-3E19-42BD-8FFF-2F65E308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8B87-78CF-49C1-8B0D-56857A44D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07CB-1065-449C-B1FC-C6AD613FE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ftr" idx="10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ecember 2017 PWG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11"/>
          </p:nvPr>
        </p:nvSpPr>
        <p:spPr>
          <a:xfrm>
            <a:off x="8534160" y="6560640"/>
            <a:ext cx="533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72C2-C9CD-49E2-9BAA-77DFAE4A96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traight Connector 6"/>
          <p:cNvSpPr/>
          <p:nvPr/>
        </p:nvSpPr>
        <p:spPr>
          <a:xfrm>
            <a:off x="76320" y="647712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7"/>
          <p:cNvSpPr/>
          <p:nvPr/>
        </p:nvSpPr>
        <p:spPr>
          <a:xfrm>
            <a:off x="2193840" y="647712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838080" y="624852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8"/>
          <p:cNvSpPr/>
          <p:nvPr/>
        </p:nvSpPr>
        <p:spPr>
          <a:xfrm>
            <a:off x="54000" y="65530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04920" y="244440"/>
            <a:ext cx="75960" cy="517680"/>
          </a:xfrm>
          <a:prstGeom prst="rect">
            <a:avLst/>
          </a:prstGeom>
          <a:solidFill>
            <a:srgbClr val="5b6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04920" y="244440"/>
            <a:ext cx="99036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ftr" idx="14"/>
          </p:nvPr>
        </p:nvSpPr>
        <p:spPr>
          <a:xfrm>
            <a:off x="2743200" y="65527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ecember 2017 PWG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Num" idx="15"/>
          </p:nvPr>
        </p:nvSpPr>
        <p:spPr>
          <a:xfrm>
            <a:off x="8534160" y="6560640"/>
            <a:ext cx="5331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51E0-EC0D-4117-BACB-68446425CF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3F05-CD04-4E44-B5CF-AB78428BD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February 7,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Annual Validation – Concl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90720"/>
            <a:ext cx="9067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 on a new ESI does not occur until the number of data points is achieved – increasing to 4 or 5 years prolongs any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to AMS meters, the number of profile changes was significantly higher – current volumes are 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urrent distribution of HI to LO by TDSP territory appears reason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3256-478D-49FC-94EE-E0A79D71E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803840" cy="31212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7"/>
          <p:cNvSpPr/>
          <p:nvPr/>
        </p:nvSpPr>
        <p:spPr>
          <a:xfrm>
            <a:off x="910440" y="5938920"/>
            <a:ext cx="75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ese percentages are based on the Profile Counts of March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Weather Sensitivit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A652-E6D8-4877-9848-8BC6143DB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ED38-CCCE-4619-B037-E5F63A95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571680" y="1028880"/>
            <a:ext cx="8001000" cy="41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5th, 2017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bEx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:3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71F0-A8A7-4922-B1D9-4AD1331B0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C7EF-3207-4BB8-9398-1061FAE072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85800" y="1371600"/>
          <a:ext cx="7902720" cy="4438800"/>
        </p:xfrm>
        <a:graphic>
          <a:graphicData uri="http://schemas.openxmlformats.org/drawingml/2006/table">
            <a:tbl>
              <a:tblPr/>
              <a:tblGrid>
                <a:gridCol w="512640"/>
                <a:gridCol w="7390080"/>
              </a:tblGrid>
              <a:tr h="5875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ccomplish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124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GRR059,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Changes to LPG to align with Protocol Section 21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cation of references (TRE and IMM) as noted in Protocol Section 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364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GRR060,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Profiling Guide Clean Up Related to LPGRR057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d clarification to orphaned language not captured in “overhaul” LPGRR057 and alignment with NPRR7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36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GRR061,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difications to Annual Validation timelines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s the timelines for residential  and business ESI IDs with commencing AV activities on March 3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concluding September 30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20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GRR06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Profiling Guide Revision Request Process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s the process for revising the Load Profiling Guide so LPGRRs are originally considered at voting Subcommittee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67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GRR063,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gnment of BUSOGFLT Profile Type –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es and restricts request for profile revision to Competitive Retailer of rec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40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ed compliance reporting for th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 Annual Validation and Weather Responsivenes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to ensure all revisions were comple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71" name="TextBox 1"/>
          <p:cNvSpPr/>
          <p:nvPr/>
        </p:nvSpPr>
        <p:spPr>
          <a:xfrm>
            <a:off x="38088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2017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A6F2-0D41-413B-805E-1EDE811C08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33520" y="1447920"/>
          <a:ext cx="8207280" cy="2838240"/>
        </p:xfrm>
        <a:graphic>
          <a:graphicData uri="http://schemas.openxmlformats.org/drawingml/2006/table">
            <a:tbl>
              <a:tblPr/>
              <a:tblGrid>
                <a:gridCol w="533160"/>
                <a:gridCol w="7674120"/>
              </a:tblGrid>
              <a:tr h="6030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ccomplish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06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Working Group’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s and responsibilitie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displayed on main web page to align with Load Profiling Guide “overhaul” in 20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94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ed Unaccounted For Energy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FE) Analysis for 201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tocol Require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650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of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 Profile ID Annual Validation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tial and Business report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of spik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of current method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sity for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74" name="TextBox 4"/>
          <p:cNvSpPr/>
          <p:nvPr/>
        </p:nvSpPr>
        <p:spPr>
          <a:xfrm>
            <a:off x="38088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2017 Accomplishments,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33520" y="30492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2018 PW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7745-153B-49A3-97BF-93AB23DD57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523880"/>
          <a:ext cx="7925040" cy="3962520"/>
        </p:xfrm>
        <a:graphic>
          <a:graphicData uri="http://schemas.openxmlformats.org/drawingml/2006/table">
            <a:tbl>
              <a:tblPr/>
              <a:tblGrid>
                <a:gridCol w="506520"/>
                <a:gridCol w="6189840"/>
                <a:gridCol w="1228680"/>
              </a:tblGrid>
              <a:tr h="5367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o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arge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14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 issues and facilitate improvements to market rules pertaining to load profil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8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 Profile ID Annual Validation Residential &amp;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UFE report for 2017 (Protocol Requir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784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 Weather Sensitivity Change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51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4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Study – Process Review -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current residential process effectiv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ly define the consumption pattern of the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if the premise responds to cold temperatures likely indicating electric he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th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process algorithms working?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re flip-flops of ESIs from RESHI to RESLO and vice versa?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rives the changes in load profiles?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everity of Wea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ext Questio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at would the impacts be if additional data points were considered – review of four or five years historical consump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61F6-91B3-4A9C-80EC-0549EF890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3960" y="380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Annual Validation – Investigativ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cc8"/>
                </a:solidFill>
                <a:latin typeface="Arial"/>
              </a:rPr>
              <a:t>Annual Validation - Study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880" y="990720"/>
            <a:ext cx="83059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17 residential AMS validation used the previous three years of “winter” data as specified in the Profile Decis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ter is defined as January and February so the 2017 study used 6 months of data from 2015-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discussing the large numbers of changes, the PWG requested ERCOT that study extending the historical period to 4 and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Point and ONCOR data were used because these TDSP’s have sufficient AMS residential meters to support the 4 and 5 year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2743200" y="65530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ecember 2017 PWG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534520" y="6561000"/>
            <a:ext cx="533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3630-CA2E-4DE9-82FF-09B78CA7DB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cc8"/>
                </a:solidFill>
                <a:latin typeface="Arial"/>
              </a:rPr>
              <a:t>RESHI to RE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90720"/>
            <a:ext cx="83059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existing assignment is HIWR (or a DG variation such as HIPV)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equired data were not available to calculate R-square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of the 6-10 months then do not change assignm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if NYears = 3 AND all 6 R-square values are &lt;= 0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ssign LOW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if NYears = 4 AND all 8 R-square values are &lt;= 0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ssign LOW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if NYears = 5 AND all 10 R-square values are &lt;= 0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ssign LOW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do not change assig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743200" y="65530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ecember 2017 PWG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8534520" y="6561000"/>
            <a:ext cx="533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5161-4D66-4044-9CCE-B5DD6EBD9C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cc8"/>
                </a:solidFill>
                <a:latin typeface="Arial"/>
              </a:rPr>
              <a:t>RESLO to RE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990720"/>
            <a:ext cx="830592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existing assignment is LOWR (or a DG variation such as LOPV)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equired data were not available to calculate R-square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of the 6-10 months then do not change assignm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if NYears = 3 AND any 3 of the 6 R-square value is &gt;= 0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ssign HIWR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if NYears = 4 AND any 5 of the 8 R-square values is &gt;= 0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ssign HIW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if NYears = 5 AND any 7 of the 10 R-square values is &gt;= 0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ssign HIW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do not change assig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2743200" y="65530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ecember 2017 PWG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8534520" y="6561000"/>
            <a:ext cx="533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1659-8402-4DEE-8522-6F34651183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458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cc8"/>
                </a:solidFill>
                <a:latin typeface="Arial"/>
              </a:rPr>
              <a:t>RES Change Counts Using 3-5 Historical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2743200" y="655308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ecember 2017 PWG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8534520" y="6561000"/>
            <a:ext cx="533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4256-13D0-47CD-AE19-05AE910E09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6023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8-02-06T17:09:55Z</dcterms:modified>
  <cp:revision>1246</cp:revision>
  <dc:subject/>
  <dc:title>Instructions</dc:title>
</cp:coreProperties>
</file>