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89" name="PlaceHolder 2"/>
          <p:cNvSpPr>
            <a:spLocks noGrp="1"/>
          </p:cNvSpPr>
          <p:nvPr>
            <p:ph type="dt" idx="68"/>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190"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1191"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2" name="PlaceHolder 5"/>
          <p:cNvSpPr>
            <a:spLocks noGrp="1"/>
          </p:cNvSpPr>
          <p:nvPr>
            <p:ph type="ftr" idx="69"/>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193" name="PlaceHolder 6"/>
          <p:cNvSpPr>
            <a:spLocks noGrp="1"/>
          </p:cNvSpPr>
          <p:nvPr>
            <p:ph type="sldNum" idx="70"/>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7896-2DEF-49FC-8386-C49B3B258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66760" y="692280"/>
            <a:ext cx="4616640" cy="3463920"/>
          </a:xfrm>
          <a:prstGeom prst="rect">
            <a:avLst/>
          </a:prstGeom>
          <a:ln w="0">
            <a:noFill/>
          </a:ln>
        </p:spPr>
      </p:sp>
      <p:sp>
        <p:nvSpPr>
          <p:cNvPr id="121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393D-28DD-4B96-9E66-0E1057CE4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66760" y="692280"/>
            <a:ext cx="4616640" cy="3463920"/>
          </a:xfrm>
          <a:prstGeom prst="rect">
            <a:avLst/>
          </a:prstGeom>
          <a:ln w="0">
            <a:noFill/>
          </a:ln>
        </p:spPr>
      </p:sp>
      <p:sp>
        <p:nvSpPr>
          <p:cNvPr id="122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F36B-E956-45A4-83C8-27D5507B6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66760" y="692280"/>
            <a:ext cx="4616640" cy="3463920"/>
          </a:xfrm>
          <a:prstGeom prst="rect">
            <a:avLst/>
          </a:prstGeom>
          <a:ln w="0">
            <a:noFill/>
          </a:ln>
        </p:spPr>
      </p:sp>
      <p:sp>
        <p:nvSpPr>
          <p:cNvPr id="122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7505-C678-48D6-848C-C7F2388CC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66760" y="692280"/>
            <a:ext cx="4616640" cy="3463920"/>
          </a:xfrm>
          <a:prstGeom prst="rect">
            <a:avLst/>
          </a:prstGeom>
          <a:ln w="0">
            <a:noFill/>
          </a:ln>
        </p:spPr>
      </p:sp>
      <p:sp>
        <p:nvSpPr>
          <p:cNvPr id="122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8413-4924-4499-A28B-3D8F6971D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A95694-EC9D-446C-A835-4951F21552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63CD64-4E33-47E7-A28F-D28A83719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6D355E6-8B23-446A-B2C9-4DB21DF60C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430C9D-287A-45ED-8797-7B88C3E6067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6990AC0-4ADB-45FE-B475-75B70A9E96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F929F01-37A5-4531-A09E-705B431DD0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D06A4B-763F-4A19-8E06-666E1FBBC2E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E0ABDDA-EA36-4DCE-B5A7-1E3C2B1505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86C3137-5178-40E6-914F-50E6E441F6B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9C14A28-4DD8-4739-ABB4-97B5A2E7396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FB128C2-FBB2-4B4B-9327-531D0770E0A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6E161E47-42A9-4688-9481-C636746FA05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4A1A726-52AE-408D-B27D-AC3E8D694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7D1DBE7F-8140-4DC2-9C4F-59FD22C7FFD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D5448457-52DA-4BE3-9E10-9D6F42804B1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A425B297-425A-4E1D-8D62-8F32A4776B7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B50FA7E8-D0AB-4EDB-82D4-43EDC72EA32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1277989F-3709-4785-BCB9-887368FA28E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F4C7DD2-D3BD-400E-9A45-F28D1B7422B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822E652-C6F3-45CF-B676-DAD80C89BB4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60C985FA-F0AB-4275-B2C9-B2DEE44010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1F7ACA92-166F-44DE-B85B-1F029164131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33530F95-E488-401E-938A-AAE0E424CCB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4AC0832-0BB0-4BE5-840C-025A253478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891C1D29-AB9F-4808-AB9D-D8713A5C9A7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07742E6-EFDE-45B8-BDC8-B54289F26B7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5198A8C-0BA7-46F1-B851-00742C2C119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533091B-5CB5-46EC-A2F9-FCDB7BA88AA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6D1433-1BE2-4A34-A18D-F236C1DD21A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76F952D-16EE-48F4-A46A-8580BF96CC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A784D1-9097-4BFB-B045-0A18B83F79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3718168-6B24-4442-ACD7-6BE921F74BC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20099D8-6662-4D61-A157-B2F5AC014C8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0E6BF5-9FA9-48EB-8644-11FDF497F59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87EE2-60E9-440F-8B76-E1310EF77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5D8461D-AEC7-43E1-B729-BBF2E21667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DF565DF-6B2C-420A-952C-5521CF5CC39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A69B4DF-2E20-4252-8BCC-4B60515941A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DFE23124-87C8-42CC-A5CE-B644181CF7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36F6BC0-6222-4782-8A99-3BE4B642A9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3C64307-86E7-4AFE-84BE-CFFE262B0C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96A2E784-5363-4046-9317-09AC314392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DDF02D1B-3372-42E3-AF04-5196D17D5A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B128F03-7721-43DA-9766-E719734504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650874C8-440A-40A0-9610-DC78FCE398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F9AC9-6160-4BF0-98F3-6F70F35B5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2FB72C9-6995-4C75-8C04-058F6D9EA5B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370CB84-636F-48C3-A5AB-C6E23813A7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64759084-0E10-41E4-8CBE-89D08ED422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5977E2CD-A118-4D5C-A0DE-BE066376B9F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79A32F9C-890D-4C87-88AF-1D4551ABE9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3BB91D1F-8086-4B8C-A49B-082F1BEE26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735B27C0-92B1-41D1-8C3A-8766F9671D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C2BC7F6C-9E60-46A1-B264-0967FDB8B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4C8BCCBD-1571-4D6D-B06D-F7B3EBD788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189C6F13-CBBB-4328-8588-6C84AB4A1F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451E1-D5C2-414B-8482-E8A9CBC98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5E755979-D43A-4102-A58E-CCD84E78DA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AF265369-7ADB-48DE-A612-3B06AE01E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BD2F2F51-0CC3-4FD3-B4E5-7948F26CF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2C4CCEA3-3E76-4414-868A-8B15B4762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059D3C1A-164F-41B8-80C0-6F403F1FC6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5877C089-1B95-4262-8602-B3A204F861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777FD1E8-723C-4244-88F1-269CBC2E7F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3"/>
          </p:nvPr>
        </p:nvSpPr>
        <p:spPr/>
        <p:txBody>
          <a:bodyPr/>
          <a:p>
            <a:fld id="{CB14EB93-4743-4C8C-AB41-016574B4FE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D4F84287-0722-4C06-B0D6-21C1D27ACC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3"/>
          </p:nvPr>
        </p:nvSpPr>
        <p:spPr/>
        <p:txBody>
          <a:bodyPr/>
          <a:p>
            <a:fld id="{C7B3A3DD-6869-4DF1-9165-6DD12E2EEC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5772C-1DDA-43F0-B883-B82EFB63D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A544E61C-5B67-4BD2-981E-08FC171AE2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8FF7E007-6E17-4A96-825F-99B376CFAB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3"/>
          </p:nvPr>
        </p:nvSpPr>
        <p:spPr/>
        <p:txBody>
          <a:bodyPr/>
          <a:p>
            <a:fld id="{C88423BA-ABB9-48D8-983D-83EBF34298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5BF6755D-45B6-401B-A7A4-FD0FDD3F7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74F1EF29-AC3A-435D-BBCF-16DD50FEBA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3"/>
          </p:nvPr>
        </p:nvSpPr>
        <p:spPr/>
        <p:txBody>
          <a:bodyPr/>
          <a:p>
            <a:fld id="{A11EF223-28CE-4A45-BA0B-BD21FB52B4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3"/>
          </p:nvPr>
        </p:nvSpPr>
        <p:spPr/>
        <p:txBody>
          <a:bodyPr/>
          <a:p>
            <a:fld id="{F784B831-F1D6-4827-BBEB-A0C2100F27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3"/>
          </p:nvPr>
        </p:nvSpPr>
        <p:spPr/>
        <p:txBody>
          <a:bodyPr/>
          <a:p>
            <a:fld id="{32C9361E-F444-472E-9D41-10C2D2AD91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3"/>
          </p:nvPr>
        </p:nvSpPr>
        <p:spPr/>
        <p:txBody>
          <a:bodyPr/>
          <a:p>
            <a:fld id="{A2954077-94B3-4EF4-9152-5180AF618A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322A8E6-7E86-46EA-B8CC-7045E7075E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469C3-FEE8-4A5C-8472-7B7E66565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67FBD7A-1E33-496D-BAFF-9CBF87DE40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9768B8A-A38F-4458-8769-3386CDFB40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2BF0E33-8535-4C94-8DBD-99D8CBFDCF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4421701-3244-4D7A-A645-17D9B05B5E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842FE3F-A950-4F62-B12C-40753781CA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B91F8C0-E954-4A57-9B8D-A20175A5EB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55894E-3EF1-4B84-BDCA-BEC1D8B7D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54C34FF-0733-4C4F-B37C-EB36B29B1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CDC3CED-4DA6-4ABA-8347-1E47313CE6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25B224F-13BE-4D39-9CF6-528C596043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8266-C5BE-4695-8FB6-233B464C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770D4BF-8849-4C6C-9371-F0547280B7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EFBAB04A-452F-4FF1-BA74-234B67DE48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2AB1B20-4D1D-4BFB-B245-E68BA0ADE6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EB777A1B-50E1-4FA5-A642-697FFAA994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D141A401-5ED2-407C-8AE8-AB5C612CA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EF8CC967-95E0-46EA-812B-FAFD3709E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E354349-090F-4CEC-906B-3750C344F7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EF38D1E-8E53-4D7A-BD32-5C45A82E2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2ADCD6F-1857-4CDB-A73F-1C95D14E00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E32FEE9D-FF2D-4097-9431-7986433792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3478-E972-4669-BFAF-95DF8D2C4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DBEE3B9-988F-4FA2-9E40-22927E262A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01E5CA2C-B924-4663-9838-4D4595C1C9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97AD4581-701C-488A-8C90-E536A2F03D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8DA1797-9974-4DDB-9D1B-5F639ED570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1521F68-A120-4896-AC29-85E888E567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E427727-EFBA-49E2-B54B-94C5CF25BA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2334829-7E61-4759-B432-D1535DBD09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1106E22-134C-4D09-A41D-F4165183C5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323AF3E-8922-441E-9B24-C8820E7985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784BFD5-5A47-4440-8F34-2F7175640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E8918B-088A-475F-8F12-C6EFE9C2F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44861-7808-49D8-AC79-90DF2244C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211506D-243B-4BDA-9321-5E3EE59BB6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D9BCC14-2201-4CC9-B6E1-2F2E9835D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902E800-1393-49DF-B059-208D150E06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DBA5E4B-523F-42D8-BAE0-BE99474794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0BA32CE-E071-4C93-BB0D-0359B50391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1CF5318-B8B5-43B0-9AA6-BF76D345AC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DED3014-B394-42DA-8990-8E59A37A6D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88275D2-AB72-491E-9079-2E1873BE87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641794A-2266-4F4E-92F7-863D9F2D9E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54C94DA-BB51-4DFD-9514-50837C6F89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79DB0-D73D-499F-8085-8F08EE60E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6CB0955-3B79-4317-83DD-1523CB7A7B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CFB8DBC-2FCA-44AC-9FF2-435FD2F98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0C14B78-7982-4EA0-8FA3-4B08E7F04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D0E6D30-07E0-401D-BBAD-606F566C0A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21B8D3F-F863-4462-A686-6B741BDCD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6432F95-C96D-44F6-BAF1-CE17E98338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17AC31B-B977-4E42-81D9-4BDB8D650D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419CFB8-6ABB-4CB7-A719-A203A8B4A8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8F1F1B3-54DC-4705-AB2E-35BE728D2A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CA606AD-4CCD-41EB-AC79-63FC968C0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20AB7-5BB1-4F24-A538-57C7B4758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1B57D3A-2EF4-4099-BBC8-B349D20154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83EFA71-F5FC-4540-B514-23D262C3E8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3B8597C-A50F-4D90-99A1-E7C7CE1677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147146C-F417-41F3-8180-3FF090B8F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A3D69E1-CB9C-470F-A7DE-792C935F0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CEB26F0-44A9-428E-8862-9A04E47639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E3E4AA4-15C0-49CC-ADC9-870094395D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29700D4-FE85-4384-80A2-BBE6715859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E3F68CD-8116-4ACB-8B7F-C0AFA8E2A9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CD52D6CF-5710-49AE-9C99-39006F6EE89E}"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A800A-5C1C-41C4-B0FA-98A62DF1E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D27255F3-8F6F-4B24-818E-2594F48D8D3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71CBDEAE-0B5F-4C55-B095-F2BA58EEC49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DE4EA5DE-2C4A-4FB1-84F8-1EC50DA46EB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81367B83-A945-4B39-9A7C-BA43C8923BA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F418CCE5-59ED-4A60-86E9-92BE26D89DF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8A23A695-1102-432C-8301-A92E2F61548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40D5A4A7-84D5-4982-B925-FD83962AEBD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3F03FF0C-6E19-47B2-B2B1-E696D885AA2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20FE4F33-158B-4818-A6EE-FC9BDC5E77D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443F67BC-704F-4B2B-A7D1-554730ACF7A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F6EBB-9BF2-4C21-B30F-89950F3B0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DD99FF4E-76DA-4806-9D5E-CE757AFA7DA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C7FCD51C-AF6E-4D9A-AF4E-4767861F858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BD01B93-A630-4BE5-9B4B-5840C902766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6AB0EA5-7747-41EF-AF45-B312EC737A2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C94D56D-6322-4FD0-BE88-2B612CE64C4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27BE2E0-E6CA-4148-B9E5-7D2AD9847D1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2031105-D549-41CF-921C-92808798FC2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5423BA8-1EC2-43B3-97D3-39C6112A3F5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635A83A-D62A-4512-84B3-5CB1E3D9DFB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7CF9E30-1E0C-4F43-9DD7-73DB774310C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3BC22DE-77A9-44FC-9606-3D936EEB85F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73D4BD37-DA98-4467-B0D4-1B5F294E7C9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2BEE39C-D07D-441D-9D77-4858240A5D8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CE1E93BE-1505-4B43-ACEB-718629DC2F60}"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8A6F8600-3EB3-4EE1-9589-98B11D5C10D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1920B224-1EA8-45DB-A9CB-166B0F9013A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EC0C3578-C87C-4B90-BEAF-3742FCD789B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612816EC-E66C-4736-A871-FC06CC3E5B0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00373148-F1D5-4851-8530-FA4230197B0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E37264A2-D9F5-4065-9856-C932C0A9344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3CF4E3A-020E-4419-92A0-CFA9896CD66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B982D0BA-C2E0-447A-B662-75D963946D0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DA0D6416-CFF2-4949-84F2-F3CBBFC9C23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B34D795A-A0D9-4C0B-8D83-2DDDFB39F99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DF9CBB5B-B2EB-41EF-9DA8-D2ECDB69D0D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0"/>
          </p:nvPr>
        </p:nvSpPr>
        <p:spPr/>
        <p:txBody>
          <a:bodyPr/>
          <a:p>
            <a:fld id="{A886C503-6722-43DF-ACD7-61D771DF6E9E}"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D802A5B2-86FE-4A56-8CC8-6EFB5229083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0"/>
          </p:nvPr>
        </p:nvSpPr>
        <p:spPr/>
        <p:txBody>
          <a:bodyPr/>
          <a:p>
            <a:fld id="{FB564A68-A9D4-42D0-B7C7-6A6315216AF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5C9843B9-2513-4DC0-A205-D41B99F2990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DEFBA32F-5A9F-4139-B0BE-B0F02399B1A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0"/>
          </p:nvPr>
        </p:nvSpPr>
        <p:spPr/>
        <p:txBody>
          <a:bodyPr/>
          <a:p>
            <a:fld id="{E1D20177-1706-43AC-AB76-560BC1F44AB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522D6172-6610-4CBB-BFE9-EB46EAEF077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40AB7D04-9C5E-408D-A9A9-E5343C4D4D8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0"/>
          </p:nvPr>
        </p:nvSpPr>
        <p:spPr/>
        <p:txBody>
          <a:bodyPr/>
          <a:p>
            <a:fld id="{65A51884-9288-4F81-BD8B-E9117C2CE1F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0"/>
          </p:nvPr>
        </p:nvSpPr>
        <p:spPr/>
        <p:txBody>
          <a:bodyPr/>
          <a:p>
            <a:fld id="{7372CAB9-6C77-4C5A-874C-A9F049C7166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0"/>
          </p:nvPr>
        </p:nvSpPr>
        <p:spPr/>
        <p:txBody>
          <a:bodyPr/>
          <a:p>
            <a:fld id="{14B85585-8B57-4AEC-9526-9DE0F516D5F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8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0"/>
          </p:nvPr>
        </p:nvSpPr>
        <p:spPr/>
        <p:txBody>
          <a:bodyPr/>
          <a:p>
            <a:fld id="{8940C98B-548A-40AC-93C4-343042CE481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335D22BD-D104-47A7-95A0-BB9EF023D61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50CF21B-20FC-45F3-93E9-AAB442746F1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274B36B-1E37-49C8-8073-CB2113940CA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814C21D-297A-4096-93F5-035BB5BA721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5BF0109-0CA3-4144-A2BB-36E5090B35F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33DF38E-CB4F-4641-A114-481289D04D3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521C242-7109-4131-B20D-DE61E66CE43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B88435B-4DF4-4587-B4FE-25FFE118D0E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A6CABC7-DF22-48B9-8BA5-E9C3CCF3C16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1F2579A-C88C-4E14-8E60-A356622B1EF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3212EA9-250C-4780-BD88-99A613B639A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A143077-ED06-43BE-8020-A46B46DF73C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75496638-DC8D-4622-B95D-74A8A388C2F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834731F-83D3-416A-BAF3-880BA3A628C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2C8859E-A870-4886-ADEC-80CC9EAFA77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882E446-185D-4C45-A36F-79693EF0EA2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3230EE5-3E40-4B76-AA4F-FA11897CA0D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8BF71B8-8E92-48FD-AF50-37DCC38CA1E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08A0CAF-72ED-4D09-AFA9-AB98BB05DF3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4EB85A8-C56C-4DE9-BB77-DD82C787F85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A510ADB-EEF4-439A-8D03-3A6393E5C09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EC35101-4AF5-4EA4-B440-AE561B60292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8C1D15A-9587-4B1B-9AFF-3331114DF35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F3AAB8-3383-4BCA-8070-140C9AA57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D3E5AE84-7CF4-46CF-A562-C94AB5ACEBE3}"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F45903-FE61-4CFA-A540-0610AE1623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BE732-31B7-4730-A66D-7A3B8DC7B1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F9FBE-9B7E-4BC0-B627-B02CE4FE4F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8C8C39-5B26-46B1-9E8D-0D3B1A48E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90C2A-0B70-442C-BF6B-6495B8CD3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6630F-4A4F-4806-96E2-39EB9556B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CAD99-B60D-4352-B288-41853175E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EC3A3-FB33-4855-B928-983499840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90F27-CF2E-4F71-8C76-873A414F9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06781-8874-46A4-9A8C-781DD7196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4C445-ED33-4F43-BA97-1118FF0C3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74AFEC-AE3A-4D8E-8461-0F47B4722E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203D7-62B4-4648-9C7C-270A818A5B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8DC109-17D6-4F1E-8FD5-E0E0ED3952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3D8B27-F6A5-48DA-9326-552222C6D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1DB2B-0F6C-41DF-B210-F2693F5C9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F0046-EDE4-4B63-B22E-236636966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12A62-13F6-4205-8CC3-A3FFA2C8E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33BF0-1BFE-4253-9F98-BD6E74305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52F21-18C1-47C3-9FC5-1186D146C8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61D87-30AA-4018-B548-013868349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F7A19-8227-4BA4-8F94-75717DE76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6FE1E-27A5-4AC6-824B-E3DA2C1E1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F78AFB-9AC1-4633-B738-CE94AA04E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427FA3-6F47-44DF-B163-FC5099460F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0FF253-FCEE-43AB-BDE7-E1130CD76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7F36A-F230-4B80-B620-2A28D69EC9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842B92-3213-4071-A237-3579B3D3E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7FFE87-90A8-425D-9FE2-EBDC94F95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BF7277-990F-49ED-BBC1-A18FFD63B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992B5C0-73CA-4584-87ED-88053CB61E3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17A51D0-C089-46B4-850E-A3A8ED017F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B6C91A-C1C4-4264-9151-3EB939411424}"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2282-CE81-426A-9B8E-088818E9C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651B-B023-4403-85FA-8C2C4A1B2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7" name="PlaceHolder 3"/>
          <p:cNvSpPr>
            <a:spLocks noGrp="1"/>
          </p:cNvSpPr>
          <p:nvPr>
            <p:ph type="dt" idx="2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408" name="PlaceHolder 4"/>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4CD0-ECFC-41C2-B8E9-0C814D9B22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09" name="PlaceHolder 5"/>
          <p:cNvSpPr>
            <a:spLocks noGrp="1"/>
          </p:cNvSpPr>
          <p:nvPr>
            <p:ph type="ftr" idx="2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64" name="PlaceHolder 3"/>
          <p:cNvSpPr>
            <a:spLocks noGrp="1"/>
          </p:cNvSpPr>
          <p:nvPr>
            <p:ph type="dt" idx="2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ate</a:t>
            </a:r>
            <a:endParaRPr b="0" lang="en-US" sz="1200" spc="-1" strike="noStrike">
              <a:solidFill>
                <a:srgbClr val="000000"/>
              </a:solidFill>
              <a:latin typeface="Times New Roman"/>
            </a:endParaRPr>
          </a:p>
        </p:txBody>
      </p:sp>
      <p:sp>
        <p:nvSpPr>
          <p:cNvPr id="465" name="PlaceHolder 4"/>
          <p:cNvSpPr>
            <a:spLocks noGrp="1"/>
          </p:cNvSpPr>
          <p:nvPr>
            <p:ph type="ftr" idx="24"/>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Meeting Title (optional)</a:t>
            </a:r>
            <a:endParaRPr b="0" lang="en-US" sz="1200" spc="-1" strike="noStrike">
              <a:solidFill>
                <a:srgbClr val="000000"/>
              </a:solidFill>
              <a:latin typeface="Times New Roman"/>
            </a:endParaRPr>
          </a:p>
        </p:txBody>
      </p:sp>
      <p:sp>
        <p:nvSpPr>
          <p:cNvPr id="466" name="PlaceHolder 5"/>
          <p:cNvSpPr>
            <a:spLocks noGrp="1"/>
          </p:cNvSpPr>
          <p:nvPr>
            <p:ph type="sldNum" idx="2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4103-34D6-4AB0-9D4D-E26593F17B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3" name="PlaceHolder 3"/>
          <p:cNvSpPr>
            <a:spLocks noGrp="1"/>
          </p:cNvSpPr>
          <p:nvPr>
            <p:ph type="dt" idx="2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14" name="PlaceHolder 4"/>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3DF9-56E8-43B7-9AEB-122BD35E7F2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5" name="PlaceHolder 5"/>
          <p:cNvSpPr>
            <a:spLocks noGrp="1"/>
          </p:cNvSpPr>
          <p:nvPr>
            <p:ph type="ftr" idx="2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2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traight Connector 24"/>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1" name="PlaceHolder 3"/>
          <p:cNvSpPr>
            <a:spLocks noGrp="1"/>
          </p:cNvSpPr>
          <p:nvPr>
            <p:ph type="dt" idx="2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562" name="PlaceHolder 4"/>
          <p:cNvSpPr>
            <a:spLocks noGrp="1"/>
          </p:cNvSpPr>
          <p:nvPr>
            <p:ph type="sldNum" idx="3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9B99-5AEE-4E4F-BAB8-68F81A1A64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3" name="PlaceHolder 5"/>
          <p:cNvSpPr>
            <a:spLocks noGrp="1"/>
          </p:cNvSpPr>
          <p:nvPr>
            <p:ph type="ftr" idx="3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Straight Connector 1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traight Connector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0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09" name="PlaceHolder 3"/>
          <p:cNvSpPr>
            <a:spLocks noGrp="1"/>
          </p:cNvSpPr>
          <p:nvPr>
            <p:ph type="dt" idx="3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610" name="PlaceHolder 4"/>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FBB3-4698-4756-A6EE-BC25300926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1" name="PlaceHolder 5"/>
          <p:cNvSpPr>
            <a:spLocks noGrp="1"/>
          </p:cNvSpPr>
          <p:nvPr>
            <p:ph type="ftr" idx="3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6" name="PlaceHolder 3"/>
          <p:cNvSpPr>
            <a:spLocks noGrp="1"/>
          </p:cNvSpPr>
          <p:nvPr>
            <p:ph type="dt" idx="35"/>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667" name="PlaceHolder 4"/>
          <p:cNvSpPr>
            <a:spLocks noGrp="1"/>
          </p:cNvSpPr>
          <p:nvPr>
            <p:ph type="ftr" idx="36"/>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668" name="PlaceHolder 5"/>
          <p:cNvSpPr>
            <a:spLocks noGrp="1"/>
          </p:cNvSpPr>
          <p:nvPr>
            <p:ph type="sldNum" idx="37"/>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7C3F-8E9E-4FD4-975B-1894338F85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3" name="PlaceHolder 3"/>
          <p:cNvSpPr>
            <a:spLocks noGrp="1"/>
          </p:cNvSpPr>
          <p:nvPr>
            <p:ph type="dt" idx="3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714" name="PlaceHolder 4"/>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2573-1728-4D84-9721-3F29CF39A7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15" name="PlaceHolder 5"/>
          <p:cNvSpPr>
            <a:spLocks noGrp="1"/>
          </p:cNvSpPr>
          <p:nvPr>
            <p:ph type="ftr" idx="4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75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7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770" name="PlaceHolder 3"/>
          <p:cNvSpPr>
            <a:spLocks noGrp="1"/>
          </p:cNvSpPr>
          <p:nvPr>
            <p:ph type="dt" idx="41"/>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1/9/2018</a:t>
            </a:r>
            <a:endParaRPr b="0" lang="en-US" sz="1200" spc="-1" strike="noStrike">
              <a:solidFill>
                <a:srgbClr val="000000"/>
              </a:solidFill>
              <a:latin typeface="Times New Roman"/>
            </a:endParaRPr>
          </a:p>
        </p:txBody>
      </p:sp>
      <p:sp>
        <p:nvSpPr>
          <p:cNvPr id="771" name="PlaceHolder 4"/>
          <p:cNvSpPr>
            <a:spLocks noGrp="1"/>
          </p:cNvSpPr>
          <p:nvPr>
            <p:ph type="ftr" idx="42"/>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December TAC &amp; Board of Directors Update </a:t>
            </a:r>
            <a:endParaRPr b="0" lang="en-US" sz="1200" spc="-1" strike="noStrike">
              <a:solidFill>
                <a:srgbClr val="000000"/>
              </a:solidFill>
              <a:latin typeface="Times New Roman"/>
            </a:endParaRPr>
          </a:p>
        </p:txBody>
      </p:sp>
      <p:sp>
        <p:nvSpPr>
          <p:cNvPr id="772" name="PlaceHolder 5"/>
          <p:cNvSpPr>
            <a:spLocks noGrp="1"/>
          </p:cNvSpPr>
          <p:nvPr>
            <p:ph type="sldNum" idx="43"/>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D834-7EC1-46F4-B04F-5BEB085EBA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17" name="PlaceHolder 3"/>
          <p:cNvSpPr>
            <a:spLocks noGrp="1"/>
          </p:cNvSpPr>
          <p:nvPr>
            <p:ph type="dt" idx="4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18" name="PlaceHolder 4"/>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19" name="PlaceHolder 5"/>
          <p:cNvSpPr>
            <a:spLocks noGrp="1"/>
          </p:cNvSpPr>
          <p:nvPr>
            <p:ph type="sldNum" idx="4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45BD-BB11-41FC-AD08-4212EF5E79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8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864" name="PlaceHolder 3"/>
          <p:cNvSpPr>
            <a:spLocks noGrp="1"/>
          </p:cNvSpPr>
          <p:nvPr>
            <p:ph type="dt" idx="4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865" name="PlaceHolder 4"/>
          <p:cNvSpPr>
            <a:spLocks noGrp="1"/>
          </p:cNvSpPr>
          <p:nvPr>
            <p:ph type="ftr" idx="4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866" name="PlaceHolder 5"/>
          <p:cNvSpPr>
            <a:spLocks noGrp="1"/>
          </p:cNvSpPr>
          <p:nvPr>
            <p:ph type="sldNum" idx="4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D55-EC57-4E2E-81D4-7F1CC7131C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99939-A39E-4495-AD7A-CE9FF30028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1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11" name="PlaceHolder 3"/>
          <p:cNvSpPr>
            <a:spLocks noGrp="1"/>
          </p:cNvSpPr>
          <p:nvPr>
            <p:ph type="dt" idx="5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12" name="PlaceHolder 4"/>
          <p:cNvSpPr>
            <a:spLocks noGrp="1"/>
          </p:cNvSpPr>
          <p:nvPr>
            <p:ph type="sldNum" idx="5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D0DF-2E04-46BB-BD20-4493DA2973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3" name="PlaceHolder 5"/>
          <p:cNvSpPr>
            <a:spLocks noGrp="1"/>
          </p:cNvSpPr>
          <p:nvPr>
            <p:ph type="ftr" idx="5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58" name="PlaceHolder 3"/>
          <p:cNvSpPr>
            <a:spLocks noGrp="1"/>
          </p:cNvSpPr>
          <p:nvPr>
            <p:ph type="dt" idx="5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959" name="PlaceHolder 4"/>
          <p:cNvSpPr>
            <a:spLocks noGrp="1"/>
          </p:cNvSpPr>
          <p:nvPr>
            <p:ph type="ftr" idx="5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960" name="PlaceHolder 5"/>
          <p:cNvSpPr>
            <a:spLocks noGrp="1"/>
          </p:cNvSpPr>
          <p:nvPr>
            <p:ph type="sldNum" idx="5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D45E-656C-4752-AFA3-ABA08F2AEA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06" name="PlaceHolder 3"/>
          <p:cNvSpPr>
            <a:spLocks noGrp="1"/>
          </p:cNvSpPr>
          <p:nvPr>
            <p:ph type="dt" idx="5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07" name="PlaceHolder 4"/>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A266-7CD8-4C07-BEC0-2570403EBA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08" name="PlaceHolder 5"/>
          <p:cNvSpPr>
            <a:spLocks noGrp="1"/>
          </p:cNvSpPr>
          <p:nvPr>
            <p:ph type="ftr" idx="5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5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54" name="PlaceHolder 3"/>
          <p:cNvSpPr>
            <a:spLocks noGrp="1"/>
          </p:cNvSpPr>
          <p:nvPr>
            <p:ph type="dt" idx="5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055" name="PlaceHolder 4"/>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F4A0-E2FA-4FD8-8C03-F448184F7E6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56" name="PlaceHolder 5"/>
          <p:cNvSpPr>
            <a:spLocks noGrp="1"/>
          </p:cNvSpPr>
          <p:nvPr>
            <p:ph type="ftr" idx="6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0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01" name="PlaceHolder 3"/>
          <p:cNvSpPr>
            <a:spLocks noGrp="1"/>
          </p:cNvSpPr>
          <p:nvPr>
            <p:ph type="dt" idx="6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02" name="PlaceHolder 4"/>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03" name="PlaceHolder 5"/>
          <p:cNvSpPr>
            <a:spLocks noGrp="1"/>
          </p:cNvSpPr>
          <p:nvPr>
            <p:ph type="sldNum" idx="6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0A8D-24CE-4CCB-9AAE-39CAA66907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8" name="PlaceHolder 3"/>
          <p:cNvSpPr>
            <a:spLocks noGrp="1"/>
          </p:cNvSpPr>
          <p:nvPr>
            <p:ph type="dt" idx="6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1/9/2018</a:t>
            </a:r>
            <a:endParaRPr b="0" lang="en-US" sz="1200" spc="-1" strike="noStrike">
              <a:solidFill>
                <a:srgbClr val="000000"/>
              </a:solidFill>
              <a:latin typeface="Times New Roman"/>
            </a:endParaRPr>
          </a:p>
        </p:txBody>
      </p:sp>
      <p:sp>
        <p:nvSpPr>
          <p:cNvPr id="1149" name="PlaceHolder 4"/>
          <p:cNvSpPr>
            <a:spLocks noGrp="1"/>
          </p:cNvSpPr>
          <p:nvPr>
            <p:ph type="ftr" idx="66"/>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ecember TAC &amp; Board of Directors Update </a:t>
            </a:r>
            <a:endParaRPr b="0" lang="en-US" sz="1200" spc="-1" strike="noStrike">
              <a:solidFill>
                <a:srgbClr val="000000"/>
              </a:solidFill>
              <a:latin typeface="Times New Roman"/>
            </a:endParaRPr>
          </a:p>
        </p:txBody>
      </p:sp>
      <p:sp>
        <p:nvSpPr>
          <p:cNvPr id="1150" name="PlaceHolder 5"/>
          <p:cNvSpPr>
            <a:spLocks noGrp="1"/>
          </p:cNvSpPr>
          <p:nvPr>
            <p:ph type="sldNum" idx="6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B9A-12FF-4A2E-ADDB-14F92E0084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6"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127"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12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7808-D4FC-49F0-9618-F584C0DA7A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2"/>
          <p:cNvSpPr/>
          <p:nvPr/>
        </p:nvSpPr>
        <p:spPr>
          <a:xfrm>
            <a:off x="0" y="6732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5"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1/9/2018</a:t>
            </a:r>
            <a:endParaRPr b="0" lang="en-US" sz="1200" spc="-1" strike="noStrike">
              <a:solidFill>
                <a:srgbClr val="000000"/>
              </a:solidFill>
              <a:latin typeface="Times New Roman"/>
            </a:endParaRPr>
          </a:p>
        </p:txBody>
      </p:sp>
      <p:sp>
        <p:nvSpPr>
          <p:cNvPr id="176"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December TAC &amp; Board of Directors Update </a:t>
            </a:r>
            <a:endParaRPr b="0" lang="en-US" sz="1200" spc="-1" strike="noStrike">
              <a:solidFill>
                <a:srgbClr val="000000"/>
              </a:solidFill>
              <a:latin typeface="Times New Roman"/>
            </a:endParaRPr>
          </a:p>
        </p:txBody>
      </p:sp>
      <p:sp>
        <p:nvSpPr>
          <p:cNvPr id="17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7F3C-72C8-4FAE-96B3-6E3133C3EEC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2"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23"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1" name="Picture 11" descr=""/>
          <p:cNvPicPr/>
          <p:nvPr/>
        </p:nvPicPr>
        <p:blipFill>
          <a:blip r:embed="rId2"/>
          <a:stretch/>
        </p:blipFill>
        <p:spPr>
          <a:xfrm>
            <a:off x="212760" y="0"/>
            <a:ext cx="8718480" cy="13716000"/>
          </a:xfrm>
          <a:prstGeom prst="rect">
            <a:avLst/>
          </a:prstGeom>
          <a:ln w="0">
            <a:noFill/>
          </a:ln>
        </p:spPr>
      </p:pic>
      <p:sp>
        <p:nvSpPr>
          <p:cNvPr id="262" name="PlaceHolder 1"/>
          <p:cNvSpPr>
            <a:spLocks noGrp="1"/>
          </p:cNvSpPr>
          <p:nvPr>
            <p:ph type="ftr" idx="1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0" name="Picture 11" descr=""/>
          <p:cNvPicPr/>
          <p:nvPr/>
        </p:nvPicPr>
        <p:blipFill>
          <a:blip r:embed="rId2"/>
          <a:stretch/>
        </p:blipFill>
        <p:spPr>
          <a:xfrm>
            <a:off x="212760" y="0"/>
            <a:ext cx="8718480" cy="13716000"/>
          </a:xfrm>
          <a:prstGeom prst="rect">
            <a:avLst/>
          </a:prstGeom>
          <a:ln w="0">
            <a:noFill/>
          </a:ln>
        </p:spPr>
      </p:pic>
      <p:sp>
        <p:nvSpPr>
          <p:cNvPr id="301"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7F974-326B-4959-8E70-D6C209198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ftr" idx="1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14"/>
          <p:cNvSpPr/>
          <p:nvPr/>
        </p:nvSpPr>
        <p:spPr>
          <a:xfrm>
            <a:off x="0" y="1143000"/>
            <a:ext cx="9144000" cy="0"/>
          </a:xfrm>
          <a:prstGeom prst="line">
            <a:avLst/>
          </a:prstGeom>
          <a:ln w="57240">
            <a:solidFill>
              <a:srgbClr val="d261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8" name="PlaceHolder 3"/>
          <p:cNvSpPr>
            <a:spLocks noGrp="1"/>
          </p:cNvSpPr>
          <p:nvPr>
            <p:ph type="dt" idx="1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Date</a:t>
            </a:r>
            <a:endParaRPr b="0" lang="en-US" sz="1200" spc="-1" strike="noStrike">
              <a:solidFill>
                <a:srgbClr val="000000"/>
              </a:solidFill>
              <a:latin typeface="Times New Roman"/>
            </a:endParaRPr>
          </a:p>
        </p:txBody>
      </p:sp>
      <p:sp>
        <p:nvSpPr>
          <p:cNvPr id="359" name="PlaceHolder 4"/>
          <p:cNvSpPr>
            <a:spLocks noGrp="1"/>
          </p:cNvSpPr>
          <p:nvPr>
            <p:ph type="ftr" idx="18"/>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Meeting Title (optional)</a:t>
            </a:r>
            <a:endParaRPr b="0" lang="en-US" sz="1200" spc="-1" strike="noStrike">
              <a:solidFill>
                <a:srgbClr val="000000"/>
              </a:solidFill>
              <a:latin typeface="Times New Roman"/>
            </a:endParaRPr>
          </a:p>
        </p:txBody>
      </p:sp>
      <p:sp>
        <p:nvSpPr>
          <p:cNvPr id="360" name="PlaceHolder 5"/>
          <p:cNvSpPr>
            <a:spLocks noGrp="1"/>
          </p:cNvSpPr>
          <p:nvPr>
            <p:ph type="sldNum" idx="1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C036-3BB4-4505-9568-0560E174EF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286000" y="3123720"/>
            <a:ext cx="68580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5f6d"/>
                </a:solidFill>
                <a:latin typeface="Century Schoolbook"/>
              </a:rPr>
              <a:t>FEBRUARY 5, 2018</a:t>
            </a:r>
            <a:br>
              <a:rPr sz="1600"/>
            </a:br>
            <a:br>
              <a:rPr sz="1000"/>
            </a:br>
            <a:r>
              <a:rPr b="1" lang="en-US" sz="2800" spc="-1" strike="noStrike">
                <a:solidFill>
                  <a:srgbClr val="575f6d"/>
                </a:solidFill>
                <a:latin typeface="Century Schoolbook"/>
              </a:rPr>
              <a:t>REVIEW OF RMS &amp; COPS FUNCTIONS</a:t>
            </a:r>
            <a:endParaRPr b="0" lang="en-US" sz="2800" spc="-1" strike="noStrike">
              <a:solidFill>
                <a:srgbClr val="575f6d"/>
              </a:solidFill>
              <a:latin typeface="Century Schoolbook"/>
            </a:endParaRPr>
          </a:p>
        </p:txBody>
      </p:sp>
      <p:sp>
        <p:nvSpPr>
          <p:cNvPr id="1195"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Rebecca Zerw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96" name="Slide Number Placeholder 7"/>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43F8-FAE8-4A42-9C3A-E3F891EE91C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TAIL MARKET SUBCOMMITTEE (RMS) </a:t>
            </a:r>
            <a:endParaRPr b="0" lang="en-US" sz="3000" spc="-1" strike="noStrike">
              <a:solidFill>
                <a:srgbClr val="575f6d"/>
              </a:solidFill>
              <a:latin typeface="Century Schoolbook"/>
            </a:endParaRPr>
          </a:p>
        </p:txBody>
      </p:sp>
      <p:sp>
        <p:nvSpPr>
          <p:cNvPr id="119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FF13-A7B7-4140-A475-FBD29984B56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9"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txBox="1"/>
          <p:nvPr/>
        </p:nvSpPr>
        <p:spPr>
          <a:xfrm>
            <a:off x="456840" y="990360"/>
            <a:ext cx="7467480" cy="54068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RMS serves as a forum for issue resolution in regards to retail market matters directly affecting ERCOT and ERCOT protocol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MS monitors Public Utility Commission (PUCT) rulings as they apply to retail markets and retail market participants and ensures that PUCT requirements are reflected in the Retail Market Guides, protocols, and Texas Standard Electronic Transactions (Texas SET).</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and one task force report to RM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tail Market Guide</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SET Guides and Documentation</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ata Transport Guides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exas Market Test Plan</a:t>
            </a:r>
            <a:endParaRPr b="0" lang="en-US" sz="1800" spc="-1" strike="noStrike">
              <a:solidFill>
                <a:srgbClr val="000000"/>
              </a:solidFill>
              <a:latin typeface="Century Schoolbook"/>
            </a:endParaRPr>
          </a:p>
          <a:p>
            <a:pPr lvl="1" marL="63972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RMS WORKING GROUPS</a:t>
            </a:r>
            <a:endParaRPr b="0" lang="en-US" sz="2900" spc="-1" strike="noStrike">
              <a:solidFill>
                <a:srgbClr val="575f6d"/>
              </a:solidFill>
              <a:latin typeface="Century Schoolbook"/>
            </a:endParaRPr>
          </a:p>
        </p:txBody>
      </p:sp>
      <p:sp>
        <p:nvSpPr>
          <p:cNvPr id="12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997B-8F4F-42BC-8FC5-340A0CF2963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3"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4" name="Content Placeholder 1" descr=""/>
          <p:cNvPicPr/>
          <p:nvPr/>
        </p:nvPicPr>
        <p:blipFill>
          <a:blip r:embed="rId1"/>
          <a:stretch/>
        </p:blipFill>
        <p:spPr>
          <a:xfrm>
            <a:off x="444600" y="890640"/>
            <a:ext cx="7493040" cy="55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COMMERCIAL OPERATIONS SUBCOMMITTEE (COPS)</a:t>
            </a:r>
            <a:endParaRPr b="0" lang="en-US" sz="2400" spc="-1" strike="noStrike">
              <a:solidFill>
                <a:srgbClr val="575f6d"/>
              </a:solidFill>
              <a:latin typeface="Century Schoolbook"/>
            </a:endParaRPr>
          </a:p>
        </p:txBody>
      </p:sp>
      <p:sp>
        <p:nvSpPr>
          <p:cNvPr id="12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354A-206D-458D-B0F5-89825E0DF50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07" name="Straight Connector 7"/>
          <p:cNvSpPr/>
          <p:nvPr/>
        </p:nvSpPr>
        <p:spPr>
          <a:xfrm>
            <a:off x="457200" y="838080"/>
            <a:ext cx="746748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txBox="1"/>
          <p:nvPr/>
        </p:nvSpPr>
        <p:spPr>
          <a:xfrm>
            <a:off x="456840" y="99072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urrently, COPS addresses the processes through which ERCOT market data is translated into financial settlements. COPS also addresses the market’s overall needs for data extracts, delivery and present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mmercial operations include the application of load profiles, data aggregation, data extract variances; congestion revenue rights settlements; qualified scheduling entity settlements; invoicing; and dispute resolu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ree working groups report to COP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uides and Other Binding Documents:</a:t>
            </a:r>
            <a:endParaRPr b="0" lang="en-US" sz="21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mmercial Operations Market Guide</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d Profiling Guide </a:t>
            </a:r>
            <a:endParaRPr b="0" lang="en-US" sz="1800" spc="-1" strike="noStrike">
              <a:solidFill>
                <a:srgbClr val="000000"/>
              </a:solidFill>
              <a:latin typeface="Century Schoolbook"/>
            </a:endParaRPr>
          </a:p>
          <a:p>
            <a:pPr lvl="1" marL="639720" indent="-272880">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Nodal Settlements Handbook</a:t>
            </a:r>
            <a:endParaRPr b="0" lang="en-US" sz="18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5f6d"/>
                </a:solidFill>
                <a:latin typeface="Century Schoolbook"/>
              </a:rPr>
              <a:t>COPS WORKING GROUPS</a:t>
            </a:r>
            <a:endParaRPr b="0" lang="en-US" sz="2900" spc="-1" strike="noStrike">
              <a:solidFill>
                <a:srgbClr val="575f6d"/>
              </a:solidFill>
              <a:latin typeface="Century Schoolbook"/>
            </a:endParaRPr>
          </a:p>
        </p:txBody>
      </p:sp>
      <p:sp>
        <p:nvSpPr>
          <p:cNvPr id="12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8814-689A-40CE-955C-A9C92BEE602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11" name="Straight Connector 7"/>
          <p:cNvSpPr/>
          <p:nvPr/>
        </p:nvSpPr>
        <p:spPr>
          <a:xfrm>
            <a:off x="457200" y="838080"/>
            <a:ext cx="7543800" cy="0"/>
          </a:xfrm>
          <a:prstGeom prst="line">
            <a:avLst/>
          </a:prstGeom>
          <a:ln w="1260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2" name="Content Placeholder 1" descr=""/>
          <p:cNvPicPr/>
          <p:nvPr/>
        </p:nvPicPr>
        <p:blipFill>
          <a:blip r:embed="rId1"/>
          <a:stretch/>
        </p:blipFill>
        <p:spPr>
          <a:xfrm>
            <a:off x="444600" y="914400"/>
            <a:ext cx="8699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QUESTIONS? </a:t>
            </a:r>
            <a:endParaRPr b="0" lang="en-US" sz="3000" spc="-1" strike="noStrike">
              <a:solidFill>
                <a:srgbClr val="575f6d"/>
              </a:solidFill>
              <a:latin typeface="Century Schoolbook"/>
            </a:endParaRPr>
          </a:p>
        </p:txBody>
      </p:sp>
      <p:sp>
        <p:nvSpPr>
          <p:cNvPr id="12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A619-0ABF-419C-9A6D-91A0A39F669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15" name="Picture 2" descr=""/>
          <p:cNvPicPr/>
          <p:nvPr/>
        </p:nvPicPr>
        <p:blipFill>
          <a:blip r:embed="rId1"/>
          <a:stretch/>
        </p:blipFill>
        <p:spPr>
          <a:xfrm>
            <a:off x="2133720" y="1295280"/>
            <a:ext cx="48765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Zerwas (Reed), Rebecca</cp:lastModifiedBy>
  <cp:lastPrinted>2016-10-21T15:37:14Z</cp:lastPrinted>
  <dcterms:modified xsi:type="dcterms:W3CDTF">2018-02-05T02:31:04Z</dcterms:modified>
  <cp:revision>1931</cp:revision>
  <dc:subject/>
  <dc:title>Instructions</dc:title>
</cp:coreProperties>
</file>