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CD88-B8B4-4B48-A102-784F6E737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631F-88C9-4CBB-B94F-4C75F2271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17F8-DE1C-44AA-B878-F4D2109A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A92B-9122-4AF8-B871-231B8570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A832-382F-4AA8-9A16-673CDF21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6282-7A89-4C3A-9D6A-7E4F36E5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1B0C-79E5-491E-B380-678D9CB3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637F-07A0-4831-B8AD-6BD00892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2C2D-7116-46F9-9471-5BE76F97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C487-8EF9-4906-A589-C209AAFD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09B8-5C96-4582-8CB4-5709BE31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3235-BD6B-40D5-9201-1F38EB4E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9A41-06B0-4989-8BA4-CDF2C79F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C9EA-DC4C-47CA-9409-1E6D1954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6224-6AB1-42A7-8ABC-F8854041D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 Rules Back-to-Basics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30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D69A-1B91-499F-A782-E689D01A5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tober 30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ket Rules Back-to-Basics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index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5,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Market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view of COPS and RM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ting Structur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indsay L. Butterfi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Each Segment shall have one Segment vote. Each Rep. participating in the vote must be present. Consumer segment shall receive one vote and shall be equally divided in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ree sub-seg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sidential, Commercial, Industrial) that receive 1/3 of this Consumer Segment v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  Each Standing Rep. (or Alternate or Proxy) shall vote as part of a Segment; Each Segment shall have one Segment vote, except the Consumer Segment which shall ha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.5 Segment vo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e divided into a Fractional Segment of 0.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ail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ily conducted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ministr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urp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orum of Standing Reps. Must particip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nding Rep. shall have one v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ffirmative votes of 8 Standing Rep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ll be the act of the Subcommitt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ail vote can only be initiated by the Chair or Vice-Ch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orum of Standing Representatives must particip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tes are tallied in same manner as a regular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one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Reps. may participate in the meeting via telephone, bu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NOT vo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hall NOT count towards a quor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Reps. may participate in the meet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 vo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telephone, but shall NOT count towards a quor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Comic Sans MS"/>
              </a:rPr>
              <a:t>Questions?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feren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 Reliability Council of Texas Technical Advisory Committee 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index.htm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e will cover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ternates/Prox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oting/Email Votes/Phone V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ing Structure Comparis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x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oting/Email Votes/Phone V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Meetings (RMS/ROS/WM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Quor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1% of the Standing Representatives of the Subcommitte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t least one Standing Representative from each of four Seg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lternates and Prox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ated in writing and sent to ERCO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ve – can vote on member’s behalf and b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unted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xy – can vote on member’s behalf but shall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 counted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RMS/ROS/WM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nding Representative (or Alternate or Proxy) shall vote as part of a Segment; Each Segment shall have one Segment vote, except the Consumer Segment which shall have 1.5 Segment votes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mer Segment shall be equally divided into a Fractional Segment vote of 0.5 for each of the three sub-seg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ct of the Subcommittee requires the majority of the aggregate of the Fractional Segment votes to b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firmative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inimum total of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/3 vote is required for returning to a previously tabled item/stop debate and vote, i.e. call the question, limit or extend debate, waive no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entions/Abs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case of abstentions (or absence of a Standing Member), the fractional vote shall be reallocated equally among the remaining voting members of that Segment; except for the Consumer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Consumer Segment, if no Standing Representative from a sub-segment is present at a meeting, the Consumer Segment vote is allocated equally to the sub-segment(s) that are voting; if a Standing Representative abstains from a vote, the fraction of the Consumer Segment Vote allocated to such representative is NOT included in the vote t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sumer two-step: If Consumer sub-segment not present, reallocate; then, if consumer sub-segment abstains, do NOT realloc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RMS/ROS/WM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mail Vo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mail vote can only be initiated by the Chair or Vice-Chair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quorum of Standing Representatives must participa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 tally is done at the close of two Business Days after notification of the vo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s are tallied in same manner as a regular meetin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hone Vo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ing Representatives may participate in the meeting and vote via telephone, but shall not count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PRS/COP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Quor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least one Standing Representative in each of at least four Seg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lternates and Prox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ated in writing and sent to ERCO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ve – can vote on member’s behalf and b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unted towards a quor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xy – not allowed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PRS/COP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6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o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Segment shall have one Segment vote; The representative of each Voting Entity, present at the meeting and participating in the vote, shall receive an equal fraction of its Segment’s vote, except for the Consumer Segmen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 Segment also receives one Segment vote; however, it shall be equally divided into three sub-segments (Residential, Commercial, and Industrial) that receive 1/3 of the Consumer Segment V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ting Entities include ERCOT Corporate, Associate, and Adjunct Members; Only one representative of each Voting Entity present at the meeting may vote; For the Residential sub-segment, Voting Entities are limited to the Standing Representative or their designated Alternate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v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ct of the Subcommittee requires the majority of the aggregate of the Fractional Segment votes to b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irmative;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um total of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/3 vote is required for returning to a previously tabled item/stop debate and vote, i.e. call the question, limit or extend debate, waive not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360" indent="-396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entions/Abse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e case of abstentions, the Segment vote shall be allocated equally among the Voting Entities casting a vote; except for the Consumer Segment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-396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the Consumer Segment, if no Standing Representative from a sub-segment is present at a meeting, the Consumer Segment vote is allocated equally to the sub-segment(s) that are voting; if a Voting Entity from a sub-segment abstains from a vote, the fraction of the Consumer Segment Vote allocated to such representative is NOT included in the vote ta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34440" indent="-356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sumer two-step: If Consumer sub-segment not present, reallocate; then, if consumer sub-segment abstains, do NOT realloc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5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.  Meetings (PRS/COPS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ail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votes are primarily conducted for administrative purpo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mail vote can only be initiated by the Chair or Vice-Chai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orum of Standing Representatives must particip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anding Representative shall have one vo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ffirmative votes of eight Standing Representatives shall be the act of the Subcommitt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ally is done at the close of two Business Days after notification of the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PRS email vote on a request for Urgent status, the vote tally is done after 48 hour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one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Representatives may participate in the meeting via telephone, but cannot vote and shall not count towards a quor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.  Comparison: COPS vs. RMS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At least one Standing Rep. in each of at least four Seg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  51% of Standing Reps. Of the Subcommitte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least one Standing Rep. from each of four Seg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x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:  Proxy is not allow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:  Proxy can vote on member’s behalf but sha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counted towards quor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oren, Ann</dc:creator>
  <dc:description/>
  <dc:language>en-US</dc:language>
  <cp:lastModifiedBy>LButterfield</cp:lastModifiedBy>
  <dcterms:modified xsi:type="dcterms:W3CDTF">2018-02-05T18:40:00Z</dcterms:modified>
  <cp:revision>71</cp:revision>
  <dc:subject/>
  <dc:title>Instructions</dc:title>
</cp:coreProperties>
</file>