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CFC5-9249-425F-A17C-6B3F74BB8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4D8C-E29E-45DA-BC60-96A3EFD6B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F0C9-7C06-4682-A5EA-D44BEC0D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2E56-7ACF-4A67-88B0-A8A86774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C4A4-6AB8-4BA1-93EB-6330CFD8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137E-5B43-42D4-87C3-95737788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9C19-3998-45D1-90F6-5F928EE6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7F95-F1F1-4FCF-BA79-7DFF8628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43C0-3FE3-4FB3-B18D-5A243D95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3FE2-5110-4391-86FB-6B2AA208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AEBC-24B5-454B-8AF3-0F23C1A6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3D87-CC48-4AB1-AFDA-5CFE1DA6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352C-AEB5-409B-B09B-80A956D8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7388-3416-4FEE-AD2C-0F308ECF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6292-2B20-4D53-AEA2-E333679F9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 Rules Back-to-Basics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30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C646-C2B7-4601-8F47-AB3C3FD64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tober 30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ket Rules Back-to-Basics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index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5,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Market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view of COPS and RM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ting Structur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indsay L. Butterfi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Each Segment shall have one Segment vote. Each Rep. participating in the vote must be present. Consumer segment shall receive one vote and shall be equally divided in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ree sub-seg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sidential, Commercial, Industrial) that receive 1/3 of this Consumer Segment v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  Each Standing Rep. (or Alternate or Proxy) shall vote as part of a Segment; Each Segment shall have one Segment vote, except the Consumer Segment which shall ha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.5 Segment vo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e divided into a Fractional Segment of 0.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ail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ily conducted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ministr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urp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orum of Standing Reps. Must particip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nding Rep. shall have one v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ffirmative votes of 8 Standing Rep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ll be the act of the Subcommitt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ail vote can only be initiated by the Chair or Vice-Ch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orum of Standing Representatives must particip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tes are tallied in same manner as a regular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one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Reps. may participate in the meeting via telephone, bu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NOT vo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hall NOT count towards a quor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Reps. may participate in the meet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 vo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telephone, but shall NOT count towards a quor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Comic Sans MS"/>
              </a:rPr>
              <a:t>Questions?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feren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 Reliability Council of Texas Technical Advisory Committee 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index.htm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e will cover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ternates/Prox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oting/Email Votes/Phone V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ing Structure Comparis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x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oting/Email Votes/Phone V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Meetings (RMS/ROS/WM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Quor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1% of the Standing Representatives of the Subcommitte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t least one Standing Representative from each of four Seg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lternates and Prox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ated in writing and sent to ERCO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ve – can vote on member’s behalf and b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unted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xy – can vote on member’s behalf but shall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 counted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RMS/ROS/WM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nding Representative (or Alternate or Proxy) shall vote as part of a Segment; Each Segment shall have one Segment vote, except the Consumer Segment which shall have 1.5 Segment votes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mer Segment shall be equally divided into a Fractional Segment vote of 0.5 for each of the three sub-seg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ct of the Subcommittee requires the majority of the aggregate of the Fractional Segment votes to b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firmative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inimum total of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/3 vote is required for returning to a previously tabled item/stop debate and vote, i.e. call the question, limit or extend debate, waive no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entions/Abs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case of abstentions (or absence of a Standing Member), the fractional vote shall be reallocated equally among the remaining voting members of that Segment; except for the Consumer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Consumer Segment, if no Standing Representative from a sub-segment is present at a meeting, the Consumer Segment vote is allocated equally to the sub-segment(s) that are voting; if a Standing Representative abstains from a vote, the fraction of the Consumer Segment Vote allocated to such representative is NOT included in the vote t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sumer two-step: If Consumer sub-segment not present, reallocate; then, if consumer sub-segment abstains, do NOT realloc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RMS/ROS/WM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mail Vo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mail vote can only be initiated by the Chair or Vice-Chair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quorum of Standing Representatives must participa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 tally is done at the close of two Business Days after notification of the vo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s are tallied in same manner as a regular meetin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hone Vo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ing Representatives may participate in the meeting and vote via telephone, but shall not count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PRS/COP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Quor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least one Standing Representative in each of at least four Seg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lternates and Prox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ated in writing and sent to ERCO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ve – can vote on member’s behalf and b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unted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xy – not allowed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PRS/COP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6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o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Segment shall have one Segment vote; The representative of each Voting Entity, present at the meeting and participating in the vote, shall receive an equal fraction of its Segment’s vote, except for the Consumer Segmen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 Segment also receives one Segment vote; however, it shall be equally divided into three sub-segments (Residential, Commercial, and Industrial) that receive 1/3 of the Consumer Segment V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ting Entities include ERCOT Corporate, Associate, and Adjunct Members; Only one representative of each Voting Entity present at the meeting may vote; For the Residential sub-segment, Voting Entities are limited to the Standing Representative or their designated Alternate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v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ct of the Subcommittee requires the majority of the aggregate of the Fractional Segment votes to b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irmative;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um total of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/3 vote is required for returning to a previously tabled item/stop debate and vote, i.e. call the question, limit or extend debate, waive not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entions/Abse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e case of abstentions, the Segment vote shall be allocated equally among the Voting Entities casting a vote; except for the Consumer Segment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the Consumer Segment, if no Standing Representative from a sub-segment is present at a meeting, the Consumer Segment vote is allocated equally to the sub-segment(s) that are voting; if a Voting Entity from a sub-segment abstains from a vote, the fraction of the Consumer Segment Vote allocated to such representative is NOT included in the vote ta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34440" indent="-356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sumer two-step: If Consumer sub-segment not present, reallocate; then, if consumer sub-segment abstains, do NOT realloc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PRS/COP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ail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votes are primarily conducted for administrative purpo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ail vote can only be initiated by the Chair or Vice-Chai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orum of Standing Representatives must particip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anding Representative shall have one vo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ffirmative votes of eight Standing Representatives shall be the act of the Subcommitt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ally is done at the close of two Business Days after notification of the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PRS email vote on a request for Urgent status, the vote tally is done after 48 hour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one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Representatives may participate in the meeting via telephone, but cannot vote and shall not count towards a quor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At least one Standing Rep. in each of at least four Seg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  51% of Standing Reps. Of the Subcommitte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least one Standing Rep. from each of four Seg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x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Proxy is not allow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  Proxy can vote on member’s behalf but sha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counted towards quor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oren, Ann</dc:creator>
  <dc:description/>
  <dc:language>en-US</dc:language>
  <cp:lastModifiedBy>LButterfield</cp:lastModifiedBy>
  <dcterms:modified xsi:type="dcterms:W3CDTF">2018-02-05T18:40:00Z</dcterms:modified>
  <cp:revision>71</cp:revision>
  <dc:subject/>
  <dc:title>Instructions</dc:title>
</cp:coreProperties>
</file>