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8"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189" name="PlaceHolder 2"/>
          <p:cNvSpPr>
            <a:spLocks noGrp="1"/>
          </p:cNvSpPr>
          <p:nvPr>
            <p:ph type="dt" idx="68"/>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190" name="PlaceHolder 3"/>
          <p:cNvSpPr>
            <a:spLocks noGrp="1"/>
          </p:cNvSpPr>
          <p:nvPr>
            <p:ph type="sldImg"/>
          </p:nvPr>
        </p:nvSpPr>
        <p:spPr>
          <a:xfrm>
            <a:off x="1166760" y="692280"/>
            <a:ext cx="4616640" cy="346392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1191"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2" name="PlaceHolder 5"/>
          <p:cNvSpPr>
            <a:spLocks noGrp="1"/>
          </p:cNvSpPr>
          <p:nvPr>
            <p:ph type="ftr" idx="69"/>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193" name="PlaceHolder 6"/>
          <p:cNvSpPr>
            <a:spLocks noGrp="1"/>
          </p:cNvSpPr>
          <p:nvPr>
            <p:ph type="sldNum" idx="70"/>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4FC1-E3D6-4DC5-9A09-571F44FD2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66760" y="692280"/>
            <a:ext cx="4616640" cy="3463920"/>
          </a:xfrm>
          <a:prstGeom prst="rect">
            <a:avLst/>
          </a:prstGeom>
          <a:ln w="0">
            <a:noFill/>
          </a:ln>
        </p:spPr>
      </p:sp>
      <p:sp>
        <p:nvSpPr>
          <p:cNvPr id="121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AAD43-ECEC-4339-B60C-9D7F0F356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66760" y="692280"/>
            <a:ext cx="4616640" cy="3463920"/>
          </a:xfrm>
          <a:prstGeom prst="rect">
            <a:avLst/>
          </a:prstGeom>
          <a:ln w="0">
            <a:noFill/>
          </a:ln>
        </p:spPr>
      </p:sp>
      <p:sp>
        <p:nvSpPr>
          <p:cNvPr id="1220"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D50C-ED7A-4359-8BF7-56C496E2C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66760" y="692280"/>
            <a:ext cx="4616640" cy="3463920"/>
          </a:xfrm>
          <a:prstGeom prst="rect">
            <a:avLst/>
          </a:prstGeom>
          <a:ln w="0">
            <a:noFill/>
          </a:ln>
        </p:spPr>
      </p:sp>
      <p:sp>
        <p:nvSpPr>
          <p:cNvPr id="122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C006E-86F3-4FED-914B-CC8E43EBC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66760" y="692280"/>
            <a:ext cx="4616640" cy="3463920"/>
          </a:xfrm>
          <a:prstGeom prst="rect">
            <a:avLst/>
          </a:prstGeom>
          <a:ln w="0">
            <a:noFill/>
          </a:ln>
        </p:spPr>
      </p:sp>
      <p:sp>
        <p:nvSpPr>
          <p:cNvPr id="1226"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66A4-C861-47E8-A59C-1D3C6AB1A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F660B97-A0D9-415D-A017-80B380A6A2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03E1E8D-4D7E-4103-A82B-7A2A058B8D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31375E2-C307-4EF4-9CE8-09957A474FE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A8D14D5-AA66-4920-983C-8B232ACBB75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5889D6F-5773-4C4F-91C1-EC2CF61A56E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C9A3B18-A5A6-4BDF-BD8A-47C75DFD8B4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7755F49-3638-4BF1-8963-CA6EB21145A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EEB92B6-F408-42EB-8903-46B007B829E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86FB25D-C101-449F-9414-CEB79FDC5F8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FEDF884-D2AC-4D1C-92DF-9E76D6DAF31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4BCDA79-89B8-47BB-A294-24A68EDF593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C9211C9C-3DA4-4D7F-A4A2-73B152EE1DD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5725C7D-BC88-4B1F-BDF5-0F9F371DAF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07E1F01B-FF01-442B-83C5-D53424CA09C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096A89B6-54AD-4BF3-B52A-DAF8CD51B45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0928C02A-11E5-4AF7-B1AA-8C510CACB19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4C87FC42-1FDB-4741-8F40-3F6C30CA013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276032E3-C9B9-4C41-A92C-7A0060B0B50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B640ADAE-98EB-41E0-B4CF-C58AE8AB010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317206B9-8364-4E9E-90E3-368ABE69203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B7A36421-C80A-47EE-ADEF-C7ABE09F430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4BB28CB2-03FC-413C-86A3-AEEE9584E36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E237F5AC-BA69-4EAB-B4A7-63BC0D48667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114383A-9081-45F9-8F25-61327544A8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3964794A-FEE6-480F-8789-2D77DA1674B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7934F72-C049-470C-901F-EADDB2E2139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41BCED5-B3B7-484C-ACE9-4D8471093D5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7347CC5-9B11-49B3-BDFD-22AAB1750B8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0AB0701-4DF5-4261-8E42-1A47D2C60FA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B7463EE-7060-431D-81A5-8B967579879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F1D5F7D-D5DA-4A4C-B7DE-DFF707DDE0E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24FC4E3-0266-4AF6-837E-CF7F1CAD219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2144340-79C4-40C0-A0DF-428BD2BDF65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89D496C-9557-4A31-8918-6B399489DE6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E9B08F-38BF-40E7-8F8F-6F1268B811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2A81F68-97A9-4A41-BD8C-35058BC81B1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CCFE148-327E-4532-935F-9EB92B449E1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916247F-B897-4C77-963B-D6E4D7AE0E5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2E7A482E-67A1-48BE-916D-3E737427F4A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4870572B-9BC6-46BA-BE56-101269A42E0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227EA653-619D-415B-ADCB-298E853FC3D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ADA46BC7-CF6A-4AA2-9CCD-89797104498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22CF7A76-F63E-445E-838D-800C799243A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5A786177-2AD5-4E5B-B2DE-742A67F205C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40B4B883-A7ED-4314-A7CC-F4F1835BFB3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26B21-ED96-4661-87A9-82275E522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879A8706-05E1-44C7-890A-B5098B2B735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9A4B5324-DE6C-435D-95C8-87B3C4EB537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A7247138-7145-4434-B6B7-B572DD916EA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172BF549-0488-49C2-ADA3-4E3419990C9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DFAB6D48-10FF-4471-B2CC-991653F6187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0"/>
          </p:nvPr>
        </p:nvSpPr>
        <p:spPr/>
        <p:txBody>
          <a:bodyPr/>
          <a:p>
            <a:fld id="{CB7408A5-56B4-459A-9A07-516CACBCF4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23915C92-D134-425C-952E-DE4CA83368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AF124EF7-8017-48FE-A133-D5C5A24496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B82F1099-87B9-44E4-8D6F-582B9E2E0B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2AA7C4EC-CB84-49DC-9275-42B2311680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5BDB3-96A9-45D1-B444-7D40AC0C0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22980589-E8F0-4E0D-8173-159F9E4DB7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610215CA-4388-4939-94AC-8948E2855F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A81D4782-CD4A-4CFC-B180-1E38B8D6C6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176DE15A-989D-4594-90B4-59F6DEDB3A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07E36549-8526-4B27-B5DD-5F3C9FD47F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0"/>
          </p:nvPr>
        </p:nvSpPr>
        <p:spPr/>
        <p:txBody>
          <a:bodyPr/>
          <a:p>
            <a:fld id="{52FC46C7-F53A-4BFE-8AB1-DDF83BD7D2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0"/>
          </p:nvPr>
        </p:nvSpPr>
        <p:spPr/>
        <p:txBody>
          <a:bodyPr/>
          <a:p>
            <a:fld id="{35E00FFF-61A3-4F7C-A2FA-4173235A94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3"/>
          </p:nvPr>
        </p:nvSpPr>
        <p:spPr/>
        <p:txBody>
          <a:bodyPr/>
          <a:p>
            <a:fld id="{F37E776B-6C48-479C-B868-043A9FD1F69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52050213-041E-4D60-9BD0-348F8B5A77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115C0DE4-EFDA-43B9-8650-6375CDA57B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E8AD8-AB6C-45C4-A206-9112E8580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80713BD0-9467-4DB5-B9FD-7A9F5CEB4D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0A123C31-FDD0-4DDD-B06F-21FAE41405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5A3A81A0-4BBD-4A23-9CB3-D5F2EBE121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37D82597-D840-407A-81B5-EB614F11D5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3CCD3C83-A4FD-4813-8845-E36A2A649F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C3BD1EB3-2518-4D8F-B831-EE36BBD0EC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09672163-108A-4719-82D5-F60C2DC9FD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3"/>
          </p:nvPr>
        </p:nvSpPr>
        <p:spPr/>
        <p:txBody>
          <a:bodyPr/>
          <a:p>
            <a:fld id="{186184DA-1BB5-42EE-A4B8-346222FF40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3"/>
          </p:nvPr>
        </p:nvSpPr>
        <p:spPr/>
        <p:txBody>
          <a:bodyPr/>
          <a:p>
            <a:fld id="{75FB6ABF-8905-4D76-81FF-3B2042CEB1E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B2553C23-B91E-462A-920A-2932A568CF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8BF3F-0829-4E97-8C2C-20F9080EA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2F9A76D-2ED7-4317-AA11-04CFDAC3ED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7CC398B-6D1E-49AD-B7E0-9ECF47E331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AE13BCB-FAC7-42D7-8B03-EAE945CA19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499E7C3-8BD9-4DE2-988E-0CEE49B415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FB57773-B1EE-4B88-B365-EF2C8EFC75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B6BAB39-0FF7-4F5F-BBCD-604F454B66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DAC3F09-FF13-4B7E-B877-0E76E5672E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20B36FB-47C7-4615-B73B-75188C223E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4CD82C48-784E-4493-8A64-ED3183C763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84F60699-4CF5-42AC-8844-91C9BAEAEB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8F457-0FF9-4B89-AA81-E12CB5C38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7BCC2417-3AC5-47B0-B408-17C2742129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CA671D8B-06D4-4354-B4B7-AF2AD1B89C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15D7D7F2-CB51-4522-B47A-2D32A0C8C1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EF933249-7ADA-4836-8D99-E12DB3187D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023D8C54-960E-4A30-954D-98CF992CEF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16CADC56-222A-41CA-954E-6950645659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6966DF11-1C13-4137-BDD4-E5E6D49FA2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5826A092-AB21-4A8C-85A1-79D1ED11C0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2B07ABE3-6AF0-440D-A4FB-55B6B6EF25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63A86209-4991-45C3-A0A0-664391A4D7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4C5CF-B800-4E42-AEDE-B63DECBDA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851F9C01-3784-47FB-982F-3E6D026716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1DEBEBE0-EBCD-4AC0-856E-483E4CE36B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96A406A1-DFB3-4B41-A59B-61D1655D64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4D75BD57-22AC-423E-9F0B-E979BB1505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32534787-8F10-49C5-A10B-2B01FDA7C8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9D30A1BE-A220-457E-9DA2-0F9A5BD0F8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EEA21C1B-2FF0-4ADB-A905-5856594B26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EF8A638-7E80-4792-A45D-CDD7C7B13E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FB7B570E-4847-47A5-88A1-7974EEB890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FC51714-F8FF-4207-A53E-6D1127C97D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7798CE1-0748-4DB5-8A22-2F96A9CE94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A15ED-F92B-4FF6-919B-BA2047007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60B3E24-3D46-43D6-A9DC-184E5D6625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8DF9ACC-E613-4BD7-BD27-CB2338D9E6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8BF7720-F0F0-4B89-974A-FAB073266C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E37D092C-6CA0-437C-A0CF-36BDF7F1E01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582922FA-C38B-4F89-A8C2-967CAF6340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68A9A482-F1D7-456B-A97C-C1472138F2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E6DE85AC-C90D-433D-9172-5E29897AE8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C094EE89-7AF2-4EDB-A36C-167A2C5F1D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A450BE37-A92F-4006-B558-939739397E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C254C7C1-C3EF-4BB0-8145-842C31278F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38344-6A32-44EE-A838-464271F5E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6E85AEC-026B-4642-839A-A7F36ABD8F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3A2D104-6091-4899-B76B-E11B74F486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256C078-1BD8-41A5-9AD8-88A2980B74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A543E76-0C83-4A52-A267-F52F0D91B1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8759160D-95B6-4387-AFC6-05FB12E103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C450E5D5-3766-432D-A0DE-678AE52940A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5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DA87B9C9-2C14-494C-8928-EA76819AF1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44953462-A4BF-4128-9528-CFF6E51562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3982643-982B-4350-9B82-0D8F4849F0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211278D0-F9D0-4B54-B528-C8A6A6F161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EEBB9D-C976-48FF-96D2-2ED29E944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3F2D50F-7337-4DFD-9865-5D16A4A93C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93CA97C-E958-40D6-A061-EEEDFA4C9A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EB991439-DB96-49BC-9FE3-4BF032E5FD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F738828-5B71-4D94-A84F-39742FE1AD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11BEC95-DB0D-4152-9476-D72C768907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AC9DC2C-7BF8-46AE-8EAC-909823C845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A9F4C370-CDD4-4478-863A-0629B83F61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4C16C91A-7001-4FC5-99B0-75E04DD8AE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1ADEF9D6-F665-4AD8-9A37-BF3C742FDD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1"/>
          </p:nvPr>
        </p:nvSpPr>
        <p:spPr/>
        <p:txBody>
          <a:bodyPr/>
          <a:p>
            <a:fld id="{19184DBE-463D-4DEE-BE2F-74C51C54E411}"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CFE31-B073-4C6D-A75B-90B9F9629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2691D7C4-6E8C-4B7E-A9A1-392F66E5C07D}"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A84DFF37-FA74-4F79-92CE-3873DB2D2A16}"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B9DB0329-477B-49DC-801E-844F5784823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9A5A0958-C1D3-4E9F-BDA1-A0D02A412245}"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0EFECFB6-842C-4D24-9163-7997F853F11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69F83FFE-0286-4233-8B5F-3716F508949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9627C8E9-EFB0-4E98-A133-E714D0AF9F4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D5B235E7-4F98-461F-B484-F855A2665C7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4D533DD6-EEB4-4A6C-9A1F-734BD2D0B0F4}"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1"/>
          </p:nvPr>
        </p:nvSpPr>
        <p:spPr/>
        <p:txBody>
          <a:bodyPr/>
          <a:p>
            <a:fld id="{AA4E4B21-C3BA-4872-BABE-DAC12B0DD1AD}"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EC626A-68E8-4D18-825D-0EB0CEED3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1"/>
          </p:nvPr>
        </p:nvSpPr>
        <p:spPr/>
        <p:txBody>
          <a:bodyPr/>
          <a:p>
            <a:fld id="{78D15890-A2E7-4098-8021-AE2CE0824F3F}"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6E8EE736-FB2C-4559-954A-B0615C237952}"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C734DCBC-ECB8-43EC-A8B7-A482CD865C8E}"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39AB859D-4D5C-4BF3-9A11-328F34E659F4}"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245CD277-787A-484C-A15D-43E3ED7331F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E71EEA31-C121-4436-B357-58092CEEB23B}"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AB875019-3504-45BB-BBBF-A1634A4041A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33658D1-81DA-458C-977A-FE4F32002700}"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9D112AF-9C71-4EB9-8CC0-18160108EA38}"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1F9739C5-32F0-4BD4-B8B8-5D715BCA953B}"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4B12E524-8C6B-42D9-8C00-2033582589E6}"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DA8D1D96-710A-4111-9A2B-A328DA6AE7E1}"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E1E12C0E-2CEB-46AC-8C62-07524717E867}"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7"/>
          </p:nvPr>
        </p:nvSpPr>
        <p:spPr/>
        <p:txBody>
          <a:bodyPr/>
          <a:p>
            <a:fld id="{C217675B-7962-4ABD-A627-1F6DB10C6869}"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50F7C220-D47E-43DC-B11F-E4F8409855B3}"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D4CF0629-A893-42EB-8CF6-65E1F231179E}"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27297451-BA10-4A6E-878B-F238C4766534}"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49C3545A-46D5-42CB-9F8E-0694C5784915}"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30243BF3-CDBF-43F5-8639-20468B3B3247}"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F17FC4B8-B4F2-4E47-A5E7-3EA64DCCDDE0}"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ADFC6862-5CA3-447F-8AC5-D078C353F19C}"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9391A409-5D4E-4E70-A5E2-D23B42CB65CD}"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C25DDA72-3123-455F-A767-F9CA71266A0D}"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7"/>
          </p:nvPr>
        </p:nvSpPr>
        <p:spPr/>
        <p:txBody>
          <a:bodyPr/>
          <a:p>
            <a:fld id="{A175F85E-DA73-4E4F-9C6D-AC039BF93118}"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7"/>
          </p:nvPr>
        </p:nvSpPr>
        <p:spPr/>
        <p:txBody>
          <a:bodyPr/>
          <a:p>
            <a:fld id="{ED875774-582D-4D2F-8673-729734F3DAA1}"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0"/>
          </p:nvPr>
        </p:nvSpPr>
        <p:spPr/>
        <p:txBody>
          <a:bodyPr/>
          <a:p>
            <a:fld id="{D486061E-B81C-47D3-B19B-66AA27BEFE54}"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0"/>
          </p:nvPr>
        </p:nvSpPr>
        <p:spPr/>
        <p:txBody>
          <a:bodyPr/>
          <a:p>
            <a:fld id="{7E8EAFDC-B6A2-4C26-9084-01EDB9845DD6}"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0"/>
          </p:nvPr>
        </p:nvSpPr>
        <p:spPr/>
        <p:txBody>
          <a:bodyPr/>
          <a:p>
            <a:fld id="{D20A3335-6F63-483D-A41B-D55FAEA434D5}"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0"/>
          </p:nvPr>
        </p:nvSpPr>
        <p:spPr/>
        <p:txBody>
          <a:bodyPr/>
          <a:p>
            <a:fld id="{564DAE21-D6B2-43EB-9F2B-C2F5E53F014B}"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0"/>
          </p:nvPr>
        </p:nvSpPr>
        <p:spPr/>
        <p:txBody>
          <a:bodyPr/>
          <a:p>
            <a:fld id="{4270AF5C-F8CF-455D-9BA1-D576267231B0}"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0"/>
          </p:nvPr>
        </p:nvSpPr>
        <p:spPr/>
        <p:txBody>
          <a:bodyPr/>
          <a:p>
            <a:fld id="{29F3CD17-23AB-4E82-B21C-E09B1AED118F}"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0"/>
          </p:nvPr>
        </p:nvSpPr>
        <p:spPr/>
        <p:txBody>
          <a:bodyPr/>
          <a:p>
            <a:fld id="{42DAD970-23CE-409D-A48D-CF868CB2C1C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0"/>
          </p:nvPr>
        </p:nvSpPr>
        <p:spPr/>
        <p:txBody>
          <a:bodyPr/>
          <a:p>
            <a:fld id="{31A2EE33-D741-415C-A732-E9DD365CF34E}"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0"/>
          </p:nvPr>
        </p:nvSpPr>
        <p:spPr/>
        <p:txBody>
          <a:bodyPr/>
          <a:p>
            <a:fld id="{87C2DDC9-159E-4086-A2B6-438A26283C9A}"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0"/>
          </p:nvPr>
        </p:nvSpPr>
        <p:spPr/>
        <p:txBody>
          <a:bodyPr/>
          <a:p>
            <a:fld id="{7D01A9DA-9C57-486B-AB6A-058A22FE6BAA}"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0"/>
          </p:nvPr>
        </p:nvSpPr>
        <p:spPr/>
        <p:txBody>
          <a:bodyPr/>
          <a:p>
            <a:fld id="{7C87B76A-0F7E-4FEC-AD92-97FAED90B9DB}"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0"/>
          </p:nvPr>
        </p:nvSpPr>
        <p:spPr/>
        <p:txBody>
          <a:bodyPr/>
          <a:p>
            <a:fld id="{8DC50DE3-14B2-4AF8-A6DC-4969FF7C71D7}"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05FBCFDA-055A-4D7B-ACA0-82C472123F1C}"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9AB56A92-D727-4D71-8AA1-85DE97B60297}"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96D02946-30F5-4D35-B497-B2159CEFA993}"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455E24F4-B483-4E73-AD46-80D17FB3D939}"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6B4AA32E-272D-46CE-B7E0-D650AD81EAE9}"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BC03818F-C6A9-4B19-9ABD-A8154F341143}"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1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081FCB09-61B6-49E9-8572-F5947C35A74E}"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F68381CE-4E0E-460D-85AF-02E696900495}"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A5561D1D-874D-4021-B9EC-1C0D8A403C2C}"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1C14F45B-DFAF-4EA0-86C3-DD35316B97BA}"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3C86F1D0-6213-428C-AC43-0D6C2A5B62BA}"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3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1105B85D-6AB4-4585-B396-9B6B6680EF41}"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6D624995-1373-4822-9AEA-A8C0157D8E36}"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9A4E7240-0A37-4736-BF46-8525A53B3411}"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D2A61014-DFAF-451A-9124-FB959E178796}"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FF98248F-22A0-48C5-A138-CFCB27768378}"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B15C7BC7-B3F4-409C-8D2B-9F5BC37D7EEE}"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9434ADA6-9B62-4F2F-A011-D54C086348B5}"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B972A8AE-8B13-4013-9E91-AACC95FCADE6}"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745621A0-9A90-4CED-A255-8ECF45EA6C35}"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52A23E61-B57A-497B-B121-C810E5BB4B09}"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7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8581E271-5678-4C91-A568-9AFEBDC5ACC4}"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BA2222CE-EBD3-4761-9FC4-1F921CDF6768}"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F894F22-7BB1-4949-BFAA-9EC1D65DEB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4A4B42EC-431C-49F5-857C-F2D2001BC19D}"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2F7507-A5F4-4FAD-BFA6-5D89207577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0A3F4D-1602-4AF2-B2AB-3B0C003DC8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7E3121-5DFB-4FCB-895D-C42B505AD6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4B75563-0100-4315-BEA5-79CDED6FE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609269-23E5-495C-890F-0B0CE58AC2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AC9EC1-5F43-4E09-A177-7DE324AD15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5E1F42-CF87-485F-AD2F-C247AC6B83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6230B6-A3B7-48B1-9EAE-E74FDA16D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301EC5-52DC-474F-9644-F7824C0BB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7241D9-5306-40CB-9433-AAAC67BD21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3C2916-DB49-45A8-9011-F65E6B4D26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96CB1B-3522-4A69-9F25-8E6B50D962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000220-DB40-431C-932A-791863A6AB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1FD3C7-2D81-4260-A6EC-5EE7787C25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DD3A96F-E883-4F6B-882F-AFA8B77A36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D710F4-F96C-4802-9D46-C40A8D764C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CFB986-1397-422E-8764-90A55F3522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D4D640-7DD3-47EE-AADC-211A730FF6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7CB3C1-3DCA-4674-AF2D-0DD231273F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FA9474-EFF4-4662-812A-F2F74B2F4F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91358F-04DF-473E-899F-39F04EB002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385C1A-5DCA-47AD-B7DD-052640DF42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B7CE97-DCC8-410F-BCB9-C09F764303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2E0233-0FB0-4308-A287-1B8D77C820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DFDB50-CFB3-49CA-BC53-0E27A42395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598673F-8767-41E4-9830-9A3F13EF9E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E095CB-32E8-4303-B52F-17437B9B56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B598F36-BD47-4FE8-BB4D-34DC8DFF6C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CB28CA2-2196-48FD-AA78-FE52E55149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6"/>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6"/>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6"/>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6"/>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FC3796A-8B69-49DB-A3FB-FA536D62C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6"/>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6"/>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6"/>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6"/>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6"/>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6"/>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6"/>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41CC8C4-7682-4220-8268-91D7AFA08A2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36154AB-5214-4E11-B792-992C4D2042F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1DB0487-7392-4DA6-A384-E056093233C7}" type="slidenum">
              <a:t>&lt;#&gt;</a:t>
            </a:fld>
          </a:p>
        </p:txBody>
      </p:sp>
      <p:sp>
        <p:nvSpPr>
          <p:cNvPr id="6" name="PlaceHolder 5"/>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8067-FCEF-4961-98A4-C490F45AAE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32CF-9648-4EB1-9995-2A9341460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Line 12"/>
          <p:cNvSpPr/>
          <p:nvPr/>
        </p:nvSpPr>
        <p:spPr>
          <a:xfrm>
            <a:off x="0" y="673200"/>
            <a:ext cx="9144000" cy="0"/>
          </a:xfrm>
          <a:prstGeom prst="line">
            <a:avLst/>
          </a:prstGeom>
          <a:ln w="57240">
            <a:solidFill>
              <a:srgbClr val="d261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0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07" name="PlaceHolder 3"/>
          <p:cNvSpPr>
            <a:spLocks noGrp="1"/>
          </p:cNvSpPr>
          <p:nvPr>
            <p:ph type="dt" idx="2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408" name="PlaceHolder 4"/>
          <p:cNvSpPr>
            <a:spLocks noGrp="1"/>
          </p:cNvSpPr>
          <p:nvPr>
            <p:ph type="sldNum" idx="2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100E-B856-4F45-928C-10A107AEFB7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09" name="PlaceHolder 5"/>
          <p:cNvSpPr>
            <a:spLocks noGrp="1"/>
          </p:cNvSpPr>
          <p:nvPr>
            <p:ph type="ftr" idx="2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46" name="Rectangle 1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1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1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Straight Connector 2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Straight Connector 2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Straight Connector 2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Straight Connector 2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Straight Connector 2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2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3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3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Straight Connector 33"/>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4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464" name="PlaceHolder 3"/>
          <p:cNvSpPr>
            <a:spLocks noGrp="1"/>
          </p:cNvSpPr>
          <p:nvPr>
            <p:ph type="dt" idx="23"/>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Date</a:t>
            </a:r>
            <a:endParaRPr b="0" lang="en-US" sz="1200" spc="-1" strike="noStrike">
              <a:solidFill>
                <a:srgbClr val="000000"/>
              </a:solidFill>
              <a:latin typeface="Times New Roman"/>
            </a:endParaRPr>
          </a:p>
        </p:txBody>
      </p:sp>
      <p:sp>
        <p:nvSpPr>
          <p:cNvPr id="465" name="PlaceHolder 4"/>
          <p:cNvSpPr>
            <a:spLocks noGrp="1"/>
          </p:cNvSpPr>
          <p:nvPr>
            <p:ph type="ftr" idx="24"/>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Meeting Title (optional)</a:t>
            </a:r>
            <a:endParaRPr b="0" lang="en-US" sz="1200" spc="-1" strike="noStrike">
              <a:solidFill>
                <a:srgbClr val="000000"/>
              </a:solidFill>
              <a:latin typeface="Times New Roman"/>
            </a:endParaRPr>
          </a:p>
        </p:txBody>
      </p:sp>
      <p:sp>
        <p:nvSpPr>
          <p:cNvPr id="466" name="PlaceHolder 5"/>
          <p:cNvSpPr>
            <a:spLocks noGrp="1"/>
          </p:cNvSpPr>
          <p:nvPr>
            <p:ph type="sldNum" idx="25"/>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59875-B43E-44AA-BA33-31CA4FCD76F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Line 12"/>
          <p:cNvSpPr/>
          <p:nvPr/>
        </p:nvSpPr>
        <p:spPr>
          <a:xfrm>
            <a:off x="0" y="673200"/>
            <a:ext cx="9144000" cy="0"/>
          </a:xfrm>
          <a:prstGeom prst="line">
            <a:avLst/>
          </a:prstGeom>
          <a:ln w="57240">
            <a:solidFill>
              <a:srgbClr val="d261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1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13" name="PlaceHolder 3"/>
          <p:cNvSpPr>
            <a:spLocks noGrp="1"/>
          </p:cNvSpPr>
          <p:nvPr>
            <p:ph type="dt" idx="2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514" name="PlaceHolder 4"/>
          <p:cNvSpPr>
            <a:spLocks noGrp="1"/>
          </p:cNvSpPr>
          <p:nvPr>
            <p:ph type="sldNum" idx="2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E2FB-03C7-4359-80EA-572AF1CCF7B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5" name="PlaceHolder 5"/>
          <p:cNvSpPr>
            <a:spLocks noGrp="1"/>
          </p:cNvSpPr>
          <p:nvPr>
            <p:ph type="ftr" idx="2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traight Connector 1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Straight Connector 1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Straight Connector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Straight Connector 2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Rectangle 20"/>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Straight Connector 24"/>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Oval 2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6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61" name="PlaceHolder 3"/>
          <p:cNvSpPr>
            <a:spLocks noGrp="1"/>
          </p:cNvSpPr>
          <p:nvPr>
            <p:ph type="dt" idx="2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562" name="PlaceHolder 4"/>
          <p:cNvSpPr>
            <a:spLocks noGrp="1"/>
          </p:cNvSpPr>
          <p:nvPr>
            <p:ph type="sldNum" idx="3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B623E-63C6-4A37-880A-6446001C859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63" name="PlaceHolder 5"/>
          <p:cNvSpPr>
            <a:spLocks noGrp="1"/>
          </p:cNvSpPr>
          <p:nvPr>
            <p:ph type="ftr" idx="3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Straight Connector 16"/>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Oval 17"/>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Straight Connector 1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Rectangle 19"/>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Straight Connector 23"/>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Straight Connector 23"/>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Straight Connector 25"/>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0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09" name="PlaceHolder 3"/>
          <p:cNvSpPr>
            <a:spLocks noGrp="1"/>
          </p:cNvSpPr>
          <p:nvPr>
            <p:ph type="dt" idx="3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610" name="PlaceHolder 4"/>
          <p:cNvSpPr>
            <a:spLocks noGrp="1"/>
          </p:cNvSpPr>
          <p:nvPr>
            <p:ph type="sldNum" idx="3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9A9F-CD19-494E-A59A-5FFD45A29D2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1" name="PlaceHolder 5"/>
          <p:cNvSpPr>
            <a:spLocks noGrp="1"/>
          </p:cNvSpPr>
          <p:nvPr>
            <p:ph type="ftr" idx="34"/>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6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66" name="PlaceHolder 3"/>
          <p:cNvSpPr>
            <a:spLocks noGrp="1"/>
          </p:cNvSpPr>
          <p:nvPr>
            <p:ph type="dt" idx="35"/>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667" name="PlaceHolder 4"/>
          <p:cNvSpPr>
            <a:spLocks noGrp="1"/>
          </p:cNvSpPr>
          <p:nvPr>
            <p:ph type="ftr" idx="36"/>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668" name="PlaceHolder 5"/>
          <p:cNvSpPr>
            <a:spLocks noGrp="1"/>
          </p:cNvSpPr>
          <p:nvPr>
            <p:ph type="sldNum" idx="37"/>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300E2-FD45-4314-8410-DF1775C16B1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1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3" name="PlaceHolder 3"/>
          <p:cNvSpPr>
            <a:spLocks noGrp="1"/>
          </p:cNvSpPr>
          <p:nvPr>
            <p:ph type="dt" idx="38"/>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714" name="PlaceHolder 4"/>
          <p:cNvSpPr>
            <a:spLocks noGrp="1"/>
          </p:cNvSpPr>
          <p:nvPr>
            <p:ph type="sldNum" idx="3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865C7-9E92-4C45-BA31-7FABEB9444B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15" name="PlaceHolder 5"/>
          <p:cNvSpPr>
            <a:spLocks noGrp="1"/>
          </p:cNvSpPr>
          <p:nvPr>
            <p:ph type="ftr" idx="40"/>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752"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76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770" name="PlaceHolder 3"/>
          <p:cNvSpPr>
            <a:spLocks noGrp="1"/>
          </p:cNvSpPr>
          <p:nvPr>
            <p:ph type="dt" idx="41"/>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1/9/2018</a:t>
            </a:r>
            <a:endParaRPr b="0" lang="en-US" sz="1200" spc="-1" strike="noStrike">
              <a:solidFill>
                <a:srgbClr val="000000"/>
              </a:solidFill>
              <a:latin typeface="Times New Roman"/>
            </a:endParaRPr>
          </a:p>
        </p:txBody>
      </p:sp>
      <p:sp>
        <p:nvSpPr>
          <p:cNvPr id="771" name="PlaceHolder 4"/>
          <p:cNvSpPr>
            <a:spLocks noGrp="1"/>
          </p:cNvSpPr>
          <p:nvPr>
            <p:ph type="ftr" idx="42"/>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December TAC &amp; Board of Directors Update </a:t>
            </a:r>
            <a:endParaRPr b="0" lang="en-US" sz="1200" spc="-1" strike="noStrike">
              <a:solidFill>
                <a:srgbClr val="000000"/>
              </a:solidFill>
              <a:latin typeface="Times New Roman"/>
            </a:endParaRPr>
          </a:p>
        </p:txBody>
      </p:sp>
      <p:sp>
        <p:nvSpPr>
          <p:cNvPr id="772" name="PlaceHolder 5"/>
          <p:cNvSpPr>
            <a:spLocks noGrp="1"/>
          </p:cNvSpPr>
          <p:nvPr>
            <p:ph type="sldNum" idx="43"/>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C8CD-7803-45EE-ACB1-C6F5C1DA36A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81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817" name="PlaceHolder 3"/>
          <p:cNvSpPr>
            <a:spLocks noGrp="1"/>
          </p:cNvSpPr>
          <p:nvPr>
            <p:ph type="dt" idx="4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818" name="PlaceHolder 4"/>
          <p:cNvSpPr>
            <a:spLocks noGrp="1"/>
          </p:cNvSpPr>
          <p:nvPr>
            <p:ph type="ftr" idx="4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819" name="PlaceHolder 5"/>
          <p:cNvSpPr>
            <a:spLocks noGrp="1"/>
          </p:cNvSpPr>
          <p:nvPr>
            <p:ph type="sldNum" idx="4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1BBE-1876-4FFF-8971-FC96B985BCA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8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864" name="PlaceHolder 3"/>
          <p:cNvSpPr>
            <a:spLocks noGrp="1"/>
          </p:cNvSpPr>
          <p:nvPr>
            <p:ph type="dt" idx="4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865" name="PlaceHolder 4"/>
          <p:cNvSpPr>
            <a:spLocks noGrp="1"/>
          </p:cNvSpPr>
          <p:nvPr>
            <p:ph type="ftr" idx="4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866" name="PlaceHolder 5"/>
          <p:cNvSpPr>
            <a:spLocks noGrp="1"/>
          </p:cNvSpPr>
          <p:nvPr>
            <p:ph type="sldNum" idx="4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E896-E6A4-4A3D-92BE-C7557EBD371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Date</a:t>
            </a:r>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AEAB38-E589-429B-AC57-A33EDC5DF1A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91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911" name="PlaceHolder 3"/>
          <p:cNvSpPr>
            <a:spLocks noGrp="1"/>
          </p:cNvSpPr>
          <p:nvPr>
            <p:ph type="dt" idx="5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912" name="PlaceHolder 4"/>
          <p:cNvSpPr>
            <a:spLocks noGrp="1"/>
          </p:cNvSpPr>
          <p:nvPr>
            <p:ph type="sldNum" idx="5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9E87-51AB-4AA5-AAD3-1BD562E0028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13" name="PlaceHolder 5"/>
          <p:cNvSpPr>
            <a:spLocks noGrp="1"/>
          </p:cNvSpPr>
          <p:nvPr>
            <p:ph type="ftr" idx="5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95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958" name="PlaceHolder 3"/>
          <p:cNvSpPr>
            <a:spLocks noGrp="1"/>
          </p:cNvSpPr>
          <p:nvPr>
            <p:ph type="dt" idx="5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959" name="PlaceHolder 4"/>
          <p:cNvSpPr>
            <a:spLocks noGrp="1"/>
          </p:cNvSpPr>
          <p:nvPr>
            <p:ph type="ftr" idx="54"/>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960" name="PlaceHolder 5"/>
          <p:cNvSpPr>
            <a:spLocks noGrp="1"/>
          </p:cNvSpPr>
          <p:nvPr>
            <p:ph type="sldNum" idx="5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061C5-E653-42F2-9AAB-AB513E3A9E8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0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006" name="PlaceHolder 3"/>
          <p:cNvSpPr>
            <a:spLocks noGrp="1"/>
          </p:cNvSpPr>
          <p:nvPr>
            <p:ph type="dt" idx="5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1007" name="PlaceHolder 4"/>
          <p:cNvSpPr>
            <a:spLocks noGrp="1"/>
          </p:cNvSpPr>
          <p:nvPr>
            <p:ph type="sldNum" idx="5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1D6D-4073-4060-897D-3A84E5D770A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08" name="PlaceHolder 5"/>
          <p:cNvSpPr>
            <a:spLocks noGrp="1"/>
          </p:cNvSpPr>
          <p:nvPr>
            <p:ph type="ftr" idx="5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05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054" name="PlaceHolder 3"/>
          <p:cNvSpPr>
            <a:spLocks noGrp="1"/>
          </p:cNvSpPr>
          <p:nvPr>
            <p:ph type="dt" idx="5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1055" name="PlaceHolder 4"/>
          <p:cNvSpPr>
            <a:spLocks noGrp="1"/>
          </p:cNvSpPr>
          <p:nvPr>
            <p:ph type="sldNum" idx="6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7AB2-4576-4782-BBD9-BD51FB41404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56" name="PlaceHolder 5"/>
          <p:cNvSpPr>
            <a:spLocks noGrp="1"/>
          </p:cNvSpPr>
          <p:nvPr>
            <p:ph type="ftr" idx="6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0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01" name="PlaceHolder 3"/>
          <p:cNvSpPr>
            <a:spLocks noGrp="1"/>
          </p:cNvSpPr>
          <p:nvPr>
            <p:ph type="dt" idx="6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1102" name="PlaceHolder 4"/>
          <p:cNvSpPr>
            <a:spLocks noGrp="1"/>
          </p:cNvSpPr>
          <p:nvPr>
            <p:ph type="ftr" idx="63"/>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1103" name="PlaceHolder 5"/>
          <p:cNvSpPr>
            <a:spLocks noGrp="1"/>
          </p:cNvSpPr>
          <p:nvPr>
            <p:ph type="sldNum" idx="6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4CDE-12C3-421C-9134-68A4687BA43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4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48" name="PlaceHolder 3"/>
          <p:cNvSpPr>
            <a:spLocks noGrp="1"/>
          </p:cNvSpPr>
          <p:nvPr>
            <p:ph type="dt" idx="65"/>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1149" name="PlaceHolder 4"/>
          <p:cNvSpPr>
            <a:spLocks noGrp="1"/>
          </p:cNvSpPr>
          <p:nvPr>
            <p:ph type="ftr" idx="66"/>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1150" name="PlaceHolder 5"/>
          <p:cNvSpPr>
            <a:spLocks noGrp="1"/>
          </p:cNvSpPr>
          <p:nvPr>
            <p:ph type="sldNum" idx="6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022D-66D1-4F71-9EA8-45EFC89E8F2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2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26"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127" name="PlaceHolder 4"/>
          <p:cNvSpPr>
            <a:spLocks noGrp="1"/>
          </p:cNvSpPr>
          <p:nvPr>
            <p:ph type="ftr" idx="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
        <p:nvSpPr>
          <p:cNvPr id="12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9B1F-C3E4-4B30-ABD3-B77B62CFBC8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12"/>
          <p:cNvSpPr/>
          <p:nvPr/>
        </p:nvSpPr>
        <p:spPr>
          <a:xfrm>
            <a:off x="0" y="673200"/>
            <a:ext cx="9144000" cy="0"/>
          </a:xfrm>
          <a:prstGeom prst="line">
            <a:avLst/>
          </a:prstGeom>
          <a:ln w="57240">
            <a:solidFill>
              <a:srgbClr val="d261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7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75"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1/9/2018</a:t>
            </a:r>
            <a:endParaRPr b="0" lang="en-US" sz="1200" spc="-1" strike="noStrike">
              <a:solidFill>
                <a:srgbClr val="000000"/>
              </a:solidFill>
              <a:latin typeface="Times New Roman"/>
            </a:endParaRPr>
          </a:p>
        </p:txBody>
      </p:sp>
      <p:sp>
        <p:nvSpPr>
          <p:cNvPr id="176" name="PlaceHolder 4"/>
          <p:cNvSpPr>
            <a:spLocks noGrp="1"/>
          </p:cNvSpPr>
          <p:nvPr>
            <p:ph type="ftr" idx="1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December TAC &amp; Board of Directors Update </a:t>
            </a:r>
            <a:endParaRPr b="0" lang="en-US" sz="1200" spc="-1" strike="noStrike">
              <a:solidFill>
                <a:srgbClr val="000000"/>
              </a:solidFill>
              <a:latin typeface="Times New Roman"/>
            </a:endParaRPr>
          </a:p>
        </p:txBody>
      </p:sp>
      <p:sp>
        <p:nvSpPr>
          <p:cNvPr id="17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2"/>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A6AB-023D-48AB-B853-E9A358FB29E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2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22" name="PlaceHolder 3"/>
          <p:cNvSpPr>
            <a:spLocks noGrp="1"/>
          </p:cNvSpPr>
          <p:nvPr>
            <p:ph type="dt" idx="13"/>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223" name="PlaceHolder 4"/>
          <p:cNvSpPr>
            <a:spLocks noGrp="1"/>
          </p:cNvSpPr>
          <p:nvPr>
            <p:ph type="ftr" idx="14"/>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1" name="Picture 11" descr=""/>
          <p:cNvPicPr/>
          <p:nvPr/>
        </p:nvPicPr>
        <p:blipFill>
          <a:blip r:embed="rId2"/>
          <a:stretch/>
        </p:blipFill>
        <p:spPr>
          <a:xfrm>
            <a:off x="212760" y="0"/>
            <a:ext cx="8718480" cy="13716000"/>
          </a:xfrm>
          <a:prstGeom prst="rect">
            <a:avLst/>
          </a:prstGeom>
          <a:ln w="0">
            <a:noFill/>
          </a:ln>
        </p:spPr>
      </p:pic>
      <p:sp>
        <p:nvSpPr>
          <p:cNvPr id="262" name="PlaceHolder 1"/>
          <p:cNvSpPr>
            <a:spLocks noGrp="1"/>
          </p:cNvSpPr>
          <p:nvPr>
            <p:ph type="ftr" idx="1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00" name="Picture 11" descr=""/>
          <p:cNvPicPr/>
          <p:nvPr/>
        </p:nvPicPr>
        <p:blipFill>
          <a:blip r:embed="rId2"/>
          <a:stretch/>
        </p:blipFill>
        <p:spPr>
          <a:xfrm>
            <a:off x="212760" y="0"/>
            <a:ext cx="8718480" cy="13716000"/>
          </a:xfrm>
          <a:prstGeom prst="rect">
            <a:avLst/>
          </a:prstGeom>
          <a:ln w="0">
            <a:noFill/>
          </a:ln>
        </p:spPr>
      </p:pic>
      <p:sp>
        <p:nvSpPr>
          <p:cNvPr id="301"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80BEED-6F0C-4EE3-8ADB-E30B805F2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ftr" idx="1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Rectangle 1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Straight Connector 2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Straight Connector 2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Straight Connector 2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Straight Connector 2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Straight Connector 2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Straight Connector 27"/>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Rectangle 28"/>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29"/>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30"/>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31"/>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32"/>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33"/>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Line 14"/>
          <p:cNvSpPr/>
          <p:nvPr/>
        </p:nvSpPr>
        <p:spPr>
          <a:xfrm>
            <a:off x="0" y="1143000"/>
            <a:ext cx="9144000" cy="0"/>
          </a:xfrm>
          <a:prstGeom prst="line">
            <a:avLst/>
          </a:prstGeom>
          <a:ln w="57240">
            <a:solidFill>
              <a:srgbClr val="d261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8" name="PlaceHolder 3"/>
          <p:cNvSpPr>
            <a:spLocks noGrp="1"/>
          </p:cNvSpPr>
          <p:nvPr>
            <p:ph type="dt" idx="17"/>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359" name="PlaceHolder 4"/>
          <p:cNvSpPr>
            <a:spLocks noGrp="1"/>
          </p:cNvSpPr>
          <p:nvPr>
            <p:ph type="ftr" idx="18"/>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
        <p:nvSpPr>
          <p:cNvPr id="360" name="PlaceHolder 5"/>
          <p:cNvSpPr>
            <a:spLocks noGrp="1"/>
          </p:cNvSpPr>
          <p:nvPr>
            <p:ph type="sldNum" idx="19"/>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9AC88-997A-446E-B03B-50A1B5B6231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8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2286000" y="3123720"/>
            <a:ext cx="68580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75f6d"/>
                </a:solidFill>
                <a:latin typeface="Century Schoolbook"/>
              </a:rPr>
              <a:t>FEBRUARY 5, 2018</a:t>
            </a:r>
            <a:br>
              <a:rPr sz="1600"/>
            </a:br>
            <a:br>
              <a:rPr sz="1000"/>
            </a:br>
            <a:r>
              <a:rPr b="1" lang="en-US" sz="2800" spc="-1" strike="noStrike">
                <a:solidFill>
                  <a:srgbClr val="575f6d"/>
                </a:solidFill>
                <a:latin typeface="Century Schoolbook"/>
              </a:rPr>
              <a:t>REVIEW OF RMS &amp; COPS FUNCTIONS</a:t>
            </a:r>
            <a:endParaRPr b="0" lang="en-US" sz="2800" spc="-1" strike="noStrike">
              <a:solidFill>
                <a:srgbClr val="575f6d"/>
              </a:solidFill>
              <a:latin typeface="Century Schoolbook"/>
            </a:endParaRPr>
          </a:p>
        </p:txBody>
      </p:sp>
      <p:sp>
        <p:nvSpPr>
          <p:cNvPr id="1195"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Rebecca Zerwas</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96" name="Slide Number Placeholder 7"/>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366A1-5D38-4F5E-BCD5-91F8FE1A7F3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TAIL MARKET SUBCOMMITTEE (RMS) </a:t>
            </a:r>
            <a:endParaRPr b="0" lang="en-US" sz="3000" spc="-1" strike="noStrike">
              <a:solidFill>
                <a:srgbClr val="575f6d"/>
              </a:solidFill>
              <a:latin typeface="Century Schoolbook"/>
            </a:endParaRPr>
          </a:p>
        </p:txBody>
      </p:sp>
      <p:sp>
        <p:nvSpPr>
          <p:cNvPr id="1198"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F7A2B-D514-48BB-A623-70450AFB0B1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199" name="Straight Connector 7"/>
          <p:cNvSpPr/>
          <p:nvPr/>
        </p:nvSpPr>
        <p:spPr>
          <a:xfrm>
            <a:off x="457200" y="838080"/>
            <a:ext cx="7467480" cy="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txBox="1"/>
          <p:nvPr/>
        </p:nvSpPr>
        <p:spPr>
          <a:xfrm>
            <a:off x="456840" y="990360"/>
            <a:ext cx="7467480" cy="540684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urrently, RMS serves as a forum for issue resolution in regards to retail market matters directly affecting ERCOT and ERCOT protocols.</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MS monitors Public Utility Commission (PUCT) rulings as they apply to retail markets and retail market participants and ensures that PUCT requirements are reflected in the Retail Market Guides, protocols, and Texas Standard Electronic Transactions (Texas SET).</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ree working groups and one task force report to RMS.</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uides and Other Binding Documents:</a:t>
            </a:r>
            <a:endParaRPr b="0" lang="en-US" sz="21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Retail Market Guide</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exas SET Guides and Documentation</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ata Transport Guides </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exas Market Test Plan</a:t>
            </a:r>
            <a:endParaRPr b="0" lang="en-US" sz="1800" spc="-1" strike="noStrike">
              <a:solidFill>
                <a:srgbClr val="000000"/>
              </a:solidFill>
              <a:latin typeface="Century Schoolbook"/>
            </a:endParaRPr>
          </a:p>
          <a:p>
            <a:pPr lvl="1" marL="63972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5f6d"/>
                </a:solidFill>
                <a:latin typeface="Century Schoolbook"/>
              </a:rPr>
              <a:t>RMS WORKING GROUPS</a:t>
            </a:r>
            <a:endParaRPr b="0" lang="en-US" sz="2900" spc="-1" strike="noStrike">
              <a:solidFill>
                <a:srgbClr val="575f6d"/>
              </a:solidFill>
              <a:latin typeface="Century Schoolbook"/>
            </a:endParaRPr>
          </a:p>
        </p:txBody>
      </p:sp>
      <p:sp>
        <p:nvSpPr>
          <p:cNvPr id="1202"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345F-9DB7-438A-B197-0993FFE5B46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03" name="Straight Connector 7"/>
          <p:cNvSpPr/>
          <p:nvPr/>
        </p:nvSpPr>
        <p:spPr>
          <a:xfrm>
            <a:off x="457200" y="838080"/>
            <a:ext cx="7467480" cy="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4" name="Content Placeholder 1" descr=""/>
          <p:cNvPicPr/>
          <p:nvPr/>
        </p:nvPicPr>
        <p:blipFill>
          <a:blip r:embed="rId1"/>
          <a:stretch/>
        </p:blipFill>
        <p:spPr>
          <a:xfrm>
            <a:off x="444600" y="890640"/>
            <a:ext cx="7493040" cy="558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entury Schoolbook"/>
              </a:rPr>
              <a:t>COMMERCIAL OPERATIONS SUBCOMMITTEE (COPS)</a:t>
            </a:r>
            <a:endParaRPr b="0" lang="en-US" sz="2400" spc="-1" strike="noStrike">
              <a:solidFill>
                <a:srgbClr val="575f6d"/>
              </a:solidFill>
              <a:latin typeface="Century Schoolbook"/>
            </a:endParaRPr>
          </a:p>
        </p:txBody>
      </p:sp>
      <p:sp>
        <p:nvSpPr>
          <p:cNvPr id="120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4931-F7A9-4702-A662-CE93720E814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07" name="Straight Connector 7"/>
          <p:cNvSpPr/>
          <p:nvPr/>
        </p:nvSpPr>
        <p:spPr>
          <a:xfrm>
            <a:off x="457200" y="838080"/>
            <a:ext cx="7467480" cy="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txBox="1"/>
          <p:nvPr/>
        </p:nvSpPr>
        <p:spPr>
          <a:xfrm>
            <a:off x="456840" y="990720"/>
            <a:ext cx="7467480" cy="5330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urrently, COPS addresses the processes through which ERCOT market data is translated into financial settlements. COPS also addresses the market’s overall needs for data extracts, delivery and presentation.</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ommercial operations include the application of load profiles, data aggregation, data extract variances; congestion revenue rights settlements; qualified scheduling entity settlements; invoicing; and dispute resolution.</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ree working groups report to COP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uides and Other Binding Documents:</a:t>
            </a:r>
            <a:endParaRPr b="0" lang="en-US" sz="2100" spc="-1" strike="noStrike">
              <a:solidFill>
                <a:srgbClr val="000000"/>
              </a:solidFill>
              <a:latin typeface="Century Schoolbook"/>
            </a:endParaRPr>
          </a:p>
          <a:p>
            <a:pPr lvl="1" marL="639720" indent="-272880">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ommercial Operations Market Guide</a:t>
            </a:r>
            <a:endParaRPr b="0" lang="en-US" sz="1800" spc="-1" strike="noStrike">
              <a:solidFill>
                <a:srgbClr val="000000"/>
              </a:solidFill>
              <a:latin typeface="Century Schoolbook"/>
            </a:endParaRPr>
          </a:p>
          <a:p>
            <a:pPr lvl="1" marL="639720" indent="-272880">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Load Profiling Guide </a:t>
            </a:r>
            <a:endParaRPr b="0" lang="en-US" sz="1800" spc="-1" strike="noStrike">
              <a:solidFill>
                <a:srgbClr val="000000"/>
              </a:solidFill>
              <a:latin typeface="Century Schoolbook"/>
            </a:endParaRPr>
          </a:p>
          <a:p>
            <a:pPr lvl="1" marL="639720" indent="-272880">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Nodal Settlements Handbook</a:t>
            </a:r>
            <a:endParaRPr b="0" lang="en-US" sz="1800" spc="-1" strike="noStrike">
              <a:solidFill>
                <a:srgbClr val="000000"/>
              </a:solidFill>
              <a:latin typeface="Century Schoolbook"/>
            </a:endParaRPr>
          </a:p>
          <a:p>
            <a:pPr lvl="1" marL="639720" indent="-272880">
              <a:spcBef>
                <a:spcPts val="3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5f6d"/>
                </a:solidFill>
                <a:latin typeface="Century Schoolbook"/>
              </a:rPr>
              <a:t>COPS WORKING GROUPS</a:t>
            </a:r>
            <a:endParaRPr b="0" lang="en-US" sz="2900" spc="-1" strike="noStrike">
              <a:solidFill>
                <a:srgbClr val="575f6d"/>
              </a:solidFill>
              <a:latin typeface="Century Schoolbook"/>
            </a:endParaRPr>
          </a:p>
        </p:txBody>
      </p:sp>
      <p:sp>
        <p:nvSpPr>
          <p:cNvPr id="1210"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E6DE-3CB3-427D-844D-CD019CFF63A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11" name="Straight Connector 7"/>
          <p:cNvSpPr/>
          <p:nvPr/>
        </p:nvSpPr>
        <p:spPr>
          <a:xfrm>
            <a:off x="457200" y="838080"/>
            <a:ext cx="7543800" cy="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2" name="Content Placeholder 1" descr=""/>
          <p:cNvPicPr/>
          <p:nvPr/>
        </p:nvPicPr>
        <p:blipFill>
          <a:blip r:embed="rId1"/>
          <a:stretch/>
        </p:blipFill>
        <p:spPr>
          <a:xfrm>
            <a:off x="444600" y="914400"/>
            <a:ext cx="8699400" cy="526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a:t>
            </a:r>
            <a:endParaRPr b="0" lang="en-US" sz="3000" spc="-1" strike="noStrike">
              <a:solidFill>
                <a:srgbClr val="575f6d"/>
              </a:solidFill>
              <a:latin typeface="Century Schoolbook"/>
            </a:endParaRPr>
          </a:p>
        </p:txBody>
      </p:sp>
      <p:sp>
        <p:nvSpPr>
          <p:cNvPr id="1214"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4763C-7183-49CD-B3AD-41B060EC77B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215" name="Picture 2" descr=""/>
          <p:cNvPicPr/>
          <p:nvPr/>
        </p:nvPicPr>
        <p:blipFill>
          <a:blip r:embed="rId1"/>
          <a:stretch/>
        </p:blipFill>
        <p:spPr>
          <a:xfrm>
            <a:off x="2133720" y="1295280"/>
            <a:ext cx="487656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Zerwas (Reed), Rebecca</cp:lastModifiedBy>
  <cp:lastPrinted>2016-10-21T15:37:14Z</cp:lastPrinted>
  <dcterms:modified xsi:type="dcterms:W3CDTF">2018-02-05T02:31:04Z</dcterms:modified>
  <cp:revision>1931</cp:revision>
  <dc:subject/>
  <dc:title>Instructions</dc:title>
</cp:coreProperties>
</file>