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7824-4123-4617-B8E7-986E3A524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20C7-F386-43FB-940E-221CE400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C8E1-8F86-4952-9D91-5F781EA5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C2E1-F43B-4FCC-9BA8-56C79B73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3F3F-7DB3-44C2-BD9E-D08ACF87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D61A-CC88-4A0C-A944-8C15E297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443D-FE30-4648-B426-66397A77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A2F0-68B7-4F38-BB4A-CFD1484C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466E-5B97-442C-A451-F1247236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6A75-D8FD-442C-9AED-19AED694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EA8D-54DA-4AF0-BF4F-398B8B1A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E2E6-6C6F-4932-902F-2BDBB5D3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090E-4D4E-4461-81AC-B6701CD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2366-9943-4CA6-AFE9-D0952A95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71C9-60FA-442D-A766-E59C056F7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ules Back-to-Basics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8904-8617-4E48-AFD2-78188F81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3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Rules Back-to-Basics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index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5,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Market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view of COPS and R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ting Structu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ndsay L. Butterfi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Each Segment shall have one Segment vote. Each Rep. participating in the vote must be present. Consumer segment shall receive one vote and shall be equally divided in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 sub-seg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sidential, Commercial, Industrial) that receive 1/3 of this Consumer Segment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Each Standing Rep. (or Alternate or Proxy) shall vote as part of a Segment; Each Segment shall have one Segment vote, except the Consumer Segment which shall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5 Segment vo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divided into a Fractional Segment of 0.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ly conducte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ministr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s.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. shall have one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ffirmative votes of 8 Standing Rep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be the act of the Subcommitt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via telephone, b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elephone, but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Questions?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fere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 Reliability Council of Texas Technical Advisory Committee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 will cover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ternates/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Structure Comparis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% of the Standing Representatives of the Subcommitte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least one Standing Representative from each of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can vote on member’s behalf but shal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resentative (or Alternate or Proxy) shall vote as part of a Segment; Each Segment shall have one Segment vote, except the Consumer Segment which shall have 1.5 Segment vot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 Segment shall be equally divided into a Fractional Segment vote of 0.5 for each of the three sub-seg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case of abstentions (or absence of a Standing Member), the fractional vote shall be reallocated equally among the remaining voting members of that Segment; except for the Consumer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Standing Representative abstains from a vote, the fraction of the Consumer Segment Vote allocated to such representative is NOT included in the vote t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ing Representatives may participate in the meeting and vote via telephone, but shall not count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one Standing Representative in each of at least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not allow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6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egment shall have one Segment vote; The representative of each Voting Entity, present at the meeting and participating in the vote, shall receive an equal fraction of its Segment’s vote, except for the Consumer Segmen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 Segment also receives one Segment vote; however, it shall be equally divided into three sub-segments (Residential, Commercial, and Industrial) that receive 1/3 of the Consumer Segment V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ting Entities include ERCOT Corporate, Associate, and Adjunct Members; Only one representative of each Voting Entity present at the meeting may vote; For the Residential sub-segment, Voting Entities are limited to the Standing Representative or their designated Alternat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ase of abstentions, the Segment vote shall be allocated equally among the Voting Entities casting a vote; except for the Consumer Segment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Voting Entity from a sub-segment abstains from a vote, the fraction of the Consumer Segment Vote allocated to such representative is NOT included in the vote t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56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votes are primarily conducted for administrative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nding Representative shall have one vo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ffirmative votes of eight Standing Representatives shall be the act of the Subcommitt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S email vote on a request for Urgent status, the vote tally is done after 48 hour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Representatives may participate in the meeting via telephone, but cannot vote and shall not count towards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At least one Standing Rep. in each of at least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51% of Standing Reps. Of the Subcommitte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least one Standing Rep. from each of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Proxy is not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Proxy can vote on member’s behalf but sh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counted towards quo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oren, Ann</dc:creator>
  <dc:description/>
  <dc:language>en-US</dc:language>
  <cp:lastModifiedBy>LButterfield</cp:lastModifiedBy>
  <dcterms:modified xsi:type="dcterms:W3CDTF">2018-02-05T18:40:00Z</dcterms:modified>
  <cp:revision>71</cp:revision>
  <dc:subject/>
  <dc:title>Instructions</dc:title>
</cp:coreProperties>
</file>