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3A3A-3546-4E13-8170-5C0B9B05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80D5-31D7-4EAE-8359-63F0C4998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CA7C-D5A2-4BFE-BC61-767B6F87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9559-FE28-46B0-A071-4F2B9740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C222-FFC9-460E-95A6-1172FD5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4553-7B6B-4471-9ACD-58BE0D62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9C30-5AD6-42ED-B025-99E1E3B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ADF7-5F03-4496-A0F5-30C26340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82BA-2269-4F01-9568-90BCF369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6AC8-442A-44EA-85B2-339EB6FC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66D1-8015-47C3-963B-2A367A88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00CF-A0EA-4268-A415-1BFFBA68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9EB5-54A8-46A4-A2B1-815C720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3CF8-066B-4755-A96E-49958BD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F4F0-43D3-4C37-B387-88A575977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ules Back-to-Basics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F594-9E72-4D6A-B679-B8052677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3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Rules Back-to-Basics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index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5,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Market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view of COPS and R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ting Structu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ndsay L. Butterfi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Each Segment shall have one Segment vote. Each Rep. participating in the vote must be present. Consumer segment shall receive one vote and shall be equally divided in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 sub-seg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sidential, Commercial, Industrial) that receive 1/3 of this Consumer Segment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Each Standing Rep. (or Alternate or Proxy) shall vote as part of a Segment; Each Segment shall have one Segment vote, except the Consumer Segment which shall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5 Segment vo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divided into a Fractional Segment of 0.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ly conducte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ministr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s.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. shall have one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ffirmative votes of 8 Standing Rep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be the act of the Subcommitt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via telephone, b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elephone, but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Questions?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fere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 Reliability Council of Texas Technical Advisory Committee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 will cover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ternates/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Structure Comparis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% of the Standing Representatives of the Subcommitte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least one Standing Representative from each of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can vote on member’s behalf but shal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resentative (or Alternate or Proxy) shall vote as part of a Segment; Each Segment shall have one Segment vote, except the Consumer Segment which shall have 1.5 Segment vot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 Segment shall be equally divided into a Fractional Segment vote of 0.5 for each of the three sub-seg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case of abstentions (or absence of a Standing Member), the fractional vote shall be reallocated equally among the remaining voting members of that Segment; except for the Consumer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Standing Representative abstains from a vote, the fraction of the Consumer Segment Vote allocated to such representative is NOT included in the vote t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ing Representatives may participate in the meeting and vote via telephone, but shall not count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one Standing Representative in each of at least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not allow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6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egment shall have one Segment vote; The representative of each Voting Entity, present at the meeting and participating in the vote, shall receive an equal fraction of its Segment’s vote, except for the Consumer Segmen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 Segment also receives one Segment vote; however, it shall be equally divided into three sub-segments (Residential, Commercial, and Industrial) that receive 1/3 of the Consumer Segment V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ting Entities include ERCOT Corporate, Associate, and Adjunct Members; Only one representative of each Voting Entity present at the meeting may vote; For the Residential sub-segment, Voting Entities are limited to the Standing Representative or their designated Alternat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ase of abstentions, the Segment vote shall be allocated equally among the Voting Entities casting a vote; except for the Consumer Segment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Voting Entity from a sub-segment abstains from a vote, the fraction of the Consumer Segment Vote allocated to such representative is NOT included in the vote t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56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votes are primarily conducted for administrative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nding Representative shall have one vo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ffirmative votes of eight Standing Representatives shall be the act of the Subcommitt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S email vote on a request for Urgent status, the vote tally is done after 48 hour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Representatives may participate in the meeting via telephone, but cannot vote and shall not count towards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At least one Standing Rep. in each of at least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51% of Standing Reps. Of the Subcommitte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least one Standing Rep. from each of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Proxy is not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Proxy can vote on member’s behalf but sh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counted towards quo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oren, Ann</dc:creator>
  <dc:description/>
  <dc:language>en-US</dc:language>
  <cp:lastModifiedBy>LButterfield</cp:lastModifiedBy>
  <dcterms:modified xsi:type="dcterms:W3CDTF">2018-02-05T18:40:00Z</dcterms:modified>
  <cp:revision>71</cp:revision>
  <dc:subject/>
  <dc:title>Instructions</dc:title>
</cp:coreProperties>
</file>