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E4419-9989-4832-9866-F9818B15AE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BC5E7-96B2-4AEF-BB44-88F2BF0B7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D8F00-61F1-4313-BDEF-56C9AC973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9F5B8-03C8-4CCD-9066-3FE863651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EAFBB-E988-42E9-B9D4-FA1493F5B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586EF-49BE-4501-B320-AC2536EFA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0D0CE-2053-4810-8F87-2B9D24580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48944-F21E-4DDB-B52D-5F6F5213E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C7B13-C638-4CF6-A29F-667953A7E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8A47D-1B1F-4454-A58D-D551F7309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DBA0D-9177-45A9-B2AE-5A3D7332D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4FEC4-AD53-4C82-8F07-E1B0AD57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79BFC-72B2-4741-8C7F-88EE9D48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79AD8-8EAC-47C0-906E-10BCD7979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AA821-65A6-4D11-9B17-2CC52CE5ED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ket Rules Back-to-Basics Tr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tober 30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76588-A347-4546-9954-63FA2218D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ctober 30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rket Rules Back-to-Basics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rcot.com/committees/board/tac/index.html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0"/>
          <p:cNvSpPr/>
          <p:nvPr/>
        </p:nvSpPr>
        <p:spPr>
          <a:xfrm>
            <a:off x="2333520" y="5467320"/>
            <a:ext cx="6276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ebruary 5, 20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5"/>
          <p:cNvSpPr/>
          <p:nvPr/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RCOT Market R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Review of COPS and RM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Voting Structur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Lindsay L. Butterfiel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.  Comparison: COPS vs. RMS Structur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o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S:  Each Segment shall have one Segment vote. Each Rep. participating in the vote must be present. Consumer segment shall receive one vote and shall be equally divided into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hree sub-segment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Residential, Commercial, Industrial) that receive 1/3 of this Consumer Segment vo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MS:  Each Standing Rep. (or Alternate or Proxy) shall vote as part of a Segment; Each Segment shall have one Segment vote, except the Consumer Segment which shall hav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1.5 Segment vot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be divided into a Fractional Segment of 0.5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.  Comparison: COPS vs. RMS Structur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mail Vo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S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marily conducted fo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dministra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urpo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quorum of Standing Reps. Must particip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tanding Rep. shall have one vo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ffirmative votes of 8 Standing Reps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ll be the act of the Subcommitt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email vote can only be initiated by the Chair or Vice-Chai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quorum of Standing Representatives must particip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tes are tallied in same manner as a regular mee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.  Comparison: COPS vs. RMS Structur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hone Vo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S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ing Reps. may participate in the meeting via telephone, but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ANNOT vot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shall NOT count towards a quoru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ing Reps. may participate in the meeting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ND vot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a telephone, but shall NOT count towards a quoru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0000"/>
                </a:solidFill>
                <a:latin typeface="Comic Sans MS"/>
              </a:rPr>
              <a:t>Questions?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ferenc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ic Reliability Council of Texas Technical Advisory Committee Procedu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rcot.com/committees/board/tac/index.htm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ntroduc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we will cover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et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Quoru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Alternates/Prox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Voting/Email Votes/Phone Vo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ting Structure Comparis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Quoru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rox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Voting/Email Votes/Phone Vo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1. Meetings (RMS/ROS/WMS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Quoru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1% of the Standing Representatives of the Subcommitte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t least one Standing Representative from each of four Segment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Alternates and Prox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ignated in writing and sent to ERCOT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ternate Representative – can vote on member’s behalf and b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counted towards a quorum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xy – can vote on member’s behalf but shall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be counted towards a quorum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1.  Meetings (RMS/ROS/WMS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2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ot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2920" indent="-412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tanding Representative (or Alternate or Proxy) shall vote as part of a Segment; Each Segment shall have one Segment vote, except the Consumer Segment which shall have 1.5 Segment votes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70120" indent="-412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umer Segment shall be equally divided into a Fractional Segment vote of 0.5 for each of the three sub-segm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2920" indent="-412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act of the Subcommittee requires the majority of the aggregate of the Fractional Segment votes to b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70120" indent="-412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firmative;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70120" indent="-412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inimum total of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7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/3 vote is required for returning to a previously tabled item/stop debate and vote, i.e. call the question, limit or extend debate, waive not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2920" indent="-412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entions/Absen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70120" indent="-412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the case of abstentions (or absence of a Standing Member), the fractional vote shall be reallocated equally among the remaining voting members of that Segment; except for the Consumer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70120" indent="-412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the Consumer Segment, if no Standing Representative from a sub-segment is present at a meeting, the Consumer Segment vote is allocated equally to the sub-segment(s) that are voting; if a Standing Representative abstains from a vote, the fraction of the Consumer Segment Vote allocated to such representative is NOT included in the vote tal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371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onsumer two-step: If Consumer sub-segment not present, reallocate; then, if consumer sub-segment abstains, do NOT realloc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1.  Meetings (RMS/ROS/WMS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2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Email Vot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2920" indent="-4129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email vote can only be initiated by the Chair or Vice-Chair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2920" indent="-4129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quorum of Standing Representatives must participat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2920" indent="-4129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te tally is done at the close of two Business Days after notification of the vot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2920" indent="-4129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tes are tallied in same manner as a regular meeting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2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2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Phone Vot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2920" indent="-4129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nding Representatives may participate in the meeting and vote via telephone, but shall not count towards a quorum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2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2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1.  Meetings (PRS/COPS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Quoru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 least one Standing Representative in each of at least four Segment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Alternates and Prox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ignated in writing and sent to ERCOT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ternate Representative – can vote on member’s behalf and b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counted towards a quorum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xy – not allowed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1.  Meetings (PRS/COPS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96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Vo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360" indent="-396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Segment shall have one Segment vote; The representative of each Voting Entity, present at the meeting and participating in the vote, shall receive an equal fraction of its Segment’s vote, except for the Consumer Segment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5200" indent="-396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umer Segment also receives one Segment vote; however, it shall be equally divided into three sub-segments (Residential, Commercial, and Industrial) that receive 1/3 of the Consumer Segment Vo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6360" indent="-396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ting Entities include ERCOT Corporate, Associate, and Adjunct Members; Only one representative of each Voting Entity present at the meeting may vote; For the Residential sub-segment, Voting Entities are limited to the Standing Representative or their designated Alternate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resentativ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360" indent="-396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act of the Subcommittee requires the majority of the aggregate of the Fractional Segment votes to be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5200" indent="-396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ffirmative; 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5200" indent="-396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minimum total of th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/3 vote is required for returning to a previously tabled item/stop debate and vote, i.e. call the question, limit or extend debate, waive noti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360" indent="-396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stentions/Absenc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5200" indent="-396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he case of abstentions, the Segment vote shall be allocated equally among the Voting Entities casting a vote; except for the Consumer Segment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5200" indent="-396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the Consumer Segment, if no Standing Representative from a sub-segment is present at a meeting, the Consumer Segment vote is allocated equally to the sub-segment(s) that are voting; if a Voting Entity from a sub-segment abstains from a vote, the fraction of the Consumer Segment Vote allocated to such representative is NOT included in the vote tal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34440" indent="-356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onsumer two-step: If Consumer sub-segment not present, reallocate; then, if consumer sub-segment abstains, do NOT realloc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5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1.  Meetings (PRS/COPS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2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mail Vo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2920" indent="-412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ail votes are primarily conducted for administrative purpos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2920" indent="-412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mail vote can only be initiated by the Chair or Vice-Chai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2920" indent="-412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quorum of Standing Representatives must participat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2920" indent="-412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Standing Representative shall have one vo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2920" indent="-412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ffirmative votes of eight Standing Representatives shall be the act of the Subcommitte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2920" indent="-412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te tally is done at the close of two Business Days after notification of the vot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2920" indent="-412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 PRS email vote on a request for Urgent status, the vote tally is done after 48 hours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2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hone Vo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2920" indent="-412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ing Representatives may participate in the meeting via telephone, but cannot vote and shall not count towards a quorum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2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2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.  Comparison: COPS vs. RMS Structur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2920" indent="-412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Quoru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412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S:  At least one Standing Rep. in each of at least four Segmen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412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MS:  51% of Standing Reps. Of the Subcommitte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t least one Standing Rep. from each of four Segmen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2920" indent="-412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ox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412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S:  Proxy is not allow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412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MS:  Proxy can vote on member’s behalf but shall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counted towards quoru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2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Boren, Ann</dc:creator>
  <dc:description/>
  <dc:language>en-US</dc:language>
  <cp:lastModifiedBy>LButterfield</cp:lastModifiedBy>
  <dcterms:modified xsi:type="dcterms:W3CDTF">2018-02-05T18:40:00Z</dcterms:modified>
  <cp:revision>71</cp:revision>
  <dc:subject/>
  <dc:title>Instructions</dc:title>
</cp:coreProperties>
</file>