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8"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189" name="PlaceHolder 2"/>
          <p:cNvSpPr>
            <a:spLocks noGrp="1"/>
          </p:cNvSpPr>
          <p:nvPr>
            <p:ph type="dt" idx="68"/>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190" name="PlaceHolder 3"/>
          <p:cNvSpPr>
            <a:spLocks noGrp="1"/>
          </p:cNvSpPr>
          <p:nvPr>
            <p:ph type="sldImg"/>
          </p:nvPr>
        </p:nvSpPr>
        <p:spPr>
          <a:xfrm>
            <a:off x="1166760" y="692280"/>
            <a:ext cx="461664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1191"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2" name="PlaceHolder 5"/>
          <p:cNvSpPr>
            <a:spLocks noGrp="1"/>
          </p:cNvSpPr>
          <p:nvPr>
            <p:ph type="ftr" idx="69"/>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193" name="PlaceHolder 6"/>
          <p:cNvSpPr>
            <a:spLocks noGrp="1"/>
          </p:cNvSpPr>
          <p:nvPr>
            <p:ph type="sldNum" idx="70"/>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9F82C-88FE-4740-A5B5-1171384A6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66760" y="692280"/>
            <a:ext cx="4616640" cy="3463920"/>
          </a:xfrm>
          <a:prstGeom prst="rect">
            <a:avLst/>
          </a:prstGeom>
          <a:ln w="0">
            <a:noFill/>
          </a:ln>
        </p:spPr>
      </p:sp>
      <p:sp>
        <p:nvSpPr>
          <p:cNvPr id="121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5A24D-EE14-45C4-A4EB-24EAE7D72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66760" y="692280"/>
            <a:ext cx="4616640" cy="3463920"/>
          </a:xfrm>
          <a:prstGeom prst="rect">
            <a:avLst/>
          </a:prstGeom>
          <a:ln w="0">
            <a:noFill/>
          </a:ln>
        </p:spPr>
      </p:sp>
      <p:sp>
        <p:nvSpPr>
          <p:cNvPr id="1220"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C402-FF6F-4398-B4B6-C62F6A273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66760" y="692280"/>
            <a:ext cx="4616640" cy="3463920"/>
          </a:xfrm>
          <a:prstGeom prst="rect">
            <a:avLst/>
          </a:prstGeom>
          <a:ln w="0">
            <a:noFill/>
          </a:ln>
        </p:spPr>
      </p:sp>
      <p:sp>
        <p:nvSpPr>
          <p:cNvPr id="122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887B-7269-40AD-A3CF-322BBFFD7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66760" y="692280"/>
            <a:ext cx="4616640" cy="3463920"/>
          </a:xfrm>
          <a:prstGeom prst="rect">
            <a:avLst/>
          </a:prstGeom>
          <a:ln w="0">
            <a:noFill/>
          </a:ln>
        </p:spPr>
      </p:sp>
      <p:sp>
        <p:nvSpPr>
          <p:cNvPr id="1226"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F14B-05FC-47F6-85CD-C96CF2CC9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EB9810B-6354-4C08-9D9B-BC1F082B51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CDA9D00-3D51-4A51-803D-A56446C98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A57701A-2A5C-4639-B92F-A84EBD94303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37D5AF4-15EC-40B7-96BC-AB745C8EA60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54CB412-B892-4B8D-B160-6FC63C81454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6291B85-809E-4B5D-A404-6D30C453124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A17607E-0433-46D6-A7F4-884CC4DC5D1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857D4B4-384B-48D2-8827-B441A3EDDF3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8283C0E-61AD-4CBD-A417-039425461A3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B149F41-6D34-4008-954F-329B666A232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BAE37E3-EA46-4184-B529-43F6574EFCF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35F6B4ED-9A4B-4295-9865-8356E51D494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66105D0-5359-47AA-9890-913EEE4C14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145B6FED-2F15-4EA8-AB13-C79BF1A819B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4A5B80A3-C7FB-430D-9A51-23EEFA935AA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0A361A1D-5360-4981-9467-757484975D3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C2F1CA0E-2449-481E-A1B4-BF7DBAF4E58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A2A11215-0A20-4142-B921-E82C0076F9F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A1E2630B-DA67-4A3A-B317-455273601B5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28CA2BEB-965E-42F6-BEDD-9182318D218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4348AC6B-A418-4915-A085-52C44BCB267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CDFE2479-D05B-45D1-8191-CD07CCF88E1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A8C86971-FD75-427A-95F1-914C9A56FF4E}"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69FD0AF-C1BE-4228-9EB4-B6A6A1E8FD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8F588B9C-16FD-4AD9-9565-6A168790EC3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35C28DA-6289-4649-8301-4388AD6570A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C5E0BE5-FE87-40F0-B98D-09F290A8CB8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4EC61A9-1D27-457B-A41C-2C42125E5B7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1F99A55-73DD-473C-A9C6-E82D5693C0F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EB2953B-63C1-4DB6-90DD-7D5DB6DD587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80206C5-FBF0-4A54-BCE1-28B256ECBEB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5BB230C-A9AF-4AE7-AC4E-4031884926F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1D93AA0-614D-4DD6-B76C-10263417348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EFDE9F4-C743-4A52-ABC0-F203903ADBF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04865-C4CA-427B-A2A7-F552013991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6C3586A-A806-4C41-8BC8-ADE99A61004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F5EBF4E-AB0F-4307-B965-A6F4C15773E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8CE07EF-80C7-4072-9346-3C47CFBBE4FE}"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06BE379C-9502-4DF3-840D-F1286A9C2A0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6A69658C-AD12-425B-9BB4-77EBF344EBF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4D09E7E1-6489-42EE-A06B-5AADEC8DABD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566239C9-6E1C-40D1-8001-E5B03D5F8DF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47E66019-0226-4A5B-A785-09C5ABEA69B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D40AC765-C0A8-4B26-8F09-C3340E5D772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05681122-AB1E-430E-92ED-913B23AAF13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8D34B-D3EF-41EC-9359-4F0468AF5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4B9EC689-3794-4A59-B1B3-875FC373888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4B34FB16-21D5-4612-9464-D7DD5B9D99D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F25ADE2B-07E7-461E-A632-92C46122042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FB9A0668-3612-4539-B3FD-A3D73876523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ACCB31AB-66D9-423F-9A22-B2A690DFC8B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0"/>
          </p:nvPr>
        </p:nvSpPr>
        <p:spPr/>
        <p:txBody>
          <a:bodyPr/>
          <a:p>
            <a:fld id="{7B589CCA-6BEC-4594-8F7E-232627F6AA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C079AB5C-5C64-4D33-AC12-3E83EC099B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3A2CBE71-FCBC-4406-8915-28D22F6369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F34858DF-3C20-4F00-B48C-9F1352CF6C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9324E085-ACE4-427E-B475-6AD74AC611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5F8C3-66C3-4649-A8B0-AD5213624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CB691032-90E4-4FB1-A775-D045AF2F98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F5A645D4-1303-49CE-9D45-3E95DEDFBB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505ACE7A-1686-4DA7-A15A-05EE34D66F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DBD1A538-5481-4ED6-AFC4-A96510A95D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112F6BC9-F4E6-46B4-ADB3-B3764EB048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0"/>
          </p:nvPr>
        </p:nvSpPr>
        <p:spPr/>
        <p:txBody>
          <a:bodyPr/>
          <a:p>
            <a:fld id="{4D26F98A-8F91-4C6F-BFD5-4F477A1D53B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0"/>
          </p:nvPr>
        </p:nvSpPr>
        <p:spPr/>
        <p:txBody>
          <a:bodyPr/>
          <a:p>
            <a:fld id="{F4E3917C-A404-4E1F-80CE-3F578CDE13E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3"/>
          </p:nvPr>
        </p:nvSpPr>
        <p:spPr/>
        <p:txBody>
          <a:bodyPr/>
          <a:p>
            <a:fld id="{4053BDE5-0838-4D82-9214-3813F25350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5541D278-0BF8-4378-9C99-79B020BBF0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CA37FBDC-0573-462F-8151-DB295522FD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575BB-3244-4F10-8AA3-99B0FAA95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CE6405AB-A3A7-4F11-A63A-175EF233D1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56024AC2-8691-4615-960A-4A4F3A8D26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E8A67784-6E9A-4726-A2A2-EC74EE6879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4309AF02-5233-4FE4-BA7A-ED34E9B5B0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F43E67C1-4814-43E6-8B7D-AAAFF1091F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3A32D91E-C8DD-4762-9676-3DD49C9A75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50C93550-9475-4E45-AC69-99B0BFDE68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3"/>
          </p:nvPr>
        </p:nvSpPr>
        <p:spPr/>
        <p:txBody>
          <a:bodyPr/>
          <a:p>
            <a:fld id="{5AC0FCE9-BD9B-49D9-8567-7A8F3332E3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3"/>
          </p:nvPr>
        </p:nvSpPr>
        <p:spPr/>
        <p:txBody>
          <a:bodyPr/>
          <a:p>
            <a:fld id="{09952073-EF57-4D50-942C-C5861D1EEC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EC326EF7-F4EF-474D-A823-015018A26D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41943-1C70-4F62-846C-F768FA5A5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03101C0-9776-420C-AE20-9185B37FD3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F0ED30F-BAC6-46A7-B8DB-25E7AA6C49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11BB84E-C96B-4EB4-B120-86AE212376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FB1D043-8CE5-44F6-A73C-B2576D35FC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49B66CB-3EF2-4BD0-8549-05B8ADE89D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AC36A06-D3F7-41C1-895A-9E4031B7F3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F06B0A0-3508-4831-990C-9BAB2B69B7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EB4DAC2-3C45-4683-A17F-D42B1BAA3D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2CEC6D9-818A-4793-87A7-6D8F906D22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10790601-2B56-44E8-8B57-62E1BF9BBC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D4E70-819C-4127-BB62-BA270B8DB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AA41B676-9DC8-44A2-9ABA-ACDA30E755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889052AA-0ABE-4A92-814C-A3D97484B5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9DC75DCA-B258-43BB-A331-8DE9AA03F3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910D7A04-5AF6-46E2-B2EB-73B74A3997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9827C5D9-677F-47A8-9FB6-82548B9666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04A2A6D4-4408-4C1C-8A08-3299BB9F66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2A7D005C-1827-42CF-8EE7-2F69B57A28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4FF863E0-19B1-49DC-9ACD-2DC22752B6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FF367D36-553E-4462-ACAE-853B15DA8B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CC292256-12D3-442F-B341-3E0C7C6026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B9286-8262-4783-9B55-7553DD5DB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9B1F3C8B-C2EB-4CD2-98BC-4575D4E208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5A3EF594-A2FF-4AE9-95E2-0B09643A20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A5F2A729-FAB9-4397-9A0C-5DC9A43474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3DFA2240-5457-4B02-B9DF-AE81C895DD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B916575E-CF12-4A09-A7E4-BE89AE06CF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8710DD2-DD0E-4274-B9CF-422BDBBBAF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F04EAE8-245A-4F68-A762-21219BB6E0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9E76C85-051B-4960-9585-2303759519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026F9C6-3B97-4C45-B546-A1331AD1A5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E58BB91-0486-40CD-B2BE-7CAAA7A784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8DEFE81-196D-46B0-91F9-36BFBB13EB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DC50F-2350-4D5E-97DE-8D05D8986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466DA5A-1CEC-4490-8CA2-AB1E2B6ACB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6BECE9E-00A8-4856-8AC2-F96DC8A36A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2EA6191-D44F-49FC-A97E-773E33843F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11A3775E-D9D1-4911-926B-42752FFC5E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E3454D68-F77A-49CF-A75D-37975BC8BC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AAE8CD9D-4072-4CDC-8C67-DC8D2365C00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75391413-73B4-4E98-A9D7-1F70C2455C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1891E18-1AEC-42E3-A7F5-63CB8F47B1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F52C976-FEB4-4539-9960-CCAD0383B2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0A2E6F8A-EB87-4296-BCB5-F5A16BA2EC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C45F7-66EE-4C8C-AFDE-BDC440756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4E70922-E157-4DCC-B960-E522599D37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408EA85-D669-45BF-B604-1A94EAC1EC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DFCDB69-8356-47BD-A814-7F07EF4A07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DC578CF-5237-4F24-BAE2-3502A824A2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A4E67E5-3E5B-48AB-BE57-90AEE88780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742AF613-D185-4A9B-83C7-E0EDA7B020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C39A6727-7C19-4D89-84FC-BF5CDA85CB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4A6835A6-B06E-439F-9B8E-7131BFD788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2F2B9700-0939-4140-98F3-0FF808150B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99AD8E46-A926-444B-A5A7-1A12986FC1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81B42-F7BF-4CD6-B7ED-47C379843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828C167B-CEE2-43E7-BA99-01DFBFBDB3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9B66EF5-6248-4F9B-BE8A-030341BC1B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3A72A6F-7390-478A-99E4-0C7D09F1DA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62BA186-CEE5-412A-A91E-3B1A7F356E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3028A59-B049-418E-B7C9-E01958F5AF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33C851D-3467-4A17-8F09-8B93DD0B19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8F6ECC9D-56B8-45A7-9B5F-1581945D85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8EF49A7A-BDF5-495B-9BA9-51619E46FF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9150689E-EABC-417A-8691-5E35BBD5B4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1"/>
          </p:nvPr>
        </p:nvSpPr>
        <p:spPr/>
        <p:txBody>
          <a:bodyPr/>
          <a:p>
            <a:fld id="{A7B15D60-E2D2-4B06-BBA0-2B4C1E05486B}"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485B50-71C9-4DC8-9E35-0913428CC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D0B1157F-27D5-44FD-A952-FE5ECFE256F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13511C9F-CC35-47DC-AC2C-F2A070680D6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073B9B2C-5D6E-40E5-8D0C-898B0687B2F7}"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2FBEF4EB-992A-443A-A064-1D5BD47429B3}"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699EEEF3-E404-42FA-8867-4EF4A695BC2E}"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A7750C55-5681-4AF2-A43F-94ACB3F5F94A}"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189E4BD3-3A5C-4CE5-83BB-38B7D6B081CA}"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DAF20F37-4718-40B2-8CDE-148DE1B916F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4B89FDFC-1147-41AD-A5C1-EE1741ED6B8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1"/>
          </p:nvPr>
        </p:nvSpPr>
        <p:spPr/>
        <p:txBody>
          <a:bodyPr/>
          <a:p>
            <a:fld id="{52A96799-46E3-4FAC-9739-A16DD8C87F36}"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EAA23C-C20A-4076-B850-A15E3197CF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1"/>
          </p:nvPr>
        </p:nvSpPr>
        <p:spPr/>
        <p:txBody>
          <a:bodyPr/>
          <a:p>
            <a:fld id="{36836372-491D-4EAB-AF0E-31EF79A000E3}"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A21FF7ED-3701-4245-9479-A483BFE497BD}"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F952435B-7116-43C4-954B-38F9B6AD4F3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6EEBE221-87D0-4874-8137-2E932472D6FC}"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51E60884-EF17-497A-A1EB-C6289ED3D38D}"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028B55D5-6665-4A43-AEFC-2D12DEDCDBE8}"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5F4BAECB-383C-49CA-A185-7E3E078F42B9}"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9D8BCD4A-C375-4E0F-898E-72859B784750}"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1ED63D1-DA4F-4DF8-AE15-719729678CE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BE4381B-0C5E-45C2-AE49-E2D198FA3A0E}"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55AB3177-C62D-403C-BDF9-A9E6CD44FFD0}"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56D0C441-3409-448B-AEDD-CFEE69B6A3C2}"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AAE69E5E-7396-4EAA-BEEE-E2B705E7DBAC}"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7"/>
          </p:nvPr>
        </p:nvSpPr>
        <p:spPr/>
        <p:txBody>
          <a:bodyPr/>
          <a:p>
            <a:fld id="{C6345EDD-94E3-4F6D-9BFE-6A6553501E5D}"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AD2E0DAC-4C6E-4692-A2BE-6256FFF6C66F}"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B499D4DD-EB87-49E7-985D-272944F3AA4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CD78A623-9D9A-4963-8743-419D6D226BCF}"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F2BDC3B3-C033-41C0-9754-41D2C12C5028}"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E079980A-717D-430C-83DF-B81A9A2EE63D}"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459BFF1B-9F60-41DB-9E0E-D829918423C7}"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0AE1CDF5-086E-4DBC-A17D-475089AAA11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30F98DCE-B174-4195-965F-16A248AB57C0}"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21A59E1F-F115-445E-B9C1-48AE1B304B50}"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7"/>
          </p:nvPr>
        </p:nvSpPr>
        <p:spPr/>
        <p:txBody>
          <a:bodyPr/>
          <a:p>
            <a:fld id="{19B8A2A2-FAFA-4958-820A-9B62F8DE10A4}"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7"/>
          </p:nvPr>
        </p:nvSpPr>
        <p:spPr/>
        <p:txBody>
          <a:bodyPr/>
          <a:p>
            <a:fld id="{467BC988-1B66-403B-AD00-769DCFEF5637}"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0"/>
          </p:nvPr>
        </p:nvSpPr>
        <p:spPr/>
        <p:txBody>
          <a:bodyPr/>
          <a:p>
            <a:fld id="{7D2CBE20-6868-4E26-A71F-0BAC03FB2AD5}"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0"/>
          </p:nvPr>
        </p:nvSpPr>
        <p:spPr/>
        <p:txBody>
          <a:bodyPr/>
          <a:p>
            <a:fld id="{68C9F387-E950-4FCE-9BEA-1FF6B8D287A6}"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0"/>
          </p:nvPr>
        </p:nvSpPr>
        <p:spPr/>
        <p:txBody>
          <a:bodyPr/>
          <a:p>
            <a:fld id="{7A32ECFF-2803-46CC-9688-E6C02102161B}"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0"/>
          </p:nvPr>
        </p:nvSpPr>
        <p:spPr/>
        <p:txBody>
          <a:bodyPr/>
          <a:p>
            <a:fld id="{8FFB6AE0-4759-48E3-AB52-FFE26E8157DA}"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0"/>
          </p:nvPr>
        </p:nvSpPr>
        <p:spPr/>
        <p:txBody>
          <a:bodyPr/>
          <a:p>
            <a:fld id="{DA495196-BBDF-4F77-8BBE-AF1997E67D40}"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0"/>
          </p:nvPr>
        </p:nvSpPr>
        <p:spPr/>
        <p:txBody>
          <a:bodyPr/>
          <a:p>
            <a:fld id="{4C8F7339-78A4-4FE1-97CF-373A41DAB897}"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0AEDDD09-E4E8-4732-B4F0-DAB562DE192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6FD548A0-5A9C-4A8C-A2B0-635EDE80555A}"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E4DA1F27-5B21-4F23-BD87-5D6CAB8ABA1A}"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0"/>
          </p:nvPr>
        </p:nvSpPr>
        <p:spPr/>
        <p:txBody>
          <a:bodyPr/>
          <a:p>
            <a:fld id="{2E82493D-33B2-4FB7-BF12-8AB10E4B0DF7}"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0"/>
          </p:nvPr>
        </p:nvSpPr>
        <p:spPr/>
        <p:txBody>
          <a:bodyPr/>
          <a:p>
            <a:fld id="{3DBA21D5-2B00-4495-A5F7-D0F3932FB349}"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0"/>
          </p:nvPr>
        </p:nvSpPr>
        <p:spPr/>
        <p:txBody>
          <a:bodyPr/>
          <a:p>
            <a:fld id="{47A2A828-6B05-41BF-8274-D1A192102376}"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D41FBA1F-C463-425E-A88C-CE96FEE15CE2}"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BE82E23E-5467-4F28-9A9C-8FBE7EB740C6}"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C1712664-AFD6-4CAC-A0A2-620175629015}"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730AC517-4880-49AF-A17F-0BF79236DCEE}"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F663F06D-B304-4901-9E90-F713A2EC5018}"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1F453EC5-0A12-446A-AB3C-3840B01CAC18}"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B74D0F7B-E509-4772-B0E3-AB0A1B3BF95C}"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FACD895D-332B-47ED-9581-3351EE2D6555}"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64BDF84D-E086-4E61-9591-4EE6CB6150C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D4F73C79-2C46-4185-BEEE-B2663D805497}"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8660C42C-C5AB-4357-98F6-3120232E987B}"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3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D37A45CB-F08E-4A77-BCB6-BFFE333CEDEC}"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9AFFC45D-4C99-48CC-BB36-66711FEDEBEB}"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F6A60B01-DCD9-428E-B696-A678EC8F1B48}"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32BB1487-19C0-4F1D-8F5A-41CD06816D2A}"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5672FF16-2212-4BA9-95BC-507612F32183}"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5E985304-C45A-4D17-8A37-41FDE8554D0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C046A4B9-68E1-45AE-AFA5-7E4B9C79EB80}"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83AC70D9-4D2F-4961-8285-0937D4DD985B}"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A85B0DB9-942B-4A49-A611-713287D9DBB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C38F25D0-0368-4281-BE26-1DC9674E88A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7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308277C4-2060-4CE8-80D5-3BDCA62CB5F0}"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2EF69C97-A2AD-45FA-98B3-842FE2E170C7}"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968B958-8959-4C15-9B8C-ACA85F1AE7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6842048E-B82C-41AD-964B-7FBB42369371}"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064FAA-D6C5-4044-A159-B804EB8FB0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41B127-4183-4132-8ACD-B98C246C0C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A5984A-AE3B-4C7A-AF92-0E3082A6CB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FA39927-CDCB-4E09-93ED-4DF78DCED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A4608F-D424-4C5B-90DF-88680A670B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F6C0E1-81E6-412C-A2F3-438C93C86D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DDC73D-E06B-4692-85A3-B5C05EDA5C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AFFE8-2D03-404A-91B8-A2CAC9B622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5C7FA-9655-409F-8AFF-363F385D83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674DE3-804A-4BE6-A14F-D9EB20BF4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8E6C10-1F0B-4CA2-8193-8377CCEF6B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A1A5E7-3683-4491-B4F1-53AFE4A509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7D1E27-73EB-480B-8F23-3D7456A23F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33C561-7964-49D5-BCE9-AD524EB03E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F115471-1228-4640-B483-10566E62E4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231D22-B19B-42EB-B659-534E66C4E6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429A1F-2A51-4309-8E78-77FD66AB14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5E0D30-91A0-4529-BDFA-191EFBBD36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63913A-E936-45C7-A982-54B3EB50B1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8DDF4C-6E46-4F9E-A15C-6DECCA1B02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838B17-2C0F-40C1-8520-1C8C1CF1C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5573DD-FC8B-4CAF-AF47-E441631B98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2670D4-8D27-4DD1-B4B1-A4630A0BCF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BF19F3-2342-49D8-BC6A-232EC4FCE8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4D9125-D31B-4E44-97EB-F38CDD45C1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9BB54C9-FA2D-42AE-AA97-4D139EE10F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65E4CF-53CB-4376-9B42-98146B81D2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D2F7124-0DAC-4390-8428-7735766120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14CDD7C-F81A-4B60-8A64-E5CE26FE01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6"/>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6"/>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6"/>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6"/>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D1B72EA-CC44-4092-8082-704B5A504D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6"/>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6"/>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6"/>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6"/>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6"/>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6"/>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6"/>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F048E7E-EC2B-43A0-BCC2-B8289A56735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44490FA-D374-4DBE-A6BC-2878ACE9178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3703CED-5E61-4E69-BD48-2E52C74F485F}" type="slidenum">
              <a:t>&lt;#&gt;</a:t>
            </a:fld>
          </a:p>
        </p:txBody>
      </p:sp>
      <p:sp>
        <p:nvSpPr>
          <p:cNvPr id="6" name="PlaceHolder 5"/>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4B7C-87C5-427A-B81F-E2E80B678B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4366-9E49-4663-8D58-BC4523743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Line 12"/>
          <p:cNvSpPr/>
          <p:nvPr/>
        </p:nvSpPr>
        <p:spPr>
          <a:xfrm>
            <a:off x="0" y="673200"/>
            <a:ext cx="9144000" cy="0"/>
          </a:xfrm>
          <a:prstGeom prst="line">
            <a:avLst/>
          </a:prstGeom>
          <a:ln w="57240">
            <a:solidFill>
              <a:srgbClr val="d261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0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07" name="PlaceHolder 3"/>
          <p:cNvSpPr>
            <a:spLocks noGrp="1"/>
          </p:cNvSpPr>
          <p:nvPr>
            <p:ph type="dt" idx="2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408" name="PlaceHolder 4"/>
          <p:cNvSpPr>
            <a:spLocks noGrp="1"/>
          </p:cNvSpPr>
          <p:nvPr>
            <p:ph type="sldNum" idx="2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38E9-C150-4458-98E1-7EBCD039C7E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09" name="PlaceHolder 5"/>
          <p:cNvSpPr>
            <a:spLocks noGrp="1"/>
          </p:cNvSpPr>
          <p:nvPr>
            <p:ph type="ftr" idx="2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46" name="Rectangle 1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1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1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Straight Connector 2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Straight Connector 2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Straight Connector 2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Straight Connector 2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Straight Connector 2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2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3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3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Straight Connector 33"/>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4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464" name="PlaceHolder 3"/>
          <p:cNvSpPr>
            <a:spLocks noGrp="1"/>
          </p:cNvSpPr>
          <p:nvPr>
            <p:ph type="dt" idx="23"/>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Date</a:t>
            </a:r>
            <a:endParaRPr b="0" lang="en-US" sz="1200" spc="-1" strike="noStrike">
              <a:solidFill>
                <a:srgbClr val="000000"/>
              </a:solidFill>
              <a:latin typeface="Times New Roman"/>
            </a:endParaRPr>
          </a:p>
        </p:txBody>
      </p:sp>
      <p:sp>
        <p:nvSpPr>
          <p:cNvPr id="465" name="PlaceHolder 4"/>
          <p:cNvSpPr>
            <a:spLocks noGrp="1"/>
          </p:cNvSpPr>
          <p:nvPr>
            <p:ph type="ftr" idx="24"/>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Meeting Title (optional)</a:t>
            </a:r>
            <a:endParaRPr b="0" lang="en-US" sz="1200" spc="-1" strike="noStrike">
              <a:solidFill>
                <a:srgbClr val="000000"/>
              </a:solidFill>
              <a:latin typeface="Times New Roman"/>
            </a:endParaRPr>
          </a:p>
        </p:txBody>
      </p:sp>
      <p:sp>
        <p:nvSpPr>
          <p:cNvPr id="466" name="PlaceHolder 5"/>
          <p:cNvSpPr>
            <a:spLocks noGrp="1"/>
          </p:cNvSpPr>
          <p:nvPr>
            <p:ph type="sldNum" idx="25"/>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9F64A-8F1D-410D-8D5D-BA405A4CDDE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Line 12"/>
          <p:cNvSpPr/>
          <p:nvPr/>
        </p:nvSpPr>
        <p:spPr>
          <a:xfrm>
            <a:off x="0" y="673200"/>
            <a:ext cx="9144000" cy="0"/>
          </a:xfrm>
          <a:prstGeom prst="line">
            <a:avLst/>
          </a:prstGeom>
          <a:ln w="57240">
            <a:solidFill>
              <a:srgbClr val="d261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1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13" name="PlaceHolder 3"/>
          <p:cNvSpPr>
            <a:spLocks noGrp="1"/>
          </p:cNvSpPr>
          <p:nvPr>
            <p:ph type="dt" idx="2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514" name="PlaceHolder 4"/>
          <p:cNvSpPr>
            <a:spLocks noGrp="1"/>
          </p:cNvSpPr>
          <p:nvPr>
            <p:ph type="sldNum" idx="2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CEE8-B6AA-4881-911D-C29889EE9D6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5" name="PlaceHolder 5"/>
          <p:cNvSpPr>
            <a:spLocks noGrp="1"/>
          </p:cNvSpPr>
          <p:nvPr>
            <p:ph type="ftr" idx="2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traight Connector 1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Straight Connector 1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Straight Connector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Straight Connector 2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Rectangle 20"/>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Straight Connector 24"/>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Oval 2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6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61" name="PlaceHolder 3"/>
          <p:cNvSpPr>
            <a:spLocks noGrp="1"/>
          </p:cNvSpPr>
          <p:nvPr>
            <p:ph type="dt" idx="2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562" name="PlaceHolder 4"/>
          <p:cNvSpPr>
            <a:spLocks noGrp="1"/>
          </p:cNvSpPr>
          <p:nvPr>
            <p:ph type="sldNum" idx="3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F755C-E762-4569-A62A-52D020030D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63" name="PlaceHolder 5"/>
          <p:cNvSpPr>
            <a:spLocks noGrp="1"/>
          </p:cNvSpPr>
          <p:nvPr>
            <p:ph type="ftr" idx="3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Straight Connector 16"/>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Oval 17"/>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Straight Connector 1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Rectangle 19"/>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Straight Connector 23"/>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Straight Connector 23"/>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Straight Connector 25"/>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0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09" name="PlaceHolder 3"/>
          <p:cNvSpPr>
            <a:spLocks noGrp="1"/>
          </p:cNvSpPr>
          <p:nvPr>
            <p:ph type="dt" idx="3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610" name="PlaceHolder 4"/>
          <p:cNvSpPr>
            <a:spLocks noGrp="1"/>
          </p:cNvSpPr>
          <p:nvPr>
            <p:ph type="sldNum" idx="3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A5036-E002-4668-847B-BB834EFF9D4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1" name="PlaceHolder 5"/>
          <p:cNvSpPr>
            <a:spLocks noGrp="1"/>
          </p:cNvSpPr>
          <p:nvPr>
            <p:ph type="ftr" idx="34"/>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6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66" name="PlaceHolder 3"/>
          <p:cNvSpPr>
            <a:spLocks noGrp="1"/>
          </p:cNvSpPr>
          <p:nvPr>
            <p:ph type="dt" idx="35"/>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667" name="PlaceHolder 4"/>
          <p:cNvSpPr>
            <a:spLocks noGrp="1"/>
          </p:cNvSpPr>
          <p:nvPr>
            <p:ph type="ftr" idx="36"/>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668" name="PlaceHolder 5"/>
          <p:cNvSpPr>
            <a:spLocks noGrp="1"/>
          </p:cNvSpPr>
          <p:nvPr>
            <p:ph type="sldNum" idx="37"/>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459F-6CFB-4B8B-A1EF-C07002F25E1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1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3" name="PlaceHolder 3"/>
          <p:cNvSpPr>
            <a:spLocks noGrp="1"/>
          </p:cNvSpPr>
          <p:nvPr>
            <p:ph type="dt" idx="3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714" name="PlaceHolder 4"/>
          <p:cNvSpPr>
            <a:spLocks noGrp="1"/>
          </p:cNvSpPr>
          <p:nvPr>
            <p:ph type="sldNum" idx="3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DED8-44C7-4C41-AB6F-6BCC0BA4B6C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15" name="PlaceHolder 5"/>
          <p:cNvSpPr>
            <a:spLocks noGrp="1"/>
          </p:cNvSpPr>
          <p:nvPr>
            <p:ph type="ftr" idx="40"/>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752"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76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770" name="PlaceHolder 3"/>
          <p:cNvSpPr>
            <a:spLocks noGrp="1"/>
          </p:cNvSpPr>
          <p:nvPr>
            <p:ph type="dt" idx="41"/>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1/9/2018</a:t>
            </a:r>
            <a:endParaRPr b="0" lang="en-US" sz="1200" spc="-1" strike="noStrike">
              <a:solidFill>
                <a:srgbClr val="000000"/>
              </a:solidFill>
              <a:latin typeface="Times New Roman"/>
            </a:endParaRPr>
          </a:p>
        </p:txBody>
      </p:sp>
      <p:sp>
        <p:nvSpPr>
          <p:cNvPr id="771" name="PlaceHolder 4"/>
          <p:cNvSpPr>
            <a:spLocks noGrp="1"/>
          </p:cNvSpPr>
          <p:nvPr>
            <p:ph type="ftr" idx="42"/>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December TAC &amp; Board of Directors Update </a:t>
            </a:r>
            <a:endParaRPr b="0" lang="en-US" sz="1200" spc="-1" strike="noStrike">
              <a:solidFill>
                <a:srgbClr val="000000"/>
              </a:solidFill>
              <a:latin typeface="Times New Roman"/>
            </a:endParaRPr>
          </a:p>
        </p:txBody>
      </p:sp>
      <p:sp>
        <p:nvSpPr>
          <p:cNvPr id="772" name="PlaceHolder 5"/>
          <p:cNvSpPr>
            <a:spLocks noGrp="1"/>
          </p:cNvSpPr>
          <p:nvPr>
            <p:ph type="sldNum" idx="43"/>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9E49-2ECA-4679-8E68-7A0900A4EF4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81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817" name="PlaceHolder 3"/>
          <p:cNvSpPr>
            <a:spLocks noGrp="1"/>
          </p:cNvSpPr>
          <p:nvPr>
            <p:ph type="dt" idx="4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818" name="PlaceHolder 4"/>
          <p:cNvSpPr>
            <a:spLocks noGrp="1"/>
          </p:cNvSpPr>
          <p:nvPr>
            <p:ph type="ftr" idx="4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819" name="PlaceHolder 5"/>
          <p:cNvSpPr>
            <a:spLocks noGrp="1"/>
          </p:cNvSpPr>
          <p:nvPr>
            <p:ph type="sldNum" idx="4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0908-7CC4-4B10-B2E8-4EBF9CE851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8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864" name="PlaceHolder 3"/>
          <p:cNvSpPr>
            <a:spLocks noGrp="1"/>
          </p:cNvSpPr>
          <p:nvPr>
            <p:ph type="dt" idx="4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865" name="PlaceHolder 4"/>
          <p:cNvSpPr>
            <a:spLocks noGrp="1"/>
          </p:cNvSpPr>
          <p:nvPr>
            <p:ph type="ftr" idx="4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866" name="PlaceHolder 5"/>
          <p:cNvSpPr>
            <a:spLocks noGrp="1"/>
          </p:cNvSpPr>
          <p:nvPr>
            <p:ph type="sldNum" idx="4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4D8E-C31A-4B50-A26E-E19E631FCF6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Date</a:t>
            </a:r>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60EA18-1E64-4970-9F26-8D53771D0E1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91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911" name="PlaceHolder 3"/>
          <p:cNvSpPr>
            <a:spLocks noGrp="1"/>
          </p:cNvSpPr>
          <p:nvPr>
            <p:ph type="dt" idx="5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912" name="PlaceHolder 4"/>
          <p:cNvSpPr>
            <a:spLocks noGrp="1"/>
          </p:cNvSpPr>
          <p:nvPr>
            <p:ph type="sldNum" idx="5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A6E31-B765-4B7A-B344-0CC05C256D7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13" name="PlaceHolder 5"/>
          <p:cNvSpPr>
            <a:spLocks noGrp="1"/>
          </p:cNvSpPr>
          <p:nvPr>
            <p:ph type="ftr" idx="5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95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958" name="PlaceHolder 3"/>
          <p:cNvSpPr>
            <a:spLocks noGrp="1"/>
          </p:cNvSpPr>
          <p:nvPr>
            <p:ph type="dt" idx="5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959" name="PlaceHolder 4"/>
          <p:cNvSpPr>
            <a:spLocks noGrp="1"/>
          </p:cNvSpPr>
          <p:nvPr>
            <p:ph type="ftr" idx="54"/>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960" name="PlaceHolder 5"/>
          <p:cNvSpPr>
            <a:spLocks noGrp="1"/>
          </p:cNvSpPr>
          <p:nvPr>
            <p:ph type="sldNum" idx="5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80371-1CD4-4CA9-B651-F9DA48AD0A2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006" name="PlaceHolder 3"/>
          <p:cNvSpPr>
            <a:spLocks noGrp="1"/>
          </p:cNvSpPr>
          <p:nvPr>
            <p:ph type="dt" idx="5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1007" name="PlaceHolder 4"/>
          <p:cNvSpPr>
            <a:spLocks noGrp="1"/>
          </p:cNvSpPr>
          <p:nvPr>
            <p:ph type="sldNum" idx="5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A488-383F-484A-B1BA-55AFB1BC6F3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08" name="PlaceHolder 5"/>
          <p:cNvSpPr>
            <a:spLocks noGrp="1"/>
          </p:cNvSpPr>
          <p:nvPr>
            <p:ph type="ftr" idx="5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5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054" name="PlaceHolder 3"/>
          <p:cNvSpPr>
            <a:spLocks noGrp="1"/>
          </p:cNvSpPr>
          <p:nvPr>
            <p:ph type="dt" idx="5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1055" name="PlaceHolder 4"/>
          <p:cNvSpPr>
            <a:spLocks noGrp="1"/>
          </p:cNvSpPr>
          <p:nvPr>
            <p:ph type="sldNum" idx="6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A1C9-AEA1-4789-A3A4-8E95D8EB012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56" name="PlaceHolder 5"/>
          <p:cNvSpPr>
            <a:spLocks noGrp="1"/>
          </p:cNvSpPr>
          <p:nvPr>
            <p:ph type="ftr" idx="6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0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01" name="PlaceHolder 3"/>
          <p:cNvSpPr>
            <a:spLocks noGrp="1"/>
          </p:cNvSpPr>
          <p:nvPr>
            <p:ph type="dt" idx="6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1102" name="PlaceHolder 4"/>
          <p:cNvSpPr>
            <a:spLocks noGrp="1"/>
          </p:cNvSpPr>
          <p:nvPr>
            <p:ph type="ftr" idx="63"/>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1103" name="PlaceHolder 5"/>
          <p:cNvSpPr>
            <a:spLocks noGrp="1"/>
          </p:cNvSpPr>
          <p:nvPr>
            <p:ph type="sldNum" idx="6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536A-0589-4CAE-BC7B-787D26FC0A6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4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48" name="PlaceHolder 3"/>
          <p:cNvSpPr>
            <a:spLocks noGrp="1"/>
          </p:cNvSpPr>
          <p:nvPr>
            <p:ph type="dt" idx="65"/>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1149" name="PlaceHolder 4"/>
          <p:cNvSpPr>
            <a:spLocks noGrp="1"/>
          </p:cNvSpPr>
          <p:nvPr>
            <p:ph type="ftr" idx="66"/>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1150" name="PlaceHolder 5"/>
          <p:cNvSpPr>
            <a:spLocks noGrp="1"/>
          </p:cNvSpPr>
          <p:nvPr>
            <p:ph type="sldNum" idx="6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BC305-76A9-421D-A0D3-2BC49A913BA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2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26"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127" name="PlaceHolder 4"/>
          <p:cNvSpPr>
            <a:spLocks noGrp="1"/>
          </p:cNvSpPr>
          <p:nvPr>
            <p:ph type="ftr" idx="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
        <p:nvSpPr>
          <p:cNvPr id="12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F4FB-510F-443E-84C3-B5B308373E6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12"/>
          <p:cNvSpPr/>
          <p:nvPr/>
        </p:nvSpPr>
        <p:spPr>
          <a:xfrm>
            <a:off x="0" y="673200"/>
            <a:ext cx="9144000" cy="0"/>
          </a:xfrm>
          <a:prstGeom prst="line">
            <a:avLst/>
          </a:prstGeom>
          <a:ln w="57240">
            <a:solidFill>
              <a:srgbClr val="d261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7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75"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1/9/2018</a:t>
            </a:r>
            <a:endParaRPr b="0" lang="en-US" sz="1200" spc="-1" strike="noStrike">
              <a:solidFill>
                <a:srgbClr val="000000"/>
              </a:solidFill>
              <a:latin typeface="Times New Roman"/>
            </a:endParaRPr>
          </a:p>
        </p:txBody>
      </p:sp>
      <p:sp>
        <p:nvSpPr>
          <p:cNvPr id="176" name="PlaceHolder 4"/>
          <p:cNvSpPr>
            <a:spLocks noGrp="1"/>
          </p:cNvSpPr>
          <p:nvPr>
            <p:ph type="ftr" idx="1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December TAC &amp; Board of Directors Update </a:t>
            </a:r>
            <a:endParaRPr b="0" lang="en-US" sz="1200" spc="-1" strike="noStrike">
              <a:solidFill>
                <a:srgbClr val="000000"/>
              </a:solidFill>
              <a:latin typeface="Times New Roman"/>
            </a:endParaRPr>
          </a:p>
        </p:txBody>
      </p:sp>
      <p:sp>
        <p:nvSpPr>
          <p:cNvPr id="17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2"/>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9C7E-E58A-4B6A-8A17-64E85883DC0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2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22" name="PlaceHolder 3"/>
          <p:cNvSpPr>
            <a:spLocks noGrp="1"/>
          </p:cNvSpPr>
          <p:nvPr>
            <p:ph type="dt" idx="13"/>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223" name="PlaceHolder 4"/>
          <p:cNvSpPr>
            <a:spLocks noGrp="1"/>
          </p:cNvSpPr>
          <p:nvPr>
            <p:ph type="ftr" idx="14"/>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1" name="Picture 11" descr=""/>
          <p:cNvPicPr/>
          <p:nvPr/>
        </p:nvPicPr>
        <p:blipFill>
          <a:blip r:embed="rId2"/>
          <a:stretch/>
        </p:blipFill>
        <p:spPr>
          <a:xfrm>
            <a:off x="212760" y="0"/>
            <a:ext cx="8718480" cy="13716000"/>
          </a:xfrm>
          <a:prstGeom prst="rect">
            <a:avLst/>
          </a:prstGeom>
          <a:ln w="0">
            <a:noFill/>
          </a:ln>
        </p:spPr>
      </p:pic>
      <p:sp>
        <p:nvSpPr>
          <p:cNvPr id="262" name="PlaceHolder 1"/>
          <p:cNvSpPr>
            <a:spLocks noGrp="1"/>
          </p:cNvSpPr>
          <p:nvPr>
            <p:ph type="ftr" idx="1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00" name="Picture 11" descr=""/>
          <p:cNvPicPr/>
          <p:nvPr/>
        </p:nvPicPr>
        <p:blipFill>
          <a:blip r:embed="rId2"/>
          <a:stretch/>
        </p:blipFill>
        <p:spPr>
          <a:xfrm>
            <a:off x="212760" y="0"/>
            <a:ext cx="8718480" cy="13716000"/>
          </a:xfrm>
          <a:prstGeom prst="rect">
            <a:avLst/>
          </a:prstGeom>
          <a:ln w="0">
            <a:noFill/>
          </a:ln>
        </p:spPr>
      </p:pic>
      <p:sp>
        <p:nvSpPr>
          <p:cNvPr id="301"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96600E-A589-44F2-A6E1-E882D71F2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ftr" idx="1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Rectangle 1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Straight Connector 2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Straight Connector 2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Straight Connector 2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Straight Connector 2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Straight Connector 2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Straight Connector 27"/>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Rectangle 28"/>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29"/>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30"/>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31"/>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32"/>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33"/>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Line 14"/>
          <p:cNvSpPr/>
          <p:nvPr/>
        </p:nvSpPr>
        <p:spPr>
          <a:xfrm>
            <a:off x="0" y="1143000"/>
            <a:ext cx="9144000" cy="0"/>
          </a:xfrm>
          <a:prstGeom prst="line">
            <a:avLst/>
          </a:prstGeom>
          <a:ln w="57240">
            <a:solidFill>
              <a:srgbClr val="d261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8" name="PlaceHolder 3"/>
          <p:cNvSpPr>
            <a:spLocks noGrp="1"/>
          </p:cNvSpPr>
          <p:nvPr>
            <p:ph type="dt" idx="17"/>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359" name="PlaceHolder 4"/>
          <p:cNvSpPr>
            <a:spLocks noGrp="1"/>
          </p:cNvSpPr>
          <p:nvPr>
            <p:ph type="ftr" idx="18"/>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
        <p:nvSpPr>
          <p:cNvPr id="360" name="PlaceHolder 5"/>
          <p:cNvSpPr>
            <a:spLocks noGrp="1"/>
          </p:cNvSpPr>
          <p:nvPr>
            <p:ph type="sldNum" idx="19"/>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500F-3392-4A87-8BC5-53E52185D3C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8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2286000" y="3123720"/>
            <a:ext cx="68580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75f6d"/>
                </a:solidFill>
                <a:latin typeface="Century Schoolbook"/>
              </a:rPr>
              <a:t>FEBRUARY 5, 2018</a:t>
            </a:r>
            <a:br>
              <a:rPr sz="1600"/>
            </a:br>
            <a:br>
              <a:rPr sz="1000"/>
            </a:br>
            <a:r>
              <a:rPr b="1" lang="en-US" sz="2800" spc="-1" strike="noStrike">
                <a:solidFill>
                  <a:srgbClr val="575f6d"/>
                </a:solidFill>
                <a:latin typeface="Century Schoolbook"/>
              </a:rPr>
              <a:t>REVIEW OF RMS &amp; COPS FUNCTIONS</a:t>
            </a:r>
            <a:endParaRPr b="0" lang="en-US" sz="2800" spc="-1" strike="noStrike">
              <a:solidFill>
                <a:srgbClr val="575f6d"/>
              </a:solidFill>
              <a:latin typeface="Century Schoolbook"/>
            </a:endParaRPr>
          </a:p>
        </p:txBody>
      </p:sp>
      <p:sp>
        <p:nvSpPr>
          <p:cNvPr id="1195"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Rebecca Zerwas</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96" name="Slide Number Placeholder 7"/>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9367-20C0-484F-94D9-163E1A682AD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TAIL MARKET SUBCOMMITTEE (RMS) </a:t>
            </a:r>
            <a:endParaRPr b="0" lang="en-US" sz="3000" spc="-1" strike="noStrike">
              <a:solidFill>
                <a:srgbClr val="575f6d"/>
              </a:solidFill>
              <a:latin typeface="Century Schoolbook"/>
            </a:endParaRPr>
          </a:p>
        </p:txBody>
      </p:sp>
      <p:sp>
        <p:nvSpPr>
          <p:cNvPr id="1198"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D1A2-4186-42F2-8C06-2AC465BABA7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199" name="Straight Connector 7"/>
          <p:cNvSpPr/>
          <p:nvPr/>
        </p:nvSpPr>
        <p:spPr>
          <a:xfrm>
            <a:off x="457200" y="838080"/>
            <a:ext cx="7467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txBox="1"/>
          <p:nvPr/>
        </p:nvSpPr>
        <p:spPr>
          <a:xfrm>
            <a:off x="456840" y="990360"/>
            <a:ext cx="7467480" cy="540684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urrently, RMS serves as a forum for issue resolution in regards to retail market matters directly affecting ERCOT and ERCOT protocols.</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MS monitors Public Utility Commission (PUCT) rulings as they apply to retail markets and retail market participants and ensures that PUCT requirements are reflected in the Retail Market Guides, protocols, and Texas Standard Electronic Transactions (Texas SET).</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ree working groups and one task force report to RMS.</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uides and Other Binding Documents:</a:t>
            </a:r>
            <a:endParaRPr b="0" lang="en-US" sz="21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Retail Market Guide</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exas SET Guides and Documentation</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ata Transport Guides </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exas Market Test Plan</a:t>
            </a:r>
            <a:endParaRPr b="0" lang="en-US" sz="1800" spc="-1" strike="noStrike">
              <a:solidFill>
                <a:srgbClr val="000000"/>
              </a:solidFill>
              <a:latin typeface="Century Schoolbook"/>
            </a:endParaRPr>
          </a:p>
          <a:p>
            <a:pPr lvl="1" marL="63972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5f6d"/>
                </a:solidFill>
                <a:latin typeface="Century Schoolbook"/>
              </a:rPr>
              <a:t>RMS WORKING GROUPS</a:t>
            </a:r>
            <a:endParaRPr b="0" lang="en-US" sz="2900" spc="-1" strike="noStrike">
              <a:solidFill>
                <a:srgbClr val="575f6d"/>
              </a:solidFill>
              <a:latin typeface="Century Schoolbook"/>
            </a:endParaRPr>
          </a:p>
        </p:txBody>
      </p:sp>
      <p:sp>
        <p:nvSpPr>
          <p:cNvPr id="1202"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DE631-9AE1-4980-9E86-00028F06451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03" name="Straight Connector 7"/>
          <p:cNvSpPr/>
          <p:nvPr/>
        </p:nvSpPr>
        <p:spPr>
          <a:xfrm>
            <a:off x="457200" y="838080"/>
            <a:ext cx="7467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4" name="Content Placeholder 1" descr=""/>
          <p:cNvPicPr/>
          <p:nvPr/>
        </p:nvPicPr>
        <p:blipFill>
          <a:blip r:embed="rId1"/>
          <a:stretch/>
        </p:blipFill>
        <p:spPr>
          <a:xfrm>
            <a:off x="444600" y="890640"/>
            <a:ext cx="7493040" cy="558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entury Schoolbook"/>
              </a:rPr>
              <a:t>COMMERCIAL OPERATIONS SUBCOMMITTEE (COPS)</a:t>
            </a:r>
            <a:endParaRPr b="0" lang="en-US" sz="2400" spc="-1" strike="noStrike">
              <a:solidFill>
                <a:srgbClr val="575f6d"/>
              </a:solidFill>
              <a:latin typeface="Century Schoolbook"/>
            </a:endParaRPr>
          </a:p>
        </p:txBody>
      </p:sp>
      <p:sp>
        <p:nvSpPr>
          <p:cNvPr id="120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169A4-4C30-433B-A817-046EE1CBE53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07" name="Straight Connector 7"/>
          <p:cNvSpPr/>
          <p:nvPr/>
        </p:nvSpPr>
        <p:spPr>
          <a:xfrm>
            <a:off x="457200" y="838080"/>
            <a:ext cx="7467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txBox="1"/>
          <p:nvPr/>
        </p:nvSpPr>
        <p:spPr>
          <a:xfrm>
            <a:off x="456840" y="990720"/>
            <a:ext cx="7467480" cy="5330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urrently, COPS addresses the processes through which ERCOT market data is translated into financial settlements. COPS also addresses the market’s overall needs for data extracts, delivery and presentatio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ommercial operations include the application of load profiles, data aggregation, data extract variances; congestion revenue rights settlements; qualified scheduling entity settlements; invoicing; and dispute resolutio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ree working groups report to COP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uides and Other Binding Documents:</a:t>
            </a:r>
            <a:endParaRPr b="0" lang="en-US" sz="2100" spc="-1" strike="noStrike">
              <a:solidFill>
                <a:srgbClr val="000000"/>
              </a:solidFill>
              <a:latin typeface="Century Schoolbook"/>
            </a:endParaRPr>
          </a:p>
          <a:p>
            <a:pPr lvl="1" marL="639720" indent="-272880">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ommercial Operations Market Guide</a:t>
            </a:r>
            <a:endParaRPr b="0" lang="en-US" sz="1800" spc="-1" strike="noStrike">
              <a:solidFill>
                <a:srgbClr val="000000"/>
              </a:solidFill>
              <a:latin typeface="Century Schoolbook"/>
            </a:endParaRPr>
          </a:p>
          <a:p>
            <a:pPr lvl="1" marL="639720" indent="-272880">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Load Profiling Guide </a:t>
            </a:r>
            <a:endParaRPr b="0" lang="en-US" sz="1800" spc="-1" strike="noStrike">
              <a:solidFill>
                <a:srgbClr val="000000"/>
              </a:solidFill>
              <a:latin typeface="Century Schoolbook"/>
            </a:endParaRPr>
          </a:p>
          <a:p>
            <a:pPr lvl="1" marL="639720" indent="-272880">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Nodal Settlements Handbook</a:t>
            </a:r>
            <a:endParaRPr b="0" lang="en-US" sz="1800" spc="-1" strike="noStrike">
              <a:solidFill>
                <a:srgbClr val="000000"/>
              </a:solidFill>
              <a:latin typeface="Century Schoolbook"/>
            </a:endParaRPr>
          </a:p>
          <a:p>
            <a:pPr lvl="1" marL="639720" indent="-272880">
              <a:spcBef>
                <a:spcPts val="3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5f6d"/>
                </a:solidFill>
                <a:latin typeface="Century Schoolbook"/>
              </a:rPr>
              <a:t>COPS WORKING GROUPS</a:t>
            </a:r>
            <a:endParaRPr b="0" lang="en-US" sz="2900" spc="-1" strike="noStrike">
              <a:solidFill>
                <a:srgbClr val="575f6d"/>
              </a:solidFill>
              <a:latin typeface="Century Schoolbook"/>
            </a:endParaRPr>
          </a:p>
        </p:txBody>
      </p:sp>
      <p:sp>
        <p:nvSpPr>
          <p:cNvPr id="1210"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5898-EE1A-4824-901F-E3311D0C37F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11" name="Straight Connector 7"/>
          <p:cNvSpPr/>
          <p:nvPr/>
        </p:nvSpPr>
        <p:spPr>
          <a:xfrm>
            <a:off x="457200" y="838080"/>
            <a:ext cx="754380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2" name="Content Placeholder 1" descr=""/>
          <p:cNvPicPr/>
          <p:nvPr/>
        </p:nvPicPr>
        <p:blipFill>
          <a:blip r:embed="rId1"/>
          <a:stretch/>
        </p:blipFill>
        <p:spPr>
          <a:xfrm>
            <a:off x="444600" y="914400"/>
            <a:ext cx="8699400" cy="526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a:t>
            </a:r>
            <a:endParaRPr b="0" lang="en-US" sz="3000" spc="-1" strike="noStrike">
              <a:solidFill>
                <a:srgbClr val="575f6d"/>
              </a:solidFill>
              <a:latin typeface="Century Schoolbook"/>
            </a:endParaRPr>
          </a:p>
        </p:txBody>
      </p:sp>
      <p:sp>
        <p:nvSpPr>
          <p:cNvPr id="121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BF3E-9EF1-437E-BBF2-B410A33AF61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215" name="Picture 2" descr=""/>
          <p:cNvPicPr/>
          <p:nvPr/>
        </p:nvPicPr>
        <p:blipFill>
          <a:blip r:embed="rId1"/>
          <a:stretch/>
        </p:blipFill>
        <p:spPr>
          <a:xfrm>
            <a:off x="2133720" y="1295280"/>
            <a:ext cx="487656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Zerwas (Reed), Rebecca</cp:lastModifiedBy>
  <cp:lastPrinted>2016-10-21T15:37:14Z</cp:lastPrinted>
  <dcterms:modified xsi:type="dcterms:W3CDTF">2018-02-05T02:31:04Z</dcterms:modified>
  <cp:revision>1931</cp:revision>
  <dc:subject/>
  <dc:title>Instructions</dc:title>
</cp:coreProperties>
</file>