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52D-CC0A-4DCB-867B-F29AB0FB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4EA-3FEE-4683-B2FF-F1BA58A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FB0-E06B-4BEA-8519-B65FE5D9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014-09EB-4C95-B86C-9137E4D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FCF-D363-455C-AB4F-7A8ACA5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311-C181-4E33-9D29-B1317C3F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E41-B585-4109-9FC4-487D3EE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EE4-F7FB-44B1-BAA7-4C13CA61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94B-4AD3-437D-B8DB-A1B7B43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F12-3D78-4FF5-B073-E396E4F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7CE-4AEE-4A44-AF5E-5251BCD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00C-DD79-4DCD-885F-32B3411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6CF2-A84D-4B5E-9B4B-515E06A0A8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0EA-4660-4EB4-8C22-77AF81CB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January 31, 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AFFA-BED1-4A50-B971-5CCE177C2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80" y="9360"/>
            <a:ext cx="89074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7840" y="1434600"/>
            <a:ext cx="8001000" cy="49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MRR014 provided an interim sol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$1.10 fuel adder for coal and lignite resources that is added to the $1.50 Solid Fuel Pr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ults in $2.60/MMBtu ($1.50 + $1.10) for make-whole, but MOC at FIP (gas) + $1.10 fuel ad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nsets 6/1/1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draft NPRR for Coal Fuel Index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800 coal plus rail transport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eliminary Cost Impact of $275k to $375k, but exploring options to reduce the 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viewed historical coal prices vs FI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st impact would be to continue with fuel adder for coal and lignite resources, similar to VCMRR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$1.10 or another val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D35A-F2ED-4605-85CC-12AF9BB44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CWG recommends that the coal index is an overly expensive fix and recommends that the current adder of $1.10 be continued for an additional two years then an annual review going forw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234F-BD67-471D-AD05-CE1DFE318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040" y="-360"/>
            <a:ext cx="9088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PRR847-Exceptional Fuel Cost Included in the Mitigated Offer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46040" y="1123920"/>
            <a:ext cx="83059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vie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uring an exceptional fuel event, a QSE can submit a weighted average fuel price (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WAFP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to ERCOT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FP must exceed FIP + Fuel Adder + $2, and applicable to at least 10% of the total fuel burned in the applicable Operating H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FP can only be submitted during the adjustment period for each Operating Hour (i.e. 1 hour at a tim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RCOT would use the WAFP in the MOC calculation in place of FIP &amp; F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fter the event, QSE must provide documentation of the WAFP to ERCOT for validation, including attestation by an offic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ailure to provide sufficient, timely and supportable documentation may result in ERCOT limiting ability to submit exceptional fuel cost for up to 12 mont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WG discussed Luminant and ERCOT commentscom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CWG is in agreement with the comm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7956-E411-4EE1-ABDB-21CA3679C4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447840" y="626112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pplicable only to intraday or same-day gas purch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31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838 Updated O&amp;M Cost for RMR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oing discussion of using the budgeted variable O&amp;M per the RMR contract instead of the 10 year average normally used to establish O&amp;M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s RMR Make-whole Payment and Real-Tim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an “RMR O&amp;M Adder” that would reflect the budgeted variable O&amp;M cost over the projected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a 10 year regression then place an adder to determine the O&amp;M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F3C1-0174-44FA-BD9C-8DFA4DD02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MR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7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Gas Units Fuel 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on the appropriateness of having a Fuel Adder (gas) applied to the Fuel Oil Price in verifiable cost calc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ved with ERCOT comments to NPRR 8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CWG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bert Helton (Dynegy)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risty Ashley (CES) Vice-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E7A-7605-4234-BE38-46C94E4A2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ther RCWG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Windows User</cp:lastModifiedBy>
  <cp:lastPrinted>2017-12-01T14:04:24Z</cp:lastPrinted>
  <dcterms:modified xsi:type="dcterms:W3CDTF">2018-01-30T23:22:06Z</dcterms:modified>
  <cp:revision>4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76662480</vt:r8>
  </property>
  <property fmtid="{D5CDD505-2E9C-101B-9397-08002B2CF9AE}" pid="3" name="_AuthorEmail">
    <vt:lpwstr>Robert.Helton@dynegy.com</vt:lpwstr>
  </property>
  <property fmtid="{D5CDD505-2E9C-101B-9397-08002B2CF9AE}" pid="4" name="_AuthorEmailDisplayName">
    <vt:lpwstr>Helton, Robert A</vt:lpwstr>
  </property>
  <property fmtid="{D5CDD505-2E9C-101B-9397-08002B2CF9AE}" pid="5" name="_EmailSubject">
    <vt:lpwstr>RCWG update</vt:lpwstr>
  </property>
  <property fmtid="{D5CDD505-2E9C-101B-9397-08002B2CF9AE}" pid="6" name="_NewReviewCycle">
    <vt:lpwstr/>
  </property>
</Properties>
</file>