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C7A-3FA0-47D7-AB1B-51221310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3D6-B495-4830-AC05-FD1B218C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D842D-6581-4B5D-B062-5E93E0C7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BF0E3-B1BA-40D1-9637-37B685CC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DF84C-2009-4236-95BB-86374624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2B51D-462B-49E3-A131-066D5E2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D8780-29A9-4A53-9A2F-20A59DD9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9540D-6894-48BA-9B3F-03DFF779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34962-9A9D-4B60-AB49-FCAF81AC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6E7B5-41D0-478F-9371-AC84EC4B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DD29B-7D95-4BE6-88D2-19C03EC0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86359-D871-45F1-9506-A3E0318C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B6B-545F-4563-AD89-FEC327E5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F93E7-30D4-438D-A7ED-9D0A3836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FAC2E-A05C-462E-8FA9-1DB263BB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DFA4C-DA4F-4DA0-84C6-EB4027B8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E9E28-AF73-4497-9A3A-7757F31A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0AA4C-3CE4-4A31-B059-3A9A78ED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6DAC5-C4FC-43D0-8F72-EE6879F2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B4AAD-DB80-42F7-8569-06090780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A878D-9F00-46AF-BEE6-0500B516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5C600-F1A5-4957-96EB-376F2825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472D9-FDAE-487F-8851-30C7B5B9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855-9C64-4160-BDD6-4C5209AE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12698-7D4C-4F62-8B26-619357E0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FF4A6-C060-41AD-8E81-8811A117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78274-C6DF-49C0-9402-1D496A8A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5AD36-8C90-4305-BB31-36A45BAE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8ABBE-91C5-4148-9BD0-CE49B16F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E3426-C815-47F1-8343-F9408A46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D1A67-9617-4026-B13A-37D373DD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48875-1602-475E-8380-E0BB71F2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9F0E6-EA37-4142-B98F-B4E0BEEA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75D9F-380D-46F3-86BC-885610BC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D507-AE6A-4684-A31C-3C96D0BE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CCB13-5E09-415D-8FAE-0D014A11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BD56E-034D-475F-85E7-12164F1B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17D4D-C7FD-48FA-87A5-A06AEA68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89C43-D59D-46B6-A408-127D81E9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504CF-4C09-44ED-B0CC-8FEABD3F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0DD9A-0BDA-4D8C-93CE-8D846819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38995-09CD-4DAA-A893-CDD8FE51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11F6C-7C25-4BC9-9E58-DF435E2D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6ADAB-432E-48D5-BEFB-7CB640F6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47375-D058-4C65-A01C-EB3F528D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1B64-3AAA-4C1A-96AD-1E2A74C6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67F76-68CB-456E-9636-32BB2CAB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6D7AF-E41F-45D7-ADFD-547DBD97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CA1FE-9443-455D-880B-B506341B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AB04C-FCC7-4BB8-BF11-4CD750D9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1D607-7D61-4070-A9AA-DB74AA64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9E34-38D3-4372-832B-86F9736C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C873-E5DD-4FEF-A811-DEFB00F0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6B33-1549-455F-9EB3-25756077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3F62-BB22-4FA1-AC52-91B03AC8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E4C2-F69B-46E1-BFE3-66CB7110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642-893F-4FAA-A6C9-583FE030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4E58-89AD-4880-AE95-A76708E6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19CA-8E32-42D8-931F-96676D7B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FB8E-3EDB-4A1E-B5A1-05AE36FA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649B-1771-4F3A-9CAF-368844D4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5C58-7882-464E-BB36-067DDCFC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F7F6-73B0-4C73-B64C-A4582DF8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49AED-462E-4A5D-AD5A-420D85E5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F0920-1F8E-46A5-8272-85DAAFF7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23DBD-7AF9-42CD-BD96-6A7BBB26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32DE3-A0F5-4FE4-BE47-B0349727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884-1942-4553-9D18-8C270350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D9D00-9EE7-490F-8698-512CB870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79E1-DFC8-4774-A3A2-4622CFA5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96FB-5D0B-470E-BD7F-5F667090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D903D-CFFF-4EE8-BA10-9C6C33E8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5394-DD77-4CF1-B8CD-59F02A71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24EE5-A434-4111-882E-F9C118CB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68EB-34BA-4AB9-AA5C-685346B7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7C9F4-C48F-45D8-935F-4175D0EA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E117-09B0-4224-9D72-4336BC52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D097-2C43-4D83-B6BD-0AF6EA3A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4DA-940E-4C3F-BD94-FD70CCBF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7CE89-9CE1-49AC-A9C4-2CC407E8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E1534-0893-409A-B2C1-A1623BD5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ADF30-AD9A-440C-9CB7-5B2B15AE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0D646-4730-4D5C-8E47-EB4787A5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D69E5-0E59-4B85-BBD4-743F2AAF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CFA0B-1A90-459C-86C8-023CB298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A4308-8877-4C28-9C35-FB14B560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5B28A-60E5-45FA-A64B-165A55CD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1CA3-C4CD-470D-9246-39B246AD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9A869-BF2F-4FE0-A43B-ECFB142A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28E-4FC3-4651-B3AF-FAC2741C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EA337-D3CE-47F5-818D-D616A88A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005D5-E402-4CC6-B54B-C616332C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FEAF7-8528-4E45-9157-40868B4E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B1293-FD33-4A4C-B71F-A19FBA07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39402-1411-4C0C-9894-3E02F476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4E17C-4EB5-4070-9B55-D1720E41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A1E5B-09AF-4DF0-A84D-D55D48E6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849E8-FA8A-4F5E-BA36-42FF5839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F8234-6C49-4DAC-B960-F9CB91BB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27BBD-6D23-4BD1-AF3C-DDCD426E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769-7BB7-4955-A57E-B35C350C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433C8-23BF-4C92-91F3-C72DEF42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9561A-A49F-4854-8F75-4CCA8A02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1F4C5-8429-4CB1-9EBC-CFE02B93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F84C9-C309-45B5-A46F-585795D2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9F6D3-85DF-4CAD-9945-E12086C8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34539-A00A-4CBB-98E8-5263FFD7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A3545-C2DE-4F5B-8082-8F65ACF7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8F443-6448-41FE-9BAF-06A0FEB3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98A1-3D0E-409E-8CC6-C78E7BEF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01163-4AE5-4B83-A374-EAC31DFA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0AB7-7906-428C-8E46-E86CFB6E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FA647-80C5-47D6-B636-8B86D6B1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CA89E-DB78-4181-8F73-325889A8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A67FB-5124-457E-A9B1-96A5904F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9ED2C-C571-4046-8898-25E398CC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98106-26B1-4473-B235-35AFFF02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21600-0166-4B9A-ADEC-36CF3F30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3C328-4472-485E-9887-189C7D76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03BB7-F68E-43E6-AB60-42306B4D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04223-9627-468D-8CF2-C8418692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6DF4B-7FF2-4AB9-905B-65EA9EB2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0CA-5023-4C8E-BE1C-5D21F485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894B0-5D3B-4685-9ABB-44F4C4E1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477CA-CD0E-416B-8618-B262AB04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035EA-E77E-484E-994A-45D86001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A97AD-5AEB-4A4D-A148-CB4BDD17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DD243-A83E-49FB-B8B1-32D487D3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134A3-DEF3-4414-8A8B-3448ADD5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DE6A7-5950-4105-89A4-A4C39A71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1FD79-32B3-4F85-8280-2C1046A1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65B6D-0525-460E-B991-2D54F7B3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54714-BB8D-41C5-9D10-078641BE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09F-7753-447B-8DDC-6F11DA99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59FDF-3650-483B-BAC6-F3F16400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3C70E-A418-4932-9608-26539489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0D920-324C-4ED7-ABA0-9B88A100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35B14-D6F2-418C-AF78-96A7702E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0D8AE-2EEE-4532-90E1-FBF8F725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24C5C-1F29-45EB-ADBE-86C03FBF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CD206-8197-4213-878F-47158A85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B28E1-4A2E-4B37-9B4B-8E3312B1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3CB7C-BDD8-47E6-8361-02B617FC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DA457-1424-4F50-B850-0033DDE7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833D-2375-43C7-AE37-92722A11FA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433C71F1-B411-4255-B268-C29DE781C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2B8B-A62F-4226-A305-A82A4E6EE7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C401-144D-4578-9E65-074A79875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E354-3DF3-439A-8D4B-88FBD02976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8EF4-7C64-4E71-8F4F-449B7B4DB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8CC8-320F-4A29-BC0F-6FFA82460E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E2A2-180E-4410-A376-92AD545E6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7198-0EC5-40C2-B6FE-F522E6824E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2C48-646A-4F0C-A284-40CDC95DC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1F00-CA5F-4ACB-9E4A-3F9B18B974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5DF4-4E35-4D04-A301-6D3DF02BE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F5B5-44F6-4D8C-8589-D8063899B6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D474-6BF6-4017-A010-EF2A2D6C9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0D6C-C999-4155-9BF8-ECA27A7767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2249-95AC-4539-B089-A40A3EAB3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88D6-A43A-405F-BC58-54A8E037ED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8FC4-5A47-4D9A-8AE4-AA92AE257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9405-8E94-402C-986F-DF2B91B68B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6096-E734-4F6D-8115-23154CFE5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4EEE-BBD5-4748-A4C9-B35F844877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8503-3025-4F53-80F1-EA3A8FD10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5CCF-DDDF-47CB-9C34-F18D967110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137D-F0B8-4B25-ABF0-24CCF4985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lanning Geomagnetic Disturbance Task Force (PGDTF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Update to the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anuary 11,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mar Urquide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GDTF Chai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F023-A3E1-492C-A71A-B6F1E741C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1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RF Data Submission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09480" y="121896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RF Submissions Expected - 28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not submitted, 29 submitted but not accepted, all others accepted via validat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ource Entity Substations Expected – 34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13 substations accounted for, 35 substation records missing, completion rate 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07CB-8E60-4D29-B36C-2D8C3CD0A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1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 of the PGDTF – N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GDTF Business Meetings on Nov 1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(Op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nalized GIC System Model Procedure Manual for ROS approv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visited Vulnerability Assessment Scope &amp; Process and draft PGRR language for TPL-007-1 Requirement 3-Criter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esentation on Transformer K Factor Assump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nalized 2018 Leadership Nomin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scussed NERC Approval of TPL-007-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IC System Model Building Face to Face Meeting – Nov. 1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TSP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egan in depth transformer data review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egan discussing GIC flow interpretation method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SPs to begin submitting 2021 Summer Peak and 2021 MIN data December 1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ill be adding additional face to face meeting days for 2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&amp; 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Pas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ext Model Face to Face Meeting is Jan. 1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&amp; 11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BAA5-EFDA-4C01-B3C5-F10A771DE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1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 of the PGDTF – D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GDTF Business Meetings on Dec 1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(Op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mmented on Vulnerability Assessment Scope &amp; Process and provided preliminary target dat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rafted four criteria options for consideration at January PGDTF Business Meeting (TPL-007-1 Requirement 3-Criteri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scussed NERC Approval of TPL-007-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ation discussions tabled until other higher priority matters complet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D82D-6CB3-4629-8B23-9024D6370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1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762120" y="12189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TSP Resubmission Deadline – October 20</a:t>
            </a:r>
            <a:r>
              <a:rPr b="0" lang="en-US" sz="2200" spc="-1" strike="noStrike" baseline="30000">
                <a:solidFill>
                  <a:srgbClr val="7f7f7f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First Pass Release RAW &amp; GIC Files – November 10</a:t>
            </a:r>
            <a:r>
              <a:rPr b="0" lang="en-US" sz="2200" spc="-1" strike="noStrike" baseline="30000">
                <a:solidFill>
                  <a:srgbClr val="7f7f7f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First Pass GIC/VAR Values – November 13</a:t>
            </a:r>
            <a:r>
              <a:rPr b="0" lang="en-US" sz="2200" spc="-1" strike="noStrike" baseline="30000">
                <a:solidFill>
                  <a:srgbClr val="7f7f7f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f7f7f"/>
                </a:solidFill>
                <a:latin typeface="Calibri"/>
              </a:rPr>
              <a:t>GIC Model Review Face to Face Meeting – November 16</a:t>
            </a:r>
            <a:r>
              <a:rPr b="0" i="1" lang="en-US" sz="2200" spc="-1" strike="noStrike" baseline="30000">
                <a:solidFill>
                  <a:srgbClr val="7f7f7f"/>
                </a:solidFill>
                <a:latin typeface="Calibri"/>
              </a:rPr>
              <a:t>th</a:t>
            </a:r>
            <a:r>
              <a:rPr b="0" i="1" lang="en-US" sz="22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First Pass TSP Update Deadline – December 1</a:t>
            </a:r>
            <a:r>
              <a:rPr b="0" lang="en-US" sz="2200" spc="-1" strike="noStrike" baseline="30000">
                <a:solidFill>
                  <a:srgbClr val="7f7f7f"/>
                </a:solidFill>
                <a:latin typeface="Calibri"/>
              </a:rPr>
              <a:t>st</a:t>
            </a: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Second Pass Release RAW &amp; GIC Files – December 21</a:t>
            </a:r>
            <a:r>
              <a:rPr b="0" lang="en-US" sz="2200" spc="-1" strike="noStrike" baseline="30000">
                <a:solidFill>
                  <a:srgbClr val="7f7f7f"/>
                </a:solidFill>
                <a:latin typeface="Calibri"/>
              </a:rPr>
              <a:t>st</a:t>
            </a: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Second Pass GIC/VAR Values – December 22</a:t>
            </a:r>
            <a:r>
              <a:rPr b="0" lang="en-US" sz="2200" spc="-1" strike="noStrike" baseline="30000">
                <a:solidFill>
                  <a:srgbClr val="7f7f7f"/>
                </a:solidFill>
                <a:latin typeface="Calibri"/>
              </a:rPr>
              <a:t>nd</a:t>
            </a: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GIC Model Review Face to Face Meeting – January 10</a:t>
            </a:r>
            <a:r>
              <a:rPr b="0" lang="en-US" sz="22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 &amp; 11</a:t>
            </a:r>
            <a:r>
              <a:rPr b="0" lang="en-US" sz="22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Pass TSP Update Deadline – January 1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Pass Release RAW &amp; GIC Files – January 2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Pass GIC/VAR Values – January 2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GIC Model Review Face to Face Meeting – February 15</a:t>
            </a:r>
            <a:r>
              <a:rPr b="0" lang="en-US" sz="22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 &amp; 16</a:t>
            </a:r>
            <a:r>
              <a:rPr b="0" lang="en-US" sz="22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l Pass Release RAW &amp; GIC Files – March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Final Pass GIC/VAR Values – March 1</a:t>
            </a:r>
            <a:r>
              <a:rPr b="0" lang="en-US" sz="22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DFC4-95DA-4BD2-95E0-7A3067711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GIC System Model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1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  <p:sp>
        <p:nvSpPr>
          <p:cNvPr id="5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6223-6030-4225-880E-2195B0835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1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Omar Urquidez</cp:lastModifiedBy>
  <dcterms:modified xsi:type="dcterms:W3CDTF">2018-01-03T13:51:34Z</dcterms:modified>
  <cp:revision>270</cp:revision>
  <dc:subject/>
  <dc:title>PGDTF Update to ROS</dc:title>
</cp:coreProperties>
</file>