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696-FC98-46B2-B8D7-AA31B0AB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6A8-27A7-492F-A48C-DBA9A5E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084-76B3-40D6-8D2A-9804E4B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F07-D7DB-48C3-9A64-474B847B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465-F4CC-4481-AC39-4E2660D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9FD-4A12-4329-9929-CEA88258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D9C-86DB-4D92-8E56-5BB1AA7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8FA-E9EC-4103-BDE8-2CE25477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1CC-0C59-4753-A597-13DEB97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0CF-56FB-495F-912B-DE64F5D2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133-BB17-4641-AA90-D7B13E0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CB0-F072-4D3D-B0AA-3A05B90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86E-CAE5-4DE0-9231-2DDE18DCF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50B-F1B7-4033-A729-747FCBF6B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January 10, 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596B-6329-4FBB-94EE-315DF78CA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80" y="9360"/>
            <a:ext cx="8907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7840" y="1434600"/>
            <a:ext cx="8001000" cy="49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ults in $2.60/MMBtu ($1.50 + $1.10) for make-whole, but MOC at FIP (gas) + $1.10 fuel ad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ed 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800 coal plus rail transport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eliminary Cost Impact of $275k to $375k, but exploring options to reduce the impac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viewed historical coal prices vs FI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est impact would be to continue with fuel adder for coal and lignite resources, similar to VCMRR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$1.10 or another val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E856-3F00-4D40-890E-69DB60CE7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40" y="-360"/>
            <a:ext cx="90882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PRR847-Exceptional Fuel Cost Included in the Mitigated Offer C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6040" y="1123920"/>
            <a:ext cx="83059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vie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uring an exceptional fuel event, a QSE can submit a weighted average fuel price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WAFP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to ERCOT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FP must exceed FIP + Fuel Adder + $2, and applicable to at least 10% of the total fuel burned in the applicable Operating H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FP can only be submitted during the adjustment period for each Operating Hour (i.e. 1 hour at a tim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RCOT would use the WAFP in the MOC calculation in place of FIP &amp; F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fter the event, QSE must provide documentation of the WAFP to ERCOT for validation, including attestation by an offic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ailure to provide sufficient, timely and supportable documentation may result in ERCOT limiting ability to submit exceptional fuel cost for up to 12 month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WG discussed Luminant com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$2 threshold to $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vide initial documentation in 15 days and final in 60 day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12 month limitation for failure to comp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D71-C648-4CCC-9683-530E0B25E5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47840" y="6261120"/>
            <a:ext cx="55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pplicable only to intraday or same-day gas purch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316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38 Updated O&amp;M Cost for RMR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oing discussion of using the budgeted variable O&amp;M per the RMR contract instead of the 10 year average normally used to establish O&amp;M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s RMR Make-whole Payment and Real-Tim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an “RMR O&amp;M Adder” that would reflect the budgeted variable O&amp;M cost over the projected gen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45 RMR Process and Agreement Revi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impact of reclassification of RMR CAPEX to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issue of company accounting practices vs RMR incentive factor and book value imp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34B3-7E6E-47BA-944F-806F9561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MR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78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Gas Units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on the appropriateness of having a Fuel Adder (gas) applied to the Fuel Oil Price in verifiable cost calc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volunteers for 2018 Chair and Vice-Chair of RCW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460-F537-4BAF-AB33-61FB64F39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ther RCWG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7-12-01T14:04:24Z</cp:lastPrinted>
  <dcterms:modified xsi:type="dcterms:W3CDTF">2018-01-04T21:51:30Z</dcterms:modified>
  <cp:revision>438</cp:revision>
  <dc:subject/>
  <dc:title>PowerPoint Presentation</dc:title>
</cp:coreProperties>
</file>