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185B-57D6-49F5-9AA0-8BD631BEE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49E-1E78-4339-B5F2-8E95E3A4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0F96-142B-4291-B695-4958828B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B8AD-2098-4FDB-8594-1345D2E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723A-8607-4473-85CD-5F6BE435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149A-AC98-4703-B9DE-C736C4C5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514-DE6F-46D2-8402-BD61DAF6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E094-C7D3-4742-96DC-4CABF5BB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5DE-2911-4EBA-959B-F79CCD4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3C2-334F-40B7-8D12-10D7425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23E7-CF76-4C1E-A38E-6FAC3DE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CF9-5DD8-44AD-9680-1D4D272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CB26-E1BA-4ADB-92FF-46B4EF9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8C7A-868D-498C-9E43-C76B0D5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448C-EAB0-4DC3-8A43-E7F3D8C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CEE3-7F40-4EF3-9DD0-9DF5111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A03B-D761-4030-AB84-CDD6571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8FB4-FDF3-4763-9BA1-B0EFDC99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3FF-B3FF-45E5-BF34-22C82990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9555-D590-411B-831D-F66F6026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F5A2-9EAB-48FB-BF53-F3A0E1B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79B3-DD6A-451D-AD3A-37A4306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2192-AE88-4031-ACFD-B46BEB42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A10E-DE9F-48F1-9462-F5D932C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7EAA-F650-4617-B6BE-9E1B8F2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0667-53AE-4CEE-9621-4429726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329F-9CF7-4F0A-9DC3-836DC6BE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C72C-5DCA-4248-829E-08B0307F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3ECE5-4C6A-41FE-A9B9-5E325959626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70E1E-0D33-46F3-9644-DADE172B13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44110-7099-4321-A8AD-07A45C5E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PS Working Grou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1" descr=""/>
          <p:cNvPicPr/>
          <p:nvPr/>
        </p:nvPicPr>
        <p:blipFill>
          <a:blip r:embed="rId1"/>
          <a:stretch/>
        </p:blipFill>
        <p:spPr>
          <a:xfrm>
            <a:off x="237960" y="689040"/>
            <a:ext cx="874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21T15:54:50Z</dcterms:modified>
  <cp:revision>1911</cp:revision>
  <dc:subject/>
  <dc:title>Instructions</dc:title>
</cp:coreProperties>
</file>