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12B1-64FA-4324-9F60-3E354424E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CEF4-6061-4132-9090-8CDF8A2E0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3EE4-72B5-4616-AF5F-5EE1142BB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040-8AD1-4BE5-8A55-3BAC423C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3B02-A525-4820-B1A6-BDA64C74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9893-2BD3-44C5-A7F2-6B5F75B0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E9BB-EBFB-4F6A-8480-CACA5F74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2426-0A61-42AA-B0F3-74BD16B2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A679-8F81-43D0-A57C-0D8C34D6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3F97-EED5-466B-999F-78D3FBF9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DD09-2357-43BF-8219-5E21A899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87EF-CDBA-436B-866F-8ADFCC9D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097-2E98-45FF-9159-3C34F8D7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20E5-B9D1-4964-BD04-6E7529B4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4AB0-F113-49C9-A2E3-D0292276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E8BF-5FA9-4B95-8E5C-2CC15C5A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EB4C-D2EC-44CA-B219-C1880D8A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2D97-B1CA-4A7B-8C0B-7E9352B2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E62D-1280-4D8E-9E8E-2DEF1C81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D9F5-C4C9-4177-87FD-5A195230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8EF4-D5B4-4BA6-A41C-80E519DF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B497-B583-4251-9B15-E1AF4FB1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617A-1F9A-4080-A10C-C179D5FB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8DF7-7FE7-413C-900C-86DF51EF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30D3-1503-4AC2-BE96-B921C4F2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C1AC-A12F-4AC7-AB9B-421A1FB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492E-2CF8-4AEC-A5D3-6A880700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A58B-F5DF-4680-9404-4167E7D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3001-70B2-4ECF-86C1-9DFDA57C7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870A-7606-4238-ACA1-D5C4D070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DC470-7CC7-4B8B-B754-0DF41A86165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E4052-8228-43A6-A2C5-D3889C82FF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68377-6984-4B44-B51F-5B360874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85800"/>
          </a:xfrm>
          <a:prstGeom prst="rect">
            <a:avLst/>
          </a:prstGeom>
          <a:noFill/>
          <a:ln w="9360">
            <a:solidFill>
              <a:srgbClr val="224b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xisting COPS Working Groups Responsibilit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1" name="Content Placeholder 1" descr=""/>
          <p:cNvPicPr/>
          <p:nvPr/>
        </p:nvPicPr>
        <p:blipFill>
          <a:blip r:embed="rId1"/>
          <a:stretch/>
        </p:blipFill>
        <p:spPr>
          <a:xfrm>
            <a:off x="244440" y="689040"/>
            <a:ext cx="8734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85800"/>
          </a:xfrm>
          <a:prstGeom prst="rect">
            <a:avLst/>
          </a:prstGeom>
          <a:noFill/>
          <a:ln w="9360">
            <a:solidFill>
              <a:srgbClr val="224b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What If RMS Modifies the Scope of th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MS Working Groups to Include?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3" name="Content Placeholder 1" descr=""/>
          <p:cNvPicPr/>
          <p:nvPr/>
        </p:nvPicPr>
        <p:blipFill>
          <a:blip r:embed="rId1"/>
          <a:stretch/>
        </p:blipFill>
        <p:spPr>
          <a:xfrm>
            <a:off x="231840" y="669960"/>
            <a:ext cx="87598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85800"/>
          </a:xfrm>
          <a:prstGeom prst="rect">
            <a:avLst/>
          </a:prstGeom>
          <a:noFill/>
          <a:ln w="9360">
            <a:solidFill>
              <a:srgbClr val="224b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What If We “Create” a new Market Specifi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MS Working Group Responsible for These Topics: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5" name="Content Placeholder 1" descr=""/>
          <p:cNvPicPr/>
          <p:nvPr/>
        </p:nvPicPr>
        <p:blipFill>
          <a:blip r:embed="rId1"/>
          <a:stretch/>
        </p:blipFill>
        <p:spPr>
          <a:xfrm>
            <a:off x="225360" y="689040"/>
            <a:ext cx="875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Scott, Kathy D.</cp:lastModifiedBy>
  <cp:lastPrinted>2016-10-21T15:37:14Z</cp:lastPrinted>
  <dcterms:modified xsi:type="dcterms:W3CDTF">2017-12-05T05:31:38Z</dcterms:modified>
  <cp:revision>1917</cp:revision>
  <dc:subject/>
  <dc:title>Instructions</dc:title>
</cp:coreProperties>
</file>