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5E433-4C11-4596-83A8-C55CF35C0B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85E3F-76BF-4946-B087-D85505FE4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1925D-E826-4614-A73F-B1E5B9275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79FFC-6DF4-464F-B576-87209CC2A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A27A4-4CF1-460B-9843-4674813AF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E0B1E-87E6-4938-9AA1-2C4BCB346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5D9C0-9EAB-4703-92F5-1EF091214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3E41F-39B0-436C-8FA7-26B6087A8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71EE0-1AAE-4229-9A1F-499E5C53B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AE6C-601E-4F51-9BF3-B16C11659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769F6-937E-4721-A3FE-1B690EDA4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9A17D-58D6-4E2F-88E2-1700C1C2A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F383D-17BB-4E1B-9726-EBFF9C29E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3541A-0184-4FD9-86D3-A8E0E9035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D1F5-80A2-4E2E-BCB5-DBD450510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0302A-E119-4F91-BF1A-99CDF44D4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DF178-FB02-46DF-B5C3-22334A2CB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61A3F-020C-496C-AB93-4848659741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82343-7728-4237-A467-EE31DB74D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C44E9-B69C-4B47-B9C5-4A0645E5B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iana Colema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Vice-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vember 30,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and No Impac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4, Clarifications for Repossessions of CRRs by ERCO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9, Clarification of ERCOT Forwarding of Consumption and Other Data*</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with Impact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43, Short-Term System Adequacy and AS Offer Disclosure Reports Addition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70k and $9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8; Rank 170</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46, Allow Previously Committed ERS Resources to Participate in MRA Agreements and Other ERS Item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jected:</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8, Include Fast Frequency Response as a Subset of Responsive Reserve</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35, Removing the Capacity Limits from Resources Providing Fast Responding Regulation Service (FRR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mpact Analysis Process Overview</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presented PRS with an overview of its Impact Analysis process and facilitated a Q&amp;A session with P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will explore potential enhancements to the Impact Analysis form to improve transparency regarding the cost breakdowns of Revision Request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285840" y="98280"/>
            <a:ext cx="8539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46, Allow Previously Committed ERS Resources to Participate in MRA Agreements and Other ERS Items</a:t>
            </a:r>
            <a:endParaRPr b="0" lang="en-US" sz="2000" spc="-1" strike="noStrike">
              <a:solidFill>
                <a:srgbClr val="000000"/>
              </a:solidFill>
              <a:latin typeface="Arial"/>
            </a:endParaRPr>
          </a:p>
        </p:txBody>
      </p:sp>
      <p:graphicFrame>
        <p:nvGraphicFramePr>
          <p:cNvPr id="181" name=""/>
          <p:cNvGraphicFramePr/>
          <p:nvPr/>
        </p:nvGraphicFramePr>
        <p:xfrm>
          <a:off x="0" y="682560"/>
          <a:ext cx="9144000" cy="6228000"/>
        </p:xfrm>
        <a:graphic>
          <a:graphicData uri="http://schemas.openxmlformats.org/drawingml/2006/table">
            <a:tbl>
              <a:tblPr/>
              <a:tblGrid>
                <a:gridCol w="1282680"/>
                <a:gridCol w="7861320"/>
              </a:tblGrid>
              <a:tr h="2225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ddresses a number of changes pertaining to the Emergency Response Service (ERS): 1) Allows previously committed ERS Resources to participate in Must-Run Alternative (MRA) Agreements as ordered in Public Utility Commission of Texas (PUCT) Project No. 45927, Rulemaking Regarding Emergency Response Service; 2) Modifies the methodology for evaluating the performance during the first partial interval for ERS Loads on the alternate baseline; 3) Provides edits pertaining to the self-serve capacity associated with an ERS Generator; 4) Adds Protocol language that will set the ERSTESTPF to significantly lower values and in some instances to zero for ERS Resources with three consecutive test failures in a 365 day period; and 5) Provides additional administrative changes and clarifications to existing Protocol language pertaining to ER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95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10/12/17, PRS unanimously voted to recommend approval of NPRR846 as revised by PRS.  On 11/9/17, PRS voted to endorse and forward to TAC the 10/12/17 PRS Report as amended by the 11/2/17 ERCOT comments and the Impact Analysis for NPRR846.  There was one opposing vote from the IPM (Morgan Stanley)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8; Rank 207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10k and $20k; impacts to BI &amp; Data Analytics; ERCOT business process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010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meets the requirements set forth in PUCT Project No. 45927 to allow previously committed ERS Resources to participate in MRA Agreements; the current methodology for evaluating the performance during the first partial interval produces incorrect results when the average Load for the first partial interval is above its maximum base Load, but in reality the Load responded according to the instruction; changes the Protocol language pertaining to self-serve capacity associated with an ERS Generator necessary to correct the unintended use of self-serve capacity that does not exist; adds harsher penalties for ERS Resources with three consecutive test failures in a 365 day period; and adds other administrative changes and clarifications necessary to remove uncertainty with existing languag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4, Clarifications for Repossessions of CRRs by ERCOT [ERCOT]</a:t>
            </a:r>
            <a:endParaRPr b="0" lang="en-US" sz="1800" spc="-1" strike="noStrike">
              <a:solidFill>
                <a:srgbClr val="000000"/>
              </a:solidFill>
              <a:latin typeface="Arial"/>
            </a:endParaRPr>
          </a:p>
        </p:txBody>
      </p:sp>
      <p:sp>
        <p:nvSpPr>
          <p:cNvPr id="184" name="Rectangle 2"/>
          <p:cNvSpPr/>
          <p:nvPr/>
        </p:nvSpPr>
        <p:spPr>
          <a:xfrm>
            <a:off x="487440" y="879480"/>
            <a:ext cx="81579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anuary 1, 201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processes associated with repossession of Congestion Revenue Rights (CRRs) by ERCOT in circumstances where there has been a Payment Breach or other Default by a Market Participant by specifying data transparency requirements; documenting the disposition of auction revenue funds in excess of amounts owed to ERCOT by the Market Participant; clarifying that the one-time auction bids must be positive; and allowing immediate transfer of ownership of CRRs to the winning bidder in a one-time CRR Auction if this is necessary to ensure the correctness of the inventory for subsequent CRR Auc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2/17, PRS unanimously voted to recommend approval of NPRR834 as amended by the 8/8/17 ERCOT comments.  On 11/9/17, PRS unanimously voted to endorse and forward to TAC the 10/12/17 PRS Report as amended by the 10/31/17 ERCOT comments and the Impact Analysis for NPRR834.</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redit WG Review:</a:t>
            </a:r>
            <a:r>
              <a:rPr b="0" lang="en-US" sz="1800" spc="-1" strike="noStrike">
                <a:solidFill>
                  <a:srgbClr val="000000"/>
                </a:solidFill>
                <a:latin typeface="Arial"/>
              </a:rPr>
              <a:t>  See 10/19/17 Credit WG com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9, Clarification of ERCOT Forwarding of Consumption and Other Data [ERCOT]</a:t>
            </a:r>
            <a:endParaRPr b="0" lang="en-US" sz="1800" spc="-1" strike="noStrike">
              <a:solidFill>
                <a:srgbClr val="000000"/>
              </a:solidFill>
              <a:latin typeface="Arial"/>
            </a:endParaRPr>
          </a:p>
        </p:txBody>
      </p:sp>
      <p:sp>
        <p:nvSpPr>
          <p:cNvPr id="186"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anuary 1, 201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Section 10.12.3, ERCOT Distribution of Settlement Quality Meter Data, to clarify that upon receiving meter data transactions from a Transmission Service Provider (TSP) or Distribution Service Provider (DSP), ERCOT will forward the transactions to the Competitive Retailer (CR), as designated by the TSP or DS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2/17, PRS unanimously voted to recommend approval of NPRR839 as submitted.  On 11/9/17, PRS unanimously voted to endorse and forward to TAC the 10/12/17 PRS Report and the Impact Analysis for NPRR8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43, Short-Term System Adequacy and AS Offer Disclosure Reports Additions [ERCOT]</a:t>
            </a:r>
            <a:endParaRPr b="0" lang="en-US" sz="1800" spc="-1" strike="noStrike">
              <a:solidFill>
                <a:srgbClr val="000000"/>
              </a:solidFill>
              <a:latin typeface="Arial"/>
            </a:endParaRPr>
          </a:p>
        </p:txBody>
      </p:sp>
      <p:sp>
        <p:nvSpPr>
          <p:cNvPr id="188" name="Rectangle 2"/>
          <p:cNvSpPr/>
          <p:nvPr/>
        </p:nvSpPr>
        <p:spPr>
          <a:xfrm>
            <a:off x="190440" y="579600"/>
            <a:ext cx="885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8; Rank 17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70k and $90k; no impacts to ERCOT staffing; impacts to Market Management Systems (MMS), Data and Information Products (DAIP), and Data Access &amp; Transparency;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ddresses four separate reporting items in Section 3, Management Activities for the ERCOT System, of the Nodal Protocols: 1) Makes changes to the logic for the Short-Term System Adequacy Reports for more consistent treatment of Resource Statuses in reporting available capacity; 2) Creates a new report which will show the portion of Ancillary Service Offers at or above 50 times the Fuel Index Price (FIP) when the Market Clearing Price for Capacity (MCPC) of that Ancillary Service exceeds 50 times FIP; 3) Additional elements are added to the “48-Hour Highest Price AS Offer Selected” report to also include the highest-priced Ancillary Service Offer selected in a Supplemental Ancillary Services Market (SASM); and 4) A 60-day SASM disclosure report is created to provide transparency into Ancillary Service Offers and awards for any SASMs that may have been executed for a period within an Operating Da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2/17, PRS voted unanimously to recommend approval of NPRR843 as submitted.  On 11/9/17, PRS voted unanimously to endorse and forward to TAC the 10/12/17 PRS Report and Impact Analysis for NPRR843 with a recommended priority of 2018 and rank of 1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7-11-13T16:55:29Z</dcterms:modified>
  <cp:revision>38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