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B9536-C994-4910-BD9C-17095B7DF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1C28A-9327-4C34-B08D-07DB232EA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62D2D-8889-4E3C-97FA-1512F6BF0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31C3B-EFE3-4696-8B15-CFA401702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3463E-22B3-4AB5-B866-5E9051C49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CF6-E1FB-4EFD-AF6D-9CC6018A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4E1-9A54-4B8D-81C8-5643E26B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39816-202D-4DAC-BF7A-66CF8800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7097B-5662-4472-B3F7-E6F8BFDF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1055C-BBB7-4700-BE21-15CDBB1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D9999-0BC0-45B6-BF26-D37835C5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FEB16-9E27-4F84-9556-ABDA3DD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A3B99-CEC4-4B81-BDFE-79FB478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ED27C-E5CE-49DB-AFB8-CEFBB5F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0E32B-0736-4DBB-A6F7-5D3575C5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3E327D-BBCE-4A44-9B11-6911CAF6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F47D06-A02E-45BE-A97F-EF571054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83C-E700-44F8-9173-FE650D2A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76C944-AD0F-42F0-B103-5448FA49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1E9A52-EC09-4594-A94D-CD9EC9B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03167-BEC6-456E-B5B1-B6F50FBD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F078F-C835-4AF0-839E-CC5518EB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345E8F-2779-4617-9675-A05B9D9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7A9A1-315B-435D-8C2C-9E7EAC6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D1E18-3FF3-4474-A7EB-59B5EE7B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89F5BF-22E8-4D00-887F-3EBB01BA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D11132-37A3-45C2-84AA-670F60DA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5CF13-5E35-418B-89E6-D08DB608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973-A44A-4775-AB88-72023716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057CE3-2A59-4A13-8710-A76022F5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5C6-D8CA-4AED-9C89-4D149538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F31A-FEF2-4D54-A185-DE5E8BAC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432-8B00-41DD-88EE-A486573E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AEE-DCB2-4D37-8360-1532423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A8B-67BA-4ED9-BBAD-744B54DB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E9ED-A063-4651-8F97-A0667B9F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B1B3-0B2C-41CE-96C4-E0541B37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259-2400-477E-BA98-65C4DA7F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458C-A7BC-4612-9D6C-9337652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688F-39D0-438B-939D-151695E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1AB-F53A-4CA8-BA25-9AE6283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EE2E-D5AC-4448-A3D5-A7FCCF81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675-41C2-428A-BAC9-0DEB65A5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AFF-DAFD-47EF-AA30-38A739A7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9A4-7981-46F0-84F8-CDA0C66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E9E25-4959-4CE1-A714-01E47331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D4F-8B39-480F-A563-A2F1FD3E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65534-EF7B-42EC-8B80-A293352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83F9E-E33F-4469-952A-FD85A32B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73778-1685-45AA-AF94-598B465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70E3E-7F4B-4E89-8924-658BC236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DAD40-AEF2-4DA9-9DA4-63D64CB6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71029-E5D1-4E26-A219-F0372E7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AA518-A059-4A4A-A39E-832C256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DF31C-E6D6-42D7-9787-F472937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11812-CCE8-4918-BDC4-C2CA8B9A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385C9-048E-44ED-9567-8D74567F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CEE-A4FA-4C17-80FB-ECAF028C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7B3C4-9FF2-4CA5-A306-09343EA7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D79B8-0D5F-4E99-B158-1126636D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17131-333A-4C88-9314-2A1E54BD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E86BC-34F3-463E-8C4C-4EAE2BB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A5043-8153-413D-A37F-700CE92F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B26D0-6879-47B3-862D-CB45833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09800-6132-41CB-85D3-7E516C4B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D551D-0C9F-4194-B1CA-5598BB6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148AB-FE67-43A3-BE7D-520BE0E2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C7672-3257-4220-A28E-F225930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0CA-C9CA-46CF-A6FD-AF615E3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A8060-7F56-445A-B801-A1EB01A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07FBE-7348-45C5-B215-A5D72DCC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E9A1A-BEB0-4FB8-85BA-43674100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D3001-4B10-4F74-A884-9EE6DBCA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85ED1-F172-41AE-8542-A917F64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3830E-200A-41A9-AFD1-05E67C84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191FA-5C9E-4FA2-9773-A625C5CE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719C9-6E4A-49D2-B200-F5DE2B1E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D949F-8485-42FE-B4AE-E3B2F63E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3E4FF-B15F-4653-BAC4-7CFAFA9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087-5480-477C-910A-96D0C108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0417B-93A0-4ED0-8808-5EF90957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DD7B7-391F-49A0-9EEF-3359BB0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0AD97-051A-4FF0-9BF1-80732DF4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3B091-B47C-4BF0-AB96-91784175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BF4A0-02BC-4C3B-8A3F-997709C6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D241F-F7CC-4B87-B04D-E81CF25F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BA59E-3370-4030-97A7-2C23C038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7AAB6-8049-4F32-B4D5-2C0E73D2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F25D4-CA4C-4926-B2F7-2C9CC02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6EDAF-BFDF-472E-9AD5-C944D334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CC5-0EE4-4F17-B916-6A3D371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63725-243C-48A3-B59C-7B2BD82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82503-C032-4BA7-B898-A36B7512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0DFA0-A5B0-421A-93D0-B661CD3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1F075-3FFF-4C82-AA9F-BB2E46A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8BC58-B4D2-408A-87FB-1EFEBC3D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14B18-0DC2-43C9-9ABC-024D5B80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8E310-1AC4-4077-9746-6AD1A95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B074E-93BF-4A03-AC5C-46256AE7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F8F21-9D43-4C6E-A3AF-6B3935A6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D4373-29F3-4940-A65F-C0E40A55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4B38A-E784-4139-AB90-4D30157192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CB9A7-8536-47B4-BC2D-B5E7B2D0F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AD0FA-F9D8-49A9-AB11-D902B486098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6E9DD-B0D9-4090-A7D5-C5D5DF2769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8F466-5E97-4A72-8E23-74C789A3BD2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C6487-D02F-4186-94C2-CE1E5812558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90176-6BE9-460F-82D1-3A0B1D7DF97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FD60B-5798-4DA9-8BD3-832C4985C88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9A6A3-CB92-4FBE-86FF-6F043246797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77EF0-2D20-4D07-B106-D9F270D5933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D8D92-C00F-4079-858B-8A62C968ABF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1AF03-70D3-47C2-B9F6-6D7587DB08D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95A15-061C-478A-8764-C1D432115C0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A67DC-0AB9-40CA-86D7-5CF64DFC8F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23DFA-FF41-4FE3-B6C0-EC6091DE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ovember 30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742DD-1823-4F56-935E-EBF56B826DD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B10C6-2D8D-4F5A-A495-CD2130DC3A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64C46-AE2B-42D7-AA23-1AB2E1E239E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4B34D-340B-466F-8A24-0782EC1A48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88602-24E9-4157-B99C-3D7456BE29F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2594C-ACC7-48F5-85E8-9D2500D560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43119-32A1-47E7-96E4-6B2E76A8872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AD009-40E3-40E3-BCD5-1D947EFBCB27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D74B4-7829-4707-8F8A-604A52E305A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784EE-D601-4AF6-847D-5EA5441810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DE78C-867F-480B-BFBF-4DAA0C9E46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ovember 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ember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94C0F-4928-4CBF-A2C5-290DF65A71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2018 ERCOT Methodologies for Determining Ancillary Service Require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prove as proposed by ERCO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19 – Resettlement Clean-Up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as amended by 8/30/17 ERCO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28 – Include Fast Frequency Response as a Subset of Responsive Reserve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jec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1 – Real-Time Adjustments to Day-Ahead Make Whole Payments due to Ancillary Services Infeasibility Charge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recommended implementation in 2019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890CD-333C-44C9-8D5C-724CB540C9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(Contd.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2 – Study Area Load In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8 – Separate Clearing Prices for RR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50 – Market Suspension and Resta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VEMBER 30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20DB4-E6B9-4D74-A571-1351724DA6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11-21T20:13:14Z</dcterms:modified>
  <cp:revision>92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