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6C8D-3128-4F9F-A798-5B0DE6B2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361-7A3F-4802-811B-0AB65D70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F09F-B4B4-4021-BDCE-97DDFC9D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C23B-1F76-4677-BDF0-EF2B2EBD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15F9-C8F0-4C02-90CE-C9DA405E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6E58-DB3A-4C70-9C22-20463A15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02F9-70A0-4820-9C10-F49F5F01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4087-7D0A-423A-B0FE-BEF42178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EB61-C257-448A-B3A5-B5681286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4CA9-0F0D-493A-9538-A5F709FF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70B8-6D1F-4EAB-98A1-6CADFE24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AC17-9474-4D2A-941B-FF1DF3AF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BC21-8503-4DE0-97B1-FA59E97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2212-469D-493F-9B6C-9EF052D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E84A-CA9B-4773-B80D-7E6532C3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6B57-3DF3-4313-A5A2-B2882C2B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7561-EAC5-4966-8E49-DA21F525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A24B-8DA0-451A-9392-03395E0C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FE2F-FFD6-4084-BC51-D12B9DA7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E8E1-94F5-4F38-811A-49FE765B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394F-C017-49E7-BABD-F70FE61F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1E87-B6C2-426A-B62A-D63A0C14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A692-0FFA-4302-9FAD-1115193D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9D86-B1F9-4D7D-A331-996F25CE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7CF4-AE84-49C4-AB96-0B1F90FC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AD1B-B2B8-4560-A3D7-C32F178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3E63-8D6D-4EB3-ABB5-49FDB6A03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1196-1DD4-47B6-B01F-EA378EE3B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363DD-0A0A-43DD-980B-A5A9ED8D5B7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3FF25-BED9-41F8-B7B4-C69D5C834F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0DC11-663E-4D74-A6C6-9B16E3743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85800"/>
          </a:xfrm>
          <a:prstGeom prst="rect">
            <a:avLst/>
          </a:prstGeom>
          <a:noFill/>
          <a:ln w="9360">
            <a:solidFill>
              <a:srgbClr val="224b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PS Working Grou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1" name="Content Placeholder 1" descr=""/>
          <p:cNvPicPr/>
          <p:nvPr/>
        </p:nvPicPr>
        <p:blipFill>
          <a:blip r:embed="rId1"/>
          <a:stretch/>
        </p:blipFill>
        <p:spPr>
          <a:xfrm>
            <a:off x="237960" y="689040"/>
            <a:ext cx="874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11-21T15:54:50Z</dcterms:modified>
  <cp:revision>1911</cp:revision>
  <dc:subject/>
  <dc:title>Instructions</dc:title>
</cp:coreProperties>
</file>