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9466-990F-4381-9460-03F524EF1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47CC-2171-4F49-90DB-0366CB64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E99B-63ED-40AE-9EEE-5147458D0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B099-3047-410B-8A2B-ECB3B5135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A5A0-CA29-4D51-9F64-F8263788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150E-C75A-4034-B379-918BFA4C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DA2B-9242-49E6-A890-6BFA58299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007E-CF43-4392-B274-161D91A4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0176-D325-41DD-B08F-24248DAF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A435-85A2-453A-934C-D6B64DB1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8F66-4464-4CFD-BB73-F8DE91D2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000F-CFC8-4F8C-88E1-FC9FD9CB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E4A1-A4A5-4267-8A32-9E75C04B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E55D-E8DB-4B63-9E04-19798AF9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ADAF-F80A-4C59-B105-E9306DB6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AE31-25F4-4B75-A260-E6EFAFB8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3B24-537C-4B45-BDBF-40D9A0F6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3E9D-3C04-4E4A-BB01-6D274C3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390F-7142-48BD-93D0-EA5E8F86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B97C-A5CA-4791-8FED-0AB79D7F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5A97-BE9F-49BA-A685-76DB024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C8A1-2D32-4E39-AB10-2D8AD8CB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D37D-BA79-4547-A18D-CD757CFE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8B75-C405-4B99-AF7C-BFAB5B72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0A49-C54C-402A-A094-A62E1070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79E1-AB1A-439D-AAD0-6F3E83E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F643-7717-4B36-BED2-C2FCE180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BB8F-6851-4B28-A4C4-6BF0CF9A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E310-C80C-49DE-8C36-B161EF87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BF31-7EE8-4A6A-AF85-A428A39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A9F8-B8E3-445A-8986-DBAFE1F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2052-20FC-432C-87DA-415D6955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453-F874-459E-B4C5-C65DC840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68F3-1E78-4396-B6C3-DA042686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0B30F-01D0-4C24-BB2F-FC151EFAF0B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913C3-C7D3-4471-975B-4703ED255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019F5-46EA-409C-A9DF-34F7740C9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1/30/20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6676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S m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/11/2017, Face to Fac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d 11/8/2017, via Web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TAC Assignment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 Resettlement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ing addressed by NPRR819, Modification of Non-Price Error Resettlement Thresholds and Resettlement Clean-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RCOT’s 8/30/2017 comments add language to clarify that revisions to meter data not made in connection with a dispute or ADR will not trigger an evaluation of a resettl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PS and WMS endorsed NPRR819 as amended by the 8/30/2017 ERCOT com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S approved NPRR819 language and will consider the Impact Analysis (IA) on 12/14/201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C will most likely be able to consider NPRR819 on 1/25/201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Upda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Re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3 Settlement Stability Re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Market Data Transparency SLA Draft Re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Certificate Download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Holiday Settlements Schedu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 Black"/>
              </a:rPr>
              <a:t>Communications and Settlements Working Group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6676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/1/2017 High RENA Charge due to Private Use Network (PUN)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addressed by NPRR831, Inclusion of PUN in Load Zone Price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mplementation 10/31/2017-11/2/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 Allocation to Load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how to report CRR Auction Revenue (CARD) $/MWh Allocation to Load by Congestio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dal Settlement Handbook Upd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Profiling Working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(AV)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DSPs report 814_20 submittals are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o review submittals and provide list of any missing via MarkeT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the current AV proces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–Flops” from year to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-46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Profiling Working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Validation (AV) Process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ificant flaws were found in the AMS/IDR algorithm for residenti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changes are highly dependent on the severity of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uture Consid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n ESI proves its response to cold temperatures, ESI to remain on RESHI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R-Squared Correlation (RSQ) values and/or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view NIDR ESIs for 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-46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Market Data Working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6676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I Quick Start Gu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d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791, Correction of 60 day Security Constrained Economic Dispatch (SCED) Generation Resource Data (GRD)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and will be effective “Upon system implementatio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Data Strategy &amp; MIS Changes Vi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constraints for ERCOT and MDWG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ng user experience information from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going effort, may partner with TDT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Certificate Downloading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d work will be bundled as a Capital Efficiency &amp; Enhancement Request (C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bundle is identified, development should go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200400" y="3341520"/>
            <a:ext cx="2743200" cy="2546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533520" y="68544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January 17, 20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7-11-21T19:31:02Z</dcterms:modified>
  <cp:revision>1914</cp:revision>
  <dc:subject/>
  <dc:title>Instructions</dc:title>
</cp:coreProperties>
</file>