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CFB7-1886-4152-A02E-EF5E7BF1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F33F-CC09-4E04-80FD-CBDB4648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28FF-0088-4819-A9C1-0DCDCE97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3B7E-C39D-4628-9227-8B41F9A2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93C6-5D83-4844-B11E-507E725C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3B5E-E5EA-4DA8-AB29-3336CDB3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96B6-EAE4-4275-9648-5051EE2D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BB38-9005-467E-BE27-9E3C4DF8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8613-7E95-463A-885D-9E6A9EE1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26A0-6DC1-431C-BC73-269F3931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A604-A727-4BD4-9AF1-24CC12EA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A238-A5F3-429D-A2BD-412D7F38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406-9690-42A3-B3B0-90EFA88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A8B9-3F80-4B61-B2A1-9F8C33D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89D5-99E8-47BC-9AC6-470206C4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4A71-FF0C-43A8-B8E3-6272EBD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093-C124-4B18-9943-4DB296C6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A96B-D959-4D5F-BDFB-A8B30695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8755-44C8-45E6-8B30-4BB4D1F2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4867-DA2E-430F-85CC-B85C99DE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EAA7-2C03-444B-8FE6-14611B7A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DEA0-E169-44E0-874E-716533D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79C8-15C5-482D-8C86-C7D707D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B527-BB44-4EA3-8EBA-FB67A35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E602-2F04-4783-8450-A17B7F0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CF2B-14CB-4A7C-B663-C876693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E55-22D2-4CCD-B6E7-6053F393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24A5-0059-4A79-8930-953BB9A4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5F9F3-0557-432A-A901-827E7E50968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08787-90A8-46F3-8DDF-8C54702D4F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D66E0-051B-4F78-AC26-0B911FB2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PS Working Grou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Content Placeholder 1" descr=""/>
          <p:cNvPicPr/>
          <p:nvPr/>
        </p:nvPicPr>
        <p:blipFill>
          <a:blip r:embed="rId1"/>
          <a:stretch/>
        </p:blipFill>
        <p:spPr>
          <a:xfrm>
            <a:off x="237960" y="689040"/>
            <a:ext cx="874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1-21T15:54:50Z</dcterms:modified>
  <cp:revision>1911</cp:revision>
  <dc:subject/>
  <dc:title>Instructions</dc:title>
</cp:coreProperties>
</file>