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1"/>
          </p:nvPr>
        </p:nvSpPr>
        <p:spPr>
          <a:xfrm>
            <a:off x="39366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2"/>
          </p:nvPr>
        </p:nvSpPr>
        <p:spPr>
          <a:xfrm>
            <a:off x="-36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 type="sldNum" idx="13"/>
          </p:nvPr>
        </p:nvSpPr>
        <p:spPr>
          <a:xfrm>
            <a:off x="393660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ADC0-49CF-4F07-BD5E-8DFB38579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B363-2D23-4994-9B08-1CA4019ED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7FE2-3B5B-4491-ACC0-1FDD5FC0E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24B5-B15C-4BD2-BC45-E9B243D09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A696-C37D-482F-AF99-3765A611A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78E1-42EA-493A-AABE-6BF29B317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33AE-7CBA-407A-AD46-C43BE9529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2ABA-6AEF-4541-A7A6-A8FD88A9F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1E1C3-0C55-4244-A7AE-E527D783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4CBB-E786-45F9-A9F6-E1735EDD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81526-E2A1-4512-A33D-3E3E1F59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6A8B-C14D-4A09-8280-D035F377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BEBA-F026-42BC-87C5-CF6452A0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4D2F-111B-48AC-80D9-8F7D0844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7DE3-9E4B-419C-923F-E46DF0C3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90A9-A576-405A-820B-A67A1F7A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9308-45FA-4C38-95D9-9A0AAE2E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789E-6669-41AC-B3F4-A4437CB9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EFF4-F1E9-4D7E-A3F0-2B6EBA49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ED9B8-F8C6-494B-A1CB-EBC47C1E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6A23-E8FB-43CA-94DF-3265503D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3CFD-990E-4412-BAE6-82478F74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8624-17F4-4F43-B5EE-5E559B13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0255-88D1-4BBB-AA3F-7C584202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FCC2-0EE8-43C5-81AD-AAE8F613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22E5-CF6C-4E88-AF38-D6E3C716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B032-A2FD-4790-A09C-65F712D3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0DF7E-CAB6-40EC-BCDF-09B5890B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C4803-DD24-437D-A150-F9F28A3B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8600-07CC-4597-95FE-25B9A684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2690-7F74-48C3-BDE5-D4855465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9CAD8-CB86-4D25-AC22-F5FA2965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9F6C-3D08-423A-BC0B-8F34FAAAD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40CA-ED53-4C12-A08E-5613F56D6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A3D444-7501-4C1F-9466-FACB3414789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296D98-9C42-4E16-8904-01FA4C0E74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3230640" y="0"/>
            <a:ext cx="591336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19692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05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D6209E-D728-4383-91FC-1FCCF39E7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ercial Operations Subcommittee </a:t>
            </a: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(COPS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to TA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ichelle Trena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1/30/20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6676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PS m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0/11/2017, Face to Fac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nd 11/8/2017, via WebE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TAC Assignment Upda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6676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% Resettlement R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ing addressed by NPRR819, Modification of Non-Price Error Resettlement Thresholds and Resettlement Clean-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RCOT’s 8/30/2017 comments add language to clarify that revisions to meter data not made in connection with a dispute or ADR will not trigger an evaluation of a resettle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PS and WMS endorsed NPRR819 as amended by the 8/30/2017 ERCOT com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S approved NPRR819 language and will consider the Impact Analysis (IA) on 12/14/201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C will most likely be able to consider NPRR819 on 1/25/201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ERCOT Updat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6676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Rep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3 Settlement Stability Rep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8 Market Data Transparency SLA Draft Re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gital Certificate Download Proce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8 Holiday Settlements Schedu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66760" y="759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 Black"/>
              </a:rPr>
              <a:t>Communications and Settlements Working Group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66760" y="7621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/1/2017 High RENA Charge due to Private Use Network (PUN) 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addressed by NPRR831, Inclusion of PUN in Load Zone Price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implementation 10/31/2017-11/2/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 Allocation to Load Re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ing at how to report CRR Auction Revenue (CARD) $/MWh Allocation to Load by Congestion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dal Settlement Handbook Upd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Profiling Working Grou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6676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ual Validation (AV)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DSPs report 814_20 submittals are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to review submittals and provide list of any missing via MarkeTr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the current AV process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ip–Flops” from year to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cation of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ther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-464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Profiling Working Grou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6676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ual Validation (AV) Process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onclu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ignificant flaws were found in the AMS/IDR algorithm for residentia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le changes are highly dependent on the severity of 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Future Consid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an ESI proves its response to cold temperatures, ESI to remain on RESHI 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R-Squared Correlation (RSQ) values and/or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view NIDR ESIs for 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-464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Market Data Working Grou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6676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I Quick Start Gu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d on 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R791, Correction of 60 day Security Constrained Economic Dispatch (SCED) Generation Resource Data (GRD) 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and will be effective “Upon system implementation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Data Strategy &amp; MIS Changes Vis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constraints for ERCOT and MDWG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ng user experience information from 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going effort, may partner with TDT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tal Certificate Downloading Develo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ed work will be bundled as a Capital Efficiency &amp; Enhancement Request (CE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bundle is identified, development should go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6" descr="C:\Documents and Settings\basaranh\Local Settings\Temporary Internet Files\Content.IE5\JIWL6VC7\MC900156053[1].wmf"/>
          <p:cNvPicPr/>
          <p:nvPr/>
        </p:nvPicPr>
        <p:blipFill>
          <a:blip r:embed="rId1"/>
          <a:stretch/>
        </p:blipFill>
        <p:spPr>
          <a:xfrm>
            <a:off x="3200400" y="3341520"/>
            <a:ext cx="2743200" cy="25466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533520" y="685440"/>
            <a:ext cx="80769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 next COPS meeting is scheduled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January 17, 201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Trenary, Michelle</cp:lastModifiedBy>
  <cp:lastPrinted>2016-10-21T15:37:14Z</cp:lastPrinted>
  <dcterms:modified xsi:type="dcterms:W3CDTF">2017-11-21T19:31:02Z</dcterms:modified>
  <cp:revision>1914</cp:revision>
  <dc:subject/>
  <dc:title>Instructions</dc:title>
</cp:coreProperties>
</file>