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6E1F-3EE2-4D41-A18A-54FA464F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97C-EF9B-4CAD-98E9-DCEC4F399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8B5C-CF36-4E59-807D-EAD9AF19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B268-F2BD-41E6-AE9B-D4EF88A1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82F3-BC37-4C87-894A-5E9DB9C1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71F4-135A-4329-9345-04F0ABFB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AC23-DE40-477F-83C8-F0AAB084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9B3-04FE-4574-9E94-768E7680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BC1-D8D1-4978-97E7-2F1898F4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59EB-FA4E-489C-808A-0E03180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B289-0079-4A03-B331-D43FFEE3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4B41-B647-4FE0-B2BD-3A289C52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5125-A0FD-4651-8760-B91E7B5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8366-D4C2-461C-B836-73D30715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F93F-63CD-4BD1-8126-1F612A2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5AC7-DDA8-42A1-8988-E087963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6DB4-C6C4-4C63-A9A0-4DBD94C6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F16-3D35-4AFF-9637-7CCC1101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0D5-47C7-4101-AC21-3EA0DD55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AFB1-A4C0-49F2-A029-447CE3B9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FFDC-8BDC-4048-BE77-6D681AD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CB84-2F93-4948-9EF9-CCE81D2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B198-3774-4DEF-B023-2F55A37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4237-B37B-45B8-B5E2-603671D4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D19C-F61F-4907-A386-ABD9218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C6AF-452F-4723-A701-0008F0A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28E8-A530-4A4F-A6B7-ABFFB94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D124-E9F6-421B-9027-86E78CF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25F9-5BD7-4CF1-9872-905E42E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4F9F-806E-4247-B95F-96FAAD3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AC5F-59CF-4B03-9C96-6D26C29D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D6EA-1C6E-45E4-9CC2-589E19D0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C287-3E04-45F9-B86F-41C54DD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C31F-0BF9-42E4-90A2-7D607B4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2FF6-6BC5-409B-8E5F-AC8E485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D064-C638-4BBB-8059-EB0EA32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E4E-C559-4112-913E-6B638AD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370E-5378-473A-A919-2D6D340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EA9-C715-4539-88ED-D6DEC93C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FBA6-7D6F-4375-A291-BAE7567E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664-CB85-4723-86DD-F108AE4C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D3DD-6DBF-49D3-B5F9-85A69919B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D4E-DB08-4B24-8DDE-C13BD6A3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November 8</a:t>
            </a:r>
            <a:r>
              <a:rPr b="1" lang="en-US" sz="3200" spc="-1" strike="noStrike" baseline="30000">
                <a:solidFill>
                  <a:srgbClr val="3c8c93"/>
                </a:solidFill>
                <a:latin typeface="Arial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0E4-D4F2-49AD-82B1-45981505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6000" y="1143000"/>
            <a:ext cx="8928000" cy="38862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36520" y="5045040"/>
            <a:ext cx="89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es listed for completion of changes reflect the date ERCOT verified the changes, not necessarily the date they were submitted. Deadline of 9/30/2017 fell on a Saturday, therefore the changes were not reviewed until 10/3/2017. The second review was performed on 10/19/2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AF2-C613-4416-AE60-CFA319D2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ontent Placeholder 2"/>
          <p:cNvSpPr/>
          <p:nvPr/>
        </p:nvSpPr>
        <p:spPr>
          <a:xfrm>
            <a:off x="304920" y="1066680"/>
            <a:ext cx="8534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2017 PWG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discussion regarding proposed revision to current AV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 ESI proves its response to cold temperatures, E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s on RESHI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the “one way” migration from RESLO to RESHI would result in an inaccurate representation of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a 4 and 5 year evaluation period as opposed to the current 3 year period on weather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D5E5-E924-4011-AAD9-7F27AC03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71680" y="1028880"/>
            <a:ext cx="8001000" cy="48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vember’s meeting has been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2017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 &amp;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Weather Responsiveness repor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967-CFAE-45BE-9033-AB2764B4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cKenna, Nikki</cp:lastModifiedBy>
  <dcterms:modified xsi:type="dcterms:W3CDTF">2017-11-07T20:47:26Z</dcterms:modified>
  <cp:revision>1234</cp:revision>
  <dc:subject/>
  <dc:title>Instructions</dc:title>
</cp:coreProperties>
</file>