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Lst>
  <p:sldSz cx="9144000" cy="73152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ACAE2D7-133F-437E-9E14-0CB363C2E8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C2E79AB-E068-46FF-8378-21FDE64364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D3E43FD-6B54-4C06-B243-76DE31DEEA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1E2B1DD-7DAE-480E-B39B-9EC02E5616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11F3D2F-FE69-4DE7-B890-2A51015C6D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8DA023B-3959-4431-8961-E352D7F3154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80E87F3-6D9D-4B9A-A6BF-F2A70405C24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F408807-F960-4BC7-9E46-81305AECCBC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E35F20-307A-46A1-9C01-742A54FC1EC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848B870-A464-4908-BFC3-476587556B7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1CDA5F7-62F0-4B06-AC7C-61B1C52544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D05D7E-C668-486E-801F-C72B056422C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6A1F74-9C6B-4210-806E-03A61BDCF7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96F0DE9-5424-40E9-82F4-23FC93ECC1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45881A-92F4-441A-B416-09E0295A2B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F433F9F-A9AA-46B1-9E52-7E8423629D4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DCF07E3-5A33-44BE-99DF-2B359A435B6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6970A1A-D036-4095-8DC7-47FE81CD3F6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0942068-0BAA-4B9B-83B7-61DCA50DF82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6655646-C9C0-4566-9E80-28B06E1323C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7E98C51-5CF3-4C33-92C1-D361FB4C45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4EAB3E0-C025-459E-9C98-11D7AE733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838BE07-E98D-468B-A294-44E6F060E83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8E19617-7E1A-4A8E-B0EC-FEB27B55599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8B740A0-B40C-446A-8F58-C24E5F3AB7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506573-3748-4498-9AE9-3AE5B6150F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0F6FCD6-8A72-44CA-8015-17673084A8D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7298B0-4059-40ED-BA31-428D23E2DF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FC3004A-6701-444F-9449-9DB019EBE9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2B4F40B-BECB-4273-A3CF-EE90B12BFBF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B3F989C-7279-4CAC-9971-D9C984BD9E2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15F1140B-91D4-452C-9179-8E7672FDFE7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F36C8E4-EA7C-4D59-AC35-C043E577B3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9FAF88D0-B17E-4AA2-BB82-1D7BFBA2797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E1359775-96CF-42A3-9AB2-227105161BC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734FE7F3-316B-4CD6-BB69-7FCAB1F5009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5B60F6DF-BDA1-4383-A248-8AF8DE338F3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1DF9252B-561A-401F-A545-7C6FB8BE76B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8C70D69A-9ECB-4218-8EFD-00278CA625C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B63B54ED-83E3-4E00-948A-AFB34117701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7E0E11F7-6C98-42E0-AF7F-63FCA1C085D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DD9EBB59-824A-4889-BA9B-68D93B4E869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B56418BF-EC15-4D5B-BE99-8781DF5DBF2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04FFD76-A370-4EDF-B120-48430703B5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351A8A4E-47FB-428F-A5D0-A7DC4F093C6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0C75482-CA48-41CF-A7B7-4397330BAE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A6185FC-129E-4B60-A5C4-DA2300A778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C73FE31-A251-40E4-817F-AF8C3B11F3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660720"/>
            <a:ext cx="2133720" cy="507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5232-0B6E-4DC2-B6B5-0292340048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888240"/>
            <a:ext cx="25146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887880"/>
            <a:ext cx="213372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9E1F5-5D87-420B-B8E2-E9AC269F5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6"/>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a:t>
            </a:r>
            <a:endParaRPr b="0" lang="en-US" sz="1200" spc="-1" strike="noStrike">
              <a:solidFill>
                <a:srgbClr val="000000"/>
              </a:solidFill>
              <a:latin typeface="Times New Roman"/>
            </a:endParaRPr>
          </a:p>
        </p:txBody>
      </p:sp>
      <p:sp>
        <p:nvSpPr>
          <p:cNvPr id="89" name="PlaceHolder 4"/>
          <p:cNvSpPr>
            <a:spLocks noGrp="1"/>
          </p:cNvSpPr>
          <p:nvPr>
            <p:ph type="ftr" idx="7"/>
          </p:nvPr>
        </p:nvSpPr>
        <p:spPr>
          <a:xfrm>
            <a:off x="3124080" y="6780240"/>
            <a:ext cx="2895840" cy="388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
        <p:nvSpPr>
          <p:cNvPr id="90" name="PlaceHolder 5"/>
          <p:cNvSpPr>
            <a:spLocks noGrp="1"/>
          </p:cNvSpPr>
          <p:nvPr>
            <p:ph type="sldNum" idx="8"/>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2EA69-DE54-4356-9CBA-233DCC7B21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1" name="Line 14"/>
          <p:cNvSpPr/>
          <p:nvPr/>
        </p:nvSpPr>
        <p:spPr>
          <a:xfrm>
            <a:off x="0" y="121932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9"/>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1" name="PlaceHolder 4"/>
          <p:cNvSpPr>
            <a:spLocks noGrp="1"/>
          </p:cNvSpPr>
          <p:nvPr>
            <p:ph type="ftr" idx="10"/>
          </p:nvPr>
        </p:nvSpPr>
        <p:spPr>
          <a:xfrm>
            <a:off x="3124080" y="6780240"/>
            <a:ext cx="2895840" cy="3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1"/>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F94C-32AB-40BE-BF13-521CFE87E0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70" name="PlaceHolder 2"/>
          <p:cNvSpPr>
            <a:spLocks noGrp="1"/>
          </p:cNvSpPr>
          <p:nvPr>
            <p:ph type="sldNum" idx="12"/>
          </p:nvPr>
        </p:nvSpPr>
        <p:spPr>
          <a:xfrm>
            <a:off x="6552720" y="6660720"/>
            <a:ext cx="2133720" cy="507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18B81-1F47-40CE-994B-D04B0579BE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3"/>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73" name="PlaceHolder 4"/>
          <p:cNvSpPr>
            <a:spLocks noGrp="1"/>
          </p:cNvSpPr>
          <p:nvPr>
            <p:ph type="ftr" idx="13"/>
          </p:nvPr>
        </p:nvSpPr>
        <p:spPr>
          <a:xfrm>
            <a:off x="6248160" y="6888240"/>
            <a:ext cx="25146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174" name="PlaceHolder 5"/>
          <p:cNvSpPr>
            <a:spLocks noGrp="1"/>
          </p:cNvSpPr>
          <p:nvPr>
            <p:ph type="dt" idx="14"/>
          </p:nvPr>
        </p:nvSpPr>
        <p:spPr>
          <a:xfrm>
            <a:off x="1142640" y="6887880"/>
            <a:ext cx="213372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175"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610F-B22C-4E61-8920-3B719FA22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15"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16" name="PlaceHolder 3"/>
          <p:cNvSpPr>
            <a:spLocks noGrp="1"/>
          </p:cNvSpPr>
          <p:nvPr>
            <p:ph type="dt" idx="15"/>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217" name="PlaceHolder 4"/>
          <p:cNvSpPr>
            <a:spLocks noGrp="1"/>
          </p:cNvSpPr>
          <p:nvPr>
            <p:ph type="ftr" idx="16"/>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DEEEC-9785-434A-9FF2-E69B0CFBE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59"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98"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99" name="PlaceHolder 3"/>
          <p:cNvSpPr>
            <a:spLocks noGrp="1"/>
          </p:cNvSpPr>
          <p:nvPr>
            <p:ph type="dt" idx="17"/>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300" name="PlaceHolder 4"/>
          <p:cNvSpPr>
            <a:spLocks noGrp="1"/>
          </p:cNvSpPr>
          <p:nvPr>
            <p:ph type="ftr" idx="18"/>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80520" y="1447920"/>
            <a:ext cx="8458200" cy="2286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4400" spc="-1" strike="noStrike">
                <a:solidFill>
                  <a:srgbClr val="1e4649"/>
                </a:solidFill>
                <a:latin typeface="Arial Black"/>
              </a:rPr>
              <a:t>TAC</a:t>
            </a:r>
            <a:br>
              <a:rPr sz="3200"/>
            </a:br>
            <a:r>
              <a:rPr b="0" lang="en-US" sz="3200" spc="-1" strike="noStrike">
                <a:solidFill>
                  <a:srgbClr val="1e4649"/>
                </a:solidFill>
                <a:latin typeface="Arial Black"/>
              </a:rPr>
              <a:t>Update to COPS</a:t>
            </a:r>
            <a:br>
              <a:rPr sz="3200"/>
            </a:br>
            <a:br>
              <a:rPr sz="2400"/>
            </a:br>
            <a:br>
              <a:rPr sz="2400"/>
            </a:br>
            <a:r>
              <a:rPr b="0" lang="en-US" sz="2400" spc="-1" strike="noStrike">
                <a:solidFill>
                  <a:srgbClr val="000000"/>
                </a:solidFill>
                <a:latin typeface="Arial Black"/>
              </a:rPr>
              <a:t> </a:t>
            </a:r>
            <a:br>
              <a:rPr sz="2400"/>
            </a:br>
            <a:br>
              <a:rPr sz="2400"/>
            </a:br>
            <a:br>
              <a:rPr sz="2400"/>
            </a:br>
            <a:r>
              <a:rPr b="0" lang="en-US" sz="2400" spc="-1" strike="noStrike">
                <a:solidFill>
                  <a:srgbClr val="000000"/>
                </a:solidFill>
                <a:latin typeface="Arial Black"/>
              </a:rPr>
              <a:t>	</a:t>
            </a:r>
            <a:endParaRPr b="0" lang="en-US" sz="2400" spc="-1" strike="noStrike">
              <a:solidFill>
                <a:srgbClr val="000000"/>
              </a:solidFill>
              <a:latin typeface="Arial Black"/>
            </a:endParaRPr>
          </a:p>
        </p:txBody>
      </p:sp>
      <p:sp>
        <p:nvSpPr>
          <p:cNvPr id="338" name="PlaceHolder 2"/>
          <p:cNvSpPr>
            <a:spLocks noGrp="1"/>
          </p:cNvSpPr>
          <p:nvPr>
            <p:ph type="subTitle"/>
          </p:nvPr>
        </p:nvSpPr>
        <p:spPr>
          <a:xfrm>
            <a:off x="304560" y="4648320"/>
            <a:ext cx="8458200" cy="92376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ichelle Trenary</a:t>
            </a:r>
            <a:endParaRPr b="1"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vember 8, 2017</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61800" y="77760"/>
            <a:ext cx="82296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76092"/>
                </a:solidFill>
                <a:latin typeface="Calibri"/>
              </a:rPr>
              <a:t>TAC Information Session</a:t>
            </a:r>
            <a:br>
              <a:rPr sz="3200"/>
            </a:br>
            <a:r>
              <a:rPr b="1" lang="en-US" sz="3200" spc="-1" strike="noStrike">
                <a:solidFill>
                  <a:srgbClr val="376092"/>
                </a:solidFill>
                <a:latin typeface="Calibri"/>
              </a:rPr>
              <a:t>October 23, 2017</a:t>
            </a:r>
            <a:endParaRPr b="0" lang="en-US" sz="3200" spc="-1" strike="noStrike">
              <a:solidFill>
                <a:srgbClr val="000000"/>
              </a:solidFill>
              <a:latin typeface="Calibri"/>
            </a:endParaRPr>
          </a:p>
        </p:txBody>
      </p:sp>
      <p:sp>
        <p:nvSpPr>
          <p:cNvPr id="340"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31AB-15A5-4252-82BB-9A86418903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1" name=""/>
          <p:cNvSpPr txBox="1"/>
          <p:nvPr/>
        </p:nvSpPr>
        <p:spPr>
          <a:xfrm>
            <a:off x="326880" y="1218960"/>
            <a:ext cx="8382240" cy="5638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nerating and Maintaining the Load Distribution Factor Library (LDF) (ERCOT Comments) </a:t>
            </a:r>
            <a:r>
              <a:rPr b="1" lang="en-US" sz="3200" spc="-1" strike="noStrike">
                <a:solidFill>
                  <a:srgbClr val="c00000"/>
                </a:solidFill>
                <a:latin typeface="Calibri"/>
              </a:rPr>
              <a:t>Approved</a:t>
            </a:r>
            <a:endParaRPr b="0" lang="en-US" sz="32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implementation of NPRR831, Inclusion of Private Use Networks in Load Zone Price Calculation (Nov 2, 2017), revisions to the LDF methodology are requir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DFs are developed using historical State Estimator or SCADA data.  ERCOT updates the LDF libraries by maintaining the existing LDF sets and generating new LDF sets when required, based on significant changes in system-wide load patterns.</a:t>
            </a:r>
            <a:endParaRPr b="0" lang="en-US" sz="24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Via E-mail vote on 10/25/2017, the TAC approved the Generating and Maintaining the Load Distribution Factor Library documents as amended by the ERCOT comments.  </a:t>
            </a:r>
            <a:endParaRPr b="0" lang="en-US" sz="2600" spc="-1" strike="noStrike">
              <a:solidFill>
                <a:srgbClr val="000000"/>
              </a:solidFill>
              <a:latin typeface="Calibri"/>
            </a:endParaRPr>
          </a:p>
          <a:p>
            <a:pPr lvl="1" marL="743040" indent="-285840">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6092"/>
                </a:solidFill>
                <a:latin typeface="Calibri"/>
              </a:rPr>
              <a:t>Questions?</a:t>
            </a:r>
            <a:endParaRPr b="0" lang="en-US" sz="4400" spc="-1" strike="noStrike">
              <a:solidFill>
                <a:srgbClr val="000000"/>
              </a:solidFill>
              <a:latin typeface="Calibri"/>
            </a:endParaRPr>
          </a:p>
        </p:txBody>
      </p:sp>
      <p:sp>
        <p:nvSpPr>
          <p:cNvPr id="343"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14</a:t>
            </a:r>
            <a:endParaRPr b="0" lang="en-US" sz="1200" spc="-1" strike="noStrike">
              <a:solidFill>
                <a:srgbClr val="000000"/>
              </a:solidFill>
              <a:latin typeface="Arial"/>
            </a:endParaRPr>
          </a:p>
        </p:txBody>
      </p:sp>
      <p:pic>
        <p:nvPicPr>
          <p:cNvPr id="344" name="Picture 3" descr="C:\Users\iv3i\AppData\Local\Microsoft\Windows\Temporary Internet Files\Content.IE5\AAWN31BQ\question-mark[1].png"/>
          <p:cNvPicPr/>
          <p:nvPr/>
        </p:nvPicPr>
        <p:blipFill>
          <a:blip r:embed="rId1"/>
          <a:stretch/>
        </p:blipFill>
        <p:spPr>
          <a:xfrm>
            <a:off x="1828800" y="1987560"/>
            <a:ext cx="5486400" cy="426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IG MAMA</dc:creator>
  <dc:description/>
  <dc:language>en-US</dc:language>
  <cp:lastModifiedBy>Trenary, Michelle</cp:lastModifiedBy>
  <cp:lastPrinted>2016-08-08T13:52:23Z</cp:lastPrinted>
  <dcterms:modified xsi:type="dcterms:W3CDTF">2017-10-27T18:38:59Z</dcterms:modified>
  <cp:revision>1278</cp:revision>
  <dc:subject/>
  <dc:title>Instructions</dc:title>
</cp:coreProperties>
</file>