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2" name="PlaceHolder 1"/>
          <p:cNvSpPr>
            <a:spLocks noGrp="1"/>
          </p:cNvSpPr>
          <p:nvPr>
            <p:ph type="hdr"/>
          </p:nvPr>
        </p:nvSpPr>
        <p:spPr>
          <a:xfrm>
            <a:off x="-36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3" name="PlaceHolder 2"/>
          <p:cNvSpPr>
            <a:spLocks noGrp="1"/>
          </p:cNvSpPr>
          <p:nvPr>
            <p:ph type="dt" idx="11"/>
          </p:nvPr>
        </p:nvSpPr>
        <p:spPr>
          <a:xfrm>
            <a:off x="3898800" y="0"/>
            <a:ext cx="298152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4"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85" name="PlaceHolder 4"/>
          <p:cNvSpPr>
            <a:spLocks noGrp="1"/>
          </p:cNvSpPr>
          <p:nvPr>
            <p:ph type="body"/>
          </p:nvPr>
        </p:nvSpPr>
        <p:spPr>
          <a:xfrm>
            <a:off x="689040" y="4416120"/>
            <a:ext cx="55036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6" name="PlaceHolder 5"/>
          <p:cNvSpPr>
            <a:spLocks noGrp="1"/>
          </p:cNvSpPr>
          <p:nvPr>
            <p:ph type="ftr" idx="12"/>
          </p:nvPr>
        </p:nvSpPr>
        <p:spPr>
          <a:xfrm>
            <a:off x="-360" y="8829720"/>
            <a:ext cx="29811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87" name="PlaceHolder 6"/>
          <p:cNvSpPr>
            <a:spLocks noGrp="1"/>
          </p:cNvSpPr>
          <p:nvPr>
            <p:ph type="sldNum" idx="13"/>
          </p:nvPr>
        </p:nvSpPr>
        <p:spPr>
          <a:xfrm>
            <a:off x="3898800" y="8829720"/>
            <a:ext cx="298152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5D83-1B92-4E86-AD58-C150025DF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17440" y="696960"/>
            <a:ext cx="4646880" cy="3486240"/>
          </a:xfrm>
          <a:prstGeom prst="rect">
            <a:avLst/>
          </a:prstGeom>
          <a:ln w="0">
            <a:noFill/>
          </a:ln>
        </p:spPr>
      </p:sp>
      <p:sp>
        <p:nvSpPr>
          <p:cNvPr id="35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D361-CB62-487A-A393-4CB4FC478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17440" y="696960"/>
            <a:ext cx="4646880" cy="3486240"/>
          </a:xfrm>
          <a:prstGeom prst="rect">
            <a:avLst/>
          </a:prstGeom>
          <a:ln w="0">
            <a:noFill/>
          </a:ln>
        </p:spPr>
      </p:sp>
      <p:sp>
        <p:nvSpPr>
          <p:cNvPr id="35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CDB8-BAA3-434F-9BC4-D693382D2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17440" y="696960"/>
            <a:ext cx="4646880" cy="3486240"/>
          </a:xfrm>
          <a:prstGeom prst="rect">
            <a:avLst/>
          </a:prstGeom>
          <a:ln w="0">
            <a:noFill/>
          </a:ln>
        </p:spPr>
      </p:sp>
      <p:sp>
        <p:nvSpPr>
          <p:cNvPr id="3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E820-267A-4318-AF85-6A0713EE9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17440" y="696960"/>
            <a:ext cx="4646880" cy="3486240"/>
          </a:xfrm>
          <a:prstGeom prst="rect">
            <a:avLst/>
          </a:prstGeom>
          <a:ln w="0">
            <a:noFill/>
          </a:ln>
        </p:spPr>
      </p:sp>
      <p:sp>
        <p:nvSpPr>
          <p:cNvPr id="36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C546-0EB4-47A8-8161-1F494821F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17440" y="696960"/>
            <a:ext cx="4646880" cy="3486240"/>
          </a:xfrm>
          <a:prstGeom prst="rect">
            <a:avLst/>
          </a:prstGeom>
          <a:ln w="0">
            <a:noFill/>
          </a:ln>
        </p:spPr>
      </p:sp>
      <p:sp>
        <p:nvSpPr>
          <p:cNvPr id="36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BA05-A438-4C50-94B3-C8B27F2E3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17440" y="696960"/>
            <a:ext cx="4646880" cy="3486240"/>
          </a:xfrm>
          <a:prstGeom prst="rect">
            <a:avLst/>
          </a:prstGeom>
          <a:ln w="0">
            <a:noFill/>
          </a:ln>
        </p:spPr>
      </p:sp>
      <p:sp>
        <p:nvSpPr>
          <p:cNvPr id="3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480A-D7E6-4AC0-A0CD-80AA142B7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17440" y="696960"/>
            <a:ext cx="4646880" cy="3486240"/>
          </a:xfrm>
          <a:prstGeom prst="rect">
            <a:avLst/>
          </a:prstGeom>
          <a:ln w="0">
            <a:noFill/>
          </a:ln>
        </p:spPr>
      </p:sp>
      <p:sp>
        <p:nvSpPr>
          <p:cNvPr id="3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E077-B65B-4E6D-AD61-4C51611A2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6880" cy="3486240"/>
          </a:xfrm>
          <a:prstGeom prst="rect">
            <a:avLst/>
          </a:prstGeom>
          <a:ln w="0">
            <a:noFill/>
          </a:ln>
        </p:spPr>
      </p:sp>
      <p:sp>
        <p:nvSpPr>
          <p:cNvPr id="37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4160-3BB4-4640-A590-C07C5BDEB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EE6B-3BA6-441B-9709-6D86CD0CE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F353-2128-4340-AF3F-9282F1C07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3A46-8C2B-409B-9A0D-E6CAC2F24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7961-5135-4510-94B0-0EC2831AB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09E3-969C-4C9B-89F7-912420EAD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9FE5-8F37-41C2-97D1-B8CEEB0C9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93A8-7F41-4BB3-B011-DF425F08E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1D62-C54A-4688-A60B-01BD44A59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C791C8A-742C-4FEA-B31B-18685195E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A46CE4-DA2F-49F7-8B8E-0E4EE97AE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1910E0-CB4B-4488-87F8-60E1C9A5F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106670-E0E1-400B-B4E7-1C956AEACD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8A47B-5918-41F5-94B4-6E9B94493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4070D-6C36-4F25-AE1A-DE270C938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5D3E7-E77E-4127-9690-387FF7306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56FCB-5857-43E9-82AA-42B29BC83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ADAD8-B1B3-499C-AFBD-C32B8657A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4C49-D6AA-4DED-B12D-7F5B9AF38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9FE1B-4D29-4B7D-99D7-5EFC4788F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9AE318-45C1-424A-986D-1AF47C6E6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5738F-6703-4D3A-8CE0-D4B4EAD61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ED4D5-D52A-4290-BECE-7FD1AFCB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8561F-C9C8-43C1-85EF-7CE2A41ED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E212C-3745-4B91-BE5A-4E1F6BF57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C439E-4CD9-4229-9D3D-D55A1CD2C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9DAFCB-554F-4A35-A5A9-44665A72D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862F79-99AF-47A7-94DC-10F8D9A46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F81696-B961-4F95-AF08-B879158B6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ABC35E-B67B-486F-901E-21FE32F97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9DE5DA-C0B1-4301-88E4-B875C26AE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E00F23-0D0A-4FF3-AD3D-EF74F46CB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98BF6C-300B-4C43-949C-373B4C1C33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D1FE-BC9E-4E42-9F5A-6CA933A98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AAB7-0B20-4101-B2C9-8533133E6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1E003-64EA-433B-847F-5E5188A1DBB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BBF35-0599-4A83-A43D-AE9AE69440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64"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65"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11" descr=""/>
          <p:cNvPicPr/>
          <p:nvPr/>
        </p:nvPicPr>
        <p:blipFill>
          <a:blip r:embed="rId2"/>
          <a:stretch/>
        </p:blipFill>
        <p:spPr>
          <a:xfrm>
            <a:off x="212760" y="0"/>
            <a:ext cx="8718480" cy="13716000"/>
          </a:xfrm>
          <a:prstGeom prst="rect">
            <a:avLst/>
          </a:prstGeom>
          <a:ln w="0">
            <a:noFill/>
          </a:ln>
        </p:spPr>
      </p:pic>
      <p:sp>
        <p:nvSpPr>
          <p:cNvPr id="204"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2" name="Picture 11" descr=""/>
          <p:cNvPicPr/>
          <p:nvPr/>
        </p:nvPicPr>
        <p:blipFill>
          <a:blip r:embed="rId2"/>
          <a:stretch/>
        </p:blipFill>
        <p:spPr>
          <a:xfrm>
            <a:off x="212760" y="0"/>
            <a:ext cx="8718480" cy="13716000"/>
          </a:xfrm>
          <a:prstGeom prst="rect">
            <a:avLst/>
          </a:prstGeom>
          <a:ln w="0">
            <a:noFill/>
          </a:ln>
        </p:spPr>
      </p:pic>
      <p:sp>
        <p:nvSpPr>
          <p:cNvPr id="24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7AE55-091E-475D-8FC5-D4AD1FA5B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IDR Daily Reads Problem Statement</a:t>
            </a:r>
            <a:br>
              <a:rPr sz="2800"/>
            </a:br>
            <a:r>
              <a:rPr b="0" i="1" lang="en-US" sz="3600" spc="-1" strike="noStrike">
                <a:solidFill>
                  <a:srgbClr val="000000"/>
                </a:solidFill>
                <a:latin typeface="Arial Black"/>
              </a:rPr>
              <a:t>Draft</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09"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Initial Estimate ERCOT Credit Impac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 load estimate could result in ERCOT requiring insufficient credit support from a Counter Party to cover its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adjustment up in Final Settlement could result in a higher uplift to the market in the event of a default</a:t>
            </a:r>
            <a:endParaRPr b="0"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itial Estimate ERCOT Credit Impac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load estimate will result in ERCOT requiring more credit support from a Counter Party than necessary, which will persist until the initial invoice rolls out of the RTLE calculation</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66400" y="22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emand Integration</a:t>
            </a:r>
            <a:endParaRPr b="0" lang="en-US" sz="2400" spc="-1" strike="noStrike">
              <a:solidFill>
                <a:srgbClr val="000000"/>
              </a:solidFill>
              <a:latin typeface="Arial Black"/>
            </a:endParaRPr>
          </a:p>
        </p:txBody>
      </p:sp>
      <p:sp>
        <p:nvSpPr>
          <p:cNvPr id="311" name=""/>
          <p:cNvSpPr txBox="1"/>
          <p:nvPr/>
        </p:nvSpPr>
        <p:spPr>
          <a:xfrm>
            <a:off x="266760" y="685800"/>
            <a:ext cx="8686800" cy="54864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majority of the customer sites participating in Emergency Response Service (ERS) have AMS meters, the majority of the response continues to be from customer sites with IDR met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ERS resource performance for tests, events and contract term availability are dependent on the availability of the corresponding me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imely performance determination would allow ERCOT to provide quicker feedback to ERCOT Operations and QSEs providing ERS on the amount of ERS capacity available and ERS QSEs would have more timely information to use for corrective action and to anticipate performance implications on payments.</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313"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ddition…</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14% of ERCOT Non-modeled Distributed Generation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Data is submitted by TDSPs monthly, therefore it is not available until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a:t>
            </a:r>
            <a:endParaRPr b="0" lang="en-US" sz="2400" spc="-1" strike="noStrike">
              <a:solidFill>
                <a:srgbClr val="000000"/>
              </a:solidFill>
              <a:latin typeface="Arial Black"/>
            </a:endParaRPr>
          </a:p>
        </p:txBody>
      </p:sp>
      <p:sp>
        <p:nvSpPr>
          <p:cNvPr id="315"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G – Distributed Generation</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 ERCOT Polled Settlement Meter</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 Non-Interval Data Recorder</a:t>
            </a:r>
            <a:endParaRPr b="1" lang="en-US" sz="16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16" name=""/>
          <p:cNvGraphicFramePr/>
          <p:nvPr/>
        </p:nvGraphicFramePr>
        <p:xfrm>
          <a:off x="457200" y="1447920"/>
          <a:ext cx="7924680" cy="2438280"/>
        </p:xfrm>
        <a:graphic>
          <a:graphicData uri="http://schemas.openxmlformats.org/drawingml/2006/table">
            <a:tbl>
              <a:tblPr/>
              <a:tblGrid>
                <a:gridCol w="1285920"/>
                <a:gridCol w="1200240"/>
                <a:gridCol w="1103040"/>
                <a:gridCol w="1532160"/>
                <a:gridCol w="1412640"/>
                <a:gridCol w="1390680"/>
              </a:tblGrid>
              <a:tr h="15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modeled DG</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MWh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MWh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modeled DG Meter Data not available for Initials (MWh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in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Load Used in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888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PS and 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8,96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8,86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903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G Cash Flow</a:t>
            </a:r>
            <a:endParaRPr b="0" lang="en-US" sz="2400" spc="-1" strike="noStrike">
              <a:solidFill>
                <a:srgbClr val="000000"/>
              </a:solidFill>
              <a:latin typeface="Arial Black"/>
            </a:endParaRPr>
          </a:p>
        </p:txBody>
      </p:sp>
      <p:sp>
        <p:nvSpPr>
          <p:cNvPr id="318"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Distributive Generato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Chart 5" descr=""/>
          <p:cNvPicPr/>
          <p:nvPr/>
        </p:nvPicPr>
        <p:blipFill>
          <a:blip r:embed="rId1"/>
          <a:stretch/>
        </p:blipFill>
        <p:spPr>
          <a:xfrm>
            <a:off x="609480" y="1450800"/>
            <a:ext cx="7925040" cy="457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Submission of IDR Meter Data</a:t>
            </a:r>
            <a:endParaRPr b="0" lang="en-US" sz="2400" spc="-1" strike="noStrike">
              <a:solidFill>
                <a:srgbClr val="000000"/>
              </a:solidFill>
              <a:latin typeface="Arial Black"/>
            </a:endParaRPr>
          </a:p>
        </p:txBody>
      </p:sp>
      <p:sp>
        <p:nvSpPr>
          <p:cNvPr id="321"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endParaRPr b="1" lang="en-US" sz="3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ly submission of TDSP read meter data for Loads with Interval Data Recorder Meters and Non-modeled Distributed Generators with Interval Data Recorders.</a:t>
            </a:r>
            <a:endParaRPr b="1" lang="en-US" sz="3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323" name=""/>
          <p:cNvSpPr txBox="1"/>
          <p:nvPr/>
        </p:nvSpPr>
        <p:spPr>
          <a:xfrm>
            <a:off x="533520" y="9140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a:t>
            </a:r>
            <a:endParaRPr b="0" lang="en-US" sz="2400" spc="-1" strike="noStrike">
              <a:solidFill>
                <a:srgbClr val="000000"/>
              </a:solidFill>
              <a:latin typeface="Arial Black"/>
            </a:endParaRPr>
          </a:p>
        </p:txBody>
      </p:sp>
      <p:sp>
        <p:nvSpPr>
          <p:cNvPr id="326" name=""/>
          <p:cNvSpPr txBox="1"/>
          <p:nvPr/>
        </p:nvSpPr>
        <p:spPr>
          <a:xfrm>
            <a:off x="266760" y="837720"/>
            <a:ext cx="8686800" cy="546588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ering device that is capable of recording energy in each Settlement Interval under Section 9, Settlement and Billing, and Section 10, Metering.</a:t>
            </a:r>
            <a:endParaRPr b="1" lang="en-US" sz="28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 Mete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R where the ESI ID is required to be assigned a BUSIDRRQ Load Profile Type code and data is submitted in accordance with Section 10.3.3.3, Submission of Settlement Quality Meter Data to ERCOT.</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a:t>
            </a:r>
            <a:endParaRPr b="0" lang="en-US" sz="2400" spc="-1" strike="noStrike">
              <a:solidFill>
                <a:srgbClr val="000000"/>
              </a:solidFill>
              <a:latin typeface="Arial Black"/>
            </a:endParaRPr>
          </a:p>
        </p:txBody>
      </p:sp>
      <p:sp>
        <p:nvSpPr>
          <p:cNvPr id="328"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Modeled Generato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le of producing energy</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Ancillary Services</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MW</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10MW and registered with PUCT as a Self-Generator</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at a Load Zone</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290"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24% of ERCOT Load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Meter Data submitted by TDSPs monthly, therefore, ERCOT estimates 15-Minute usage data based on proxy day data for Initial Settlement.  TDSP data for IDR metered premises is available for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29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ccounted For Energy (UF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Ratio Charge Types</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Energy Imbalance (RTEIAMT)</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ion to Load” Charge Types, E.g., Ancillary Services Obligation, Admin Fee, and CRR Balancing Account (Based on Initial MLRS, not trued-up)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Retailer (CR) and Retail Customer Cash Flow and Financial Reporting</a:t>
            </a:r>
            <a:endParaRPr b="0"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ERCOT, CR or Retail Customer</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nteg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by Meter Type</a:t>
            </a:r>
            <a:endParaRPr b="0" lang="en-US" sz="2400" spc="-1" strike="noStrike">
              <a:solidFill>
                <a:srgbClr val="000000"/>
              </a:solidFill>
              <a:latin typeface="Arial Black"/>
            </a:endParaRPr>
          </a:p>
        </p:txBody>
      </p:sp>
      <p:sp>
        <p:nvSpPr>
          <p:cNvPr id="294" name=""/>
          <p:cNvSpPr txBox="1"/>
          <p:nvPr/>
        </p:nvSpPr>
        <p:spPr>
          <a:xfrm>
            <a:off x="266760" y="685800"/>
            <a:ext cx="8686800" cy="5486400"/>
          </a:xfrm>
          <a:prstGeom prst="rect">
            <a:avLst/>
          </a:prstGeom>
          <a:noFill/>
          <a:ln w="0">
            <a:noFill/>
          </a:ln>
        </p:spPr>
        <p:txBody>
          <a:bodyPr anchor="t">
            <a:normAutofit fontScale="99000"/>
          </a:bodyPr>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DR – Non-Interval Data Recorder (IDR) or Scalar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 Advanced Meter System or Smart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 Non-Opt in Entity</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_IDR Competitive IDR or BUSIDRRQ (&gt;700 MW/KVA)</a:t>
            </a:r>
            <a:endParaRPr b="1" lang="en-US" sz="1600" spc="-1" strike="noStrike">
              <a:solidFill>
                <a:srgbClr val="000000"/>
              </a:solidFill>
              <a:latin typeface="Arial"/>
            </a:endParaRPr>
          </a:p>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6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31480" indent="-22608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5" name=""/>
          <p:cNvGraphicFramePr/>
          <p:nvPr/>
        </p:nvGraphicFramePr>
        <p:xfrm>
          <a:off x="533520" y="1295280"/>
          <a:ext cx="8153280" cy="3429000"/>
        </p:xfrm>
        <a:graphic>
          <a:graphicData uri="http://schemas.openxmlformats.org/drawingml/2006/table">
            <a:tbl>
              <a:tblPr/>
              <a:tblGrid>
                <a:gridCol w="911160"/>
                <a:gridCol w="1832040"/>
                <a:gridCol w="1160280"/>
                <a:gridCol w="1328760"/>
                <a:gridCol w="1413000"/>
                <a:gridCol w="1508040"/>
              </a:tblGrid>
              <a:tr h="95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Meter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s of Load by 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Load by 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for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Load Used for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4,507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3,31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078,89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495,009</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I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0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8,939,979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3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_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2,212 </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9,270,89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2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2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r>
              <a:tr h="503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327,016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049,19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4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UFE</a:t>
            </a:r>
            <a:endParaRPr b="0" lang="en-US" sz="2400" spc="-1" strike="noStrike">
              <a:solidFill>
                <a:srgbClr val="000000"/>
              </a:solidFill>
              <a:latin typeface="Arial Black"/>
            </a:endParaRPr>
          </a:p>
        </p:txBody>
      </p:sp>
      <p:sp>
        <p:nvSpPr>
          <p:cNvPr id="297" name=""/>
          <p:cNvSpPr txBox="1"/>
          <p:nvPr/>
        </p:nvSpPr>
        <p:spPr>
          <a:xfrm>
            <a:off x="266760" y="6854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8" name="Chart 3" descr=""/>
          <p:cNvPicPr/>
          <p:nvPr/>
        </p:nvPicPr>
        <p:blipFill>
          <a:blip r:embed="rId1"/>
          <a:stretch/>
        </p:blipFill>
        <p:spPr>
          <a:xfrm>
            <a:off x="920880" y="1146240"/>
            <a:ext cx="7381800" cy="47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onthly UFE</a:t>
            </a:r>
            <a:endParaRPr b="0" lang="en-US" sz="2400" spc="-1" strike="noStrike">
              <a:solidFill>
                <a:srgbClr val="000000"/>
              </a:solidFill>
              <a:latin typeface="Arial Black"/>
            </a:endParaRPr>
          </a:p>
        </p:txBody>
      </p:sp>
      <p:sp>
        <p:nvSpPr>
          <p:cNvPr id="300"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Monthly Average from July 2016 through March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s: Between -0.98% and 0.79%</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s: Between 0.03% and 0.5%</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Load Change from January 1, 2016 through March 31,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Between -1,935 MWh and 1,028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R: Between -6,848 MWh and 1,821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DRRQ</a:t>
            </a:r>
            <a:r>
              <a:rPr b="0" lang="en-US" sz="2400" spc="-1" strike="noStrike">
                <a:solidFill>
                  <a:srgbClr val="000000"/>
                </a:solidFill>
                <a:latin typeface="Arial"/>
              </a:rPr>
              <a:t>: Between </a:t>
            </a:r>
            <a:r>
              <a:rPr b="1" lang="en-US" sz="2400" spc="-1" strike="noStrike">
                <a:solidFill>
                  <a:srgbClr val="000000"/>
                </a:solidFill>
                <a:latin typeface="Arial"/>
              </a:rPr>
              <a:t>-50,919</a:t>
            </a:r>
            <a:r>
              <a:rPr b="0" lang="en-US" sz="2400" spc="-1" strike="noStrike">
                <a:solidFill>
                  <a:srgbClr val="000000"/>
                </a:solidFill>
                <a:latin typeface="Arial"/>
              </a:rPr>
              <a:t> MWh and </a:t>
            </a:r>
            <a:r>
              <a:rPr b="1" lang="en-US" sz="2400" spc="-1" strike="noStrike">
                <a:solidFill>
                  <a:srgbClr val="000000"/>
                </a:solidFill>
                <a:latin typeface="Arial"/>
              </a:rPr>
              <a:t>45,857</a:t>
            </a:r>
            <a:r>
              <a:rPr b="0" lang="en-US" sz="2400" spc="-1" strike="noStrike">
                <a:solidFill>
                  <a:srgbClr val="000000"/>
                </a:solidFill>
                <a:latin typeface="Arial"/>
              </a:rPr>
              <a:t> MWh</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ash Flow and Financial Reporting</a:t>
            </a:r>
            <a:endParaRPr b="0" lang="en-US" sz="2400" spc="-1" strike="noStrike">
              <a:solidFill>
                <a:srgbClr val="000000"/>
              </a:solidFill>
              <a:latin typeface="Arial Black"/>
            </a:endParaRPr>
          </a:p>
        </p:txBody>
      </p:sp>
      <p:sp>
        <p:nvSpPr>
          <p:cNvPr id="302"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Retailers and Retail Customer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ur erroneous costs due to load estimation</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sporadic cash flow</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close their accounting books until after Final settlement for the whole month is complete, 55 days after the last day of the month</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good financial reporting until after Final Settlement for the month is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Retail Customer Cash Flow</a:t>
            </a:r>
            <a:endParaRPr b="0" lang="en-US" sz="2400" spc="-1" strike="noStrike">
              <a:solidFill>
                <a:srgbClr val="000000"/>
              </a:solidFill>
              <a:latin typeface="Arial Black"/>
            </a:endParaRPr>
          </a:p>
        </p:txBody>
      </p:sp>
      <p:sp>
        <p:nvSpPr>
          <p:cNvPr id="304"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Large Industrial Retail Custome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5" name="Chart 6" descr=""/>
          <p:cNvPicPr/>
          <p:nvPr/>
        </p:nvPicPr>
        <p:blipFill>
          <a:blip r:embed="rId1"/>
          <a:stretch/>
        </p:blipFill>
        <p:spPr>
          <a:xfrm>
            <a:off x="762120" y="1298520"/>
            <a:ext cx="7351560" cy="47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07"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redit Impacts:</a:t>
            </a:r>
            <a:endParaRPr b="1" lang="en-US" sz="2800" spc="-1" strike="noStrike">
              <a:solidFill>
                <a:srgbClr val="000000"/>
              </a:solidFill>
              <a:latin typeface="Arial"/>
            </a:endParaRPr>
          </a:p>
          <a:p>
            <a:pPr marL="5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sted Metered Load based on estimated IDR meter data have a direct or indirect impact on the following Credit component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Current Exposure (M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RT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Extrapolated (R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Completed and Not Settled (RTLC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Forward (RT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Invoice Amounts (O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Final Amount (UF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Real-Time Amount (URTA)</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11-08T13:54:16Z</dcterms:modified>
  <cp:revision>1980</cp:revision>
  <dc:subject/>
  <dc:title>Instructions</dc:title>
</cp:coreProperties>
</file>