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dt" idx="2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 type="ftr" idx="2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 type="sldNum" idx="2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ABAFC-23E1-48AA-81A7-9F59EDB580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68204-E8D0-422F-BC6B-DBF8FA0B926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3C6800-F86A-4720-ABF4-8E4E4C6FF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B613A9-7C33-46B8-B08F-54C0B0182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F3911DA-51F1-4356-BE35-7A6544201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892A76C-6111-463A-B41A-0B7DF4024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0EFB5E1-3E48-4401-8B9F-B1D9B56D4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9ABBD77-CD4C-4DC8-86C9-2E9674FCE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49935D4-3746-44C0-85AB-DC3EC99A6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2331DD9-2D77-4006-9F61-34430C409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FF3D000-73AB-400B-851F-49B9E8678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3014E39-DBA3-45B7-84DD-BEEA6EBDF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9FFF868-22C8-40B8-AA72-19FCC6302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0D1309-7E7A-47EC-8EB8-A6728C118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A30CC2-FB78-442C-9DB1-D1F9CF425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CF91E-92E5-49A8-B616-12320A4C9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6F14D-7320-4CDF-AA6C-9D512DB41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265CC-9E2D-4D30-B639-DF74ECE7B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4BA61-8A4C-4D70-AF41-E15C170A0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1657A-1AC7-45B8-B0B9-219FAD6D3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D8ED3-1E30-412A-878B-1906D5826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6C498-6E65-44BA-A315-01B61DCAA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4B0C0A-FDF1-4BA1-AA49-1CD1E401A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912B3-05B3-4A2F-A76A-FE11D2C5A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3E580-3E7E-49F0-ABAA-6B81EC820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E30B5-F6F7-43C3-926A-8CE29D370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F4B39-B40E-47BE-B1D2-5C4AC2878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33F84-1485-49B0-9292-7B85E5952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27A267-6CFD-4531-85FF-CD54E0E52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038C5C0-7E52-4DBC-AE69-921FB34FF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518B462-DA45-4CCF-8DBE-987F6289F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0756D79-5025-4BD8-915C-A08129104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9A4E60-C875-4337-9887-0FE80684A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B10C005-9814-4AF8-8E5C-7389EA6F8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73021E5-443A-43B1-9CDB-00543777A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D81E294-CFC3-4B33-8F4A-EB185C782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508B9E2-8F76-409F-A865-9D123363F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550D7B6-B656-43EE-A536-9BA4FEE51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4E05C5E-AE02-4B15-B905-65367EF1E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8A49E41-EA83-4B6A-BCB0-9FDCA747C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596673D-349F-4C5E-88DC-FED0E44B2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FC92FEB-8E0A-4E89-BF1F-827ED43F2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0D94E5C-D535-4200-BD4E-5D2003A12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2438BB-28C7-473A-B6A5-94CCF8A63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041B98C-9C13-49B5-B16B-8500B8DA8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1D7AD1C-265A-4187-8C7E-15681DCF4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E35E9EB-0D67-4FF6-AC99-0101A1C18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0469A54-DF1B-43F6-80E4-B57E6CF62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53B73DF-714F-41FA-8369-38326E82B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906B9DC-E674-4570-BC48-A5B939216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3A31F00-829F-4DBA-B065-D1AA01995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F3A4DA3-ED42-494D-84F9-B2B2826A4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AF10977-9A8A-493E-94F6-0A0E74AB5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1218058-7B7D-4A36-A56E-1029F4C9C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057820-0E4C-445A-B8E0-C69F85752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929C94C-C07A-4885-B34F-683AEA27A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6240701-A85A-4585-B625-DEA139344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D000E3D-8150-4F9F-9B92-A055180C4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AE6DE3C-AF96-4CEA-936A-67D7C7AE2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3634367-C523-46BD-9C1C-196FD750E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5028DDA-3FBE-4D12-A452-49C114283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299CD3F-FBEA-4563-B0B9-51A3115DA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801C1A8-2726-4BA9-AD94-2C62D648F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7D05BDD-A7BA-4536-B47A-9C9FE52CB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3A6E23C-34CD-4FC5-8344-F9939A703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6C0AD8-64E7-493E-85B4-0D2DB8137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5CCA9DD-9805-42ED-B00D-5BB88ADEE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C544C56-92B5-49F5-84FC-953DACC62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A9ED1AF-F3CB-47BD-A8B4-5E9E772A2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98AFD8E-A33C-4CA5-955B-0809C8752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B5CCB72-C64A-4121-B02C-4AAE8F805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71B52BA-4E5A-456D-99A5-8EA2919B5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26CE202-273D-46BE-8839-B6DF25F32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DB0FB05-E99C-4AD5-88C5-BDC2DE732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AF20FD4-F99B-4846-9CD9-D2F42AFDD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F1EF730-CAED-44A7-9ABB-13F269266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51BE38-BAB8-412B-BB7D-5EA774ED3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EA5AC56-D7F2-4821-9848-C94A09C4A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0934C18-0E47-449E-B628-1D1B80B38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FFC568C-BA1A-4098-92FF-C5FCAC255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CD11CAF-24FC-4944-A584-E8516D88E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3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B1B80A0-CD0A-47AE-B62D-04CCF537D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C721387-F989-4308-A285-3C91F075D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D79F8D9-080B-4FAE-8FB1-8DB2A1267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4366183-9AF8-4CDF-8D44-43F93D357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45C9902-5699-4B0C-8849-BA1338D81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EA94C65-FEC0-4663-B201-048106EED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AE960A-1B53-4A27-A4AA-714069498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4DCF397-5E64-4402-96A0-717BC8C9B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9CEE733-B986-4042-9E27-A924CDBA8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9106788-C41C-4980-B3FA-03EA1CF7F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8CC04BC-515A-4328-BEB4-54E383817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74C030A-AF0F-487D-8724-680871F7A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0AD0B47-9BBC-4B82-8D8A-826EFCEB8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D0D00A4-530B-463C-9E2B-5DAB57692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2147E95-C23D-4AAD-995B-D5C3B1E3B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C3B3CA4-9E77-4D99-9323-0551D746E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29D394F-176C-4DA4-86FF-1AB769DC9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D4306-D97B-4FBD-877E-C57097FC41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chnical Advisory Committ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anuary 3, 20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3"/>
          <p:cNvSpPr/>
          <p:nvPr/>
        </p:nvSpPr>
        <p:spPr>
          <a:xfrm>
            <a:off x="3429000" y="64771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025D6-69CA-4644-AC70-CF423BF91B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Donut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48" name="Donut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January 3, 20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Technical Advisory Committ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48903-DC79-41DB-94FD-443D70A9A0E5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8dc7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Line 14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7"/>
          </p:nvPr>
        </p:nvSpPr>
        <p:spPr>
          <a:xfrm>
            <a:off x="2333520" y="5466960"/>
            <a:ext cx="62769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anuary 3, 20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ftr" idx="8"/>
          </p:nvPr>
        </p:nvSpPr>
        <p:spPr>
          <a:xfrm>
            <a:off x="2333520" y="5067360"/>
            <a:ext cx="627696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echnical Advisory Commit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Donut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140" name="Donut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8dc7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Oval 15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148" name="Oval 15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Oval 16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14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8dc7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dt" idx="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January 3, 20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ftr" idx="1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Technical Advisory Committ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sldNum" idx="1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76160-EF9B-4169-A73D-AB47940778C7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15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6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Oval 17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96" name="Oval 17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Oval 18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 type="dt" idx="12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January 3, 20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 type="ftr" idx="13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Technical Advisory Committ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 type="sldNum" idx="14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FE3D9-4CF9-4504-899F-8EBFC82691AE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 type="dt" idx="15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January 3, 20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 type="ftr" idx="16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Technical Advisory Committ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 type="sldNum" idx="17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937F4-AC68-4EEB-AE71-7E7911EA9BFB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15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16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 type="dt" idx="18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January 3, 20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 type="ftr" idx="19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Technical Advisory Committ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 type="sldNum" idx="20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C22B5-6A82-4A26-AB49-F7F8EB5849FB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January 3, 20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Technical Advisory Committ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3DF75-0FC3-4ECE-827D-5B0198CDDBA9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5" name="Rectangle 15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366" name="Rectangle 15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7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8" name="Flowchart: Process 16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Flowchart: Process 17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dt" idx="2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January 3, 20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ftr" idx="2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Technical Advisory Committ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sldNum" idx="2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35BCF-AFDA-45F9-AFB9-AF4D21D16573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ercot.com/content/wcm/key_documents_lists/103998/4.1_CEO_Update_REVISED_10.13.17.pdf" TargetMode="External"/><Relationship Id="rId2" Type="http://schemas.openxmlformats.org/officeDocument/2006/relationships/hyperlink" Target="http://ercot.com/content/wcm/key_documents_lists/103998/4.2_Operations_Report.pdf" TargetMode="External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ercot.com/content/wcm/key_documents_lists/103998/5.1_Summer_2017_Operational_and_Market_Review.pdf" TargetMode="External"/><Relationship Id="rId2" Type="http://schemas.openxmlformats.org/officeDocument/2006/relationships/hyperlink" Target="http://ercot.com/content/wcm/key_documents_lists/103998/5.2_Hurricane_Harvey_Overview.pdf" TargetMode="External"/><Relationship Id="rId3" Type="http://schemas.openxmlformats.org/officeDocument/2006/relationships/hyperlink" Target="http://ercot.com/content/wcm/key_documents_lists/103998/5.2_Hurricane_Harvey_Overview.pdf" TargetMode="External"/><Relationship Id="rId4" Type="http://schemas.openxmlformats.org/officeDocument/2006/relationships/hyperlink" Target="http://ercot.com/content/wcm/key_documents_lists/103998/5.3.1_AEP_Texas_Hurricane_Harvey_Restoration.pdf" TargetMode="External"/><Relationship Id="rId5" Type="http://schemas.openxmlformats.org/officeDocument/2006/relationships/hyperlink" Target="http://ercot.com/content/wcm/key_documents_lists/103998/5.3.1_AEP_Texas_Hurricane_Harvey_Restoration.pdf" TargetMode="External"/><Relationship Id="rId6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2286000" y="1447560"/>
            <a:ext cx="66578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r>
              <a:rPr b="1" lang="en-US" sz="2900" spc="-1" strike="noStrike">
                <a:solidFill>
                  <a:srgbClr val="572314"/>
                </a:solidFill>
                <a:latin typeface="Gill Sans MT"/>
              </a:rPr>
              <a:t>October 17</a:t>
            </a:r>
            <a:r>
              <a:rPr b="1" lang="en-US" sz="2900" spc="-1" strike="noStrike" baseline="30000">
                <a:solidFill>
                  <a:srgbClr val="572314"/>
                </a:solidFill>
                <a:latin typeface="Gill Sans MT"/>
              </a:rPr>
              <a:t>th</a:t>
            </a:r>
            <a:r>
              <a:rPr b="1" lang="en-US" sz="2900" spc="-1" strike="noStrike">
                <a:solidFill>
                  <a:srgbClr val="572314"/>
                </a:solidFill>
                <a:latin typeface="Gill Sans MT"/>
              </a:rPr>
              <a:t> ERCOT Board &amp; </a:t>
            </a:r>
            <a:br>
              <a:rPr sz="2900"/>
            </a:br>
            <a:r>
              <a:rPr b="1" lang="en-US" sz="2900" spc="-1" strike="noStrike">
                <a:solidFill>
                  <a:srgbClr val="572314"/>
                </a:solidFill>
                <a:latin typeface="Gill Sans MT"/>
              </a:rPr>
              <a:t>October 25</a:t>
            </a:r>
            <a:r>
              <a:rPr b="1" lang="en-US" sz="2900" spc="-1" strike="noStrike" baseline="30000">
                <a:solidFill>
                  <a:srgbClr val="572314"/>
                </a:solidFill>
                <a:latin typeface="Gill Sans MT"/>
              </a:rPr>
              <a:t>th</a:t>
            </a:r>
            <a:r>
              <a:rPr b="1" lang="en-US" sz="2900" spc="-1" strike="noStrike">
                <a:solidFill>
                  <a:srgbClr val="572314"/>
                </a:solidFill>
                <a:latin typeface="Gill Sans MT"/>
              </a:rPr>
              <a:t>  TAC’s  Email Voting  </a:t>
            </a:r>
            <a:br>
              <a:rPr sz="2900"/>
            </a:br>
            <a:endParaRPr b="0" lang="en-US" sz="2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2285640" y="3276360"/>
            <a:ext cx="6343560" cy="11430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20e04"/>
                </a:solidFill>
                <a:latin typeface="Gill Sans MT"/>
              </a:rPr>
              <a:t>Kathy Scott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0" name="Rectangle 10"/>
          <p:cNvSpPr/>
          <p:nvPr/>
        </p:nvSpPr>
        <p:spPr>
          <a:xfrm>
            <a:off x="3581280" y="6400800"/>
            <a:ext cx="22100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November 7, 20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15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AC and Board Upd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Slide Number Placeholder 1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A795B-AA66-46C1-806D-3AB8D2B76ED7}" type="slidenum">
              <a:rPr b="0" lang="en-US" sz="1200" spc="-1" strike="noStrike">
                <a:solidFill>
                  <a:srgbClr val="b5a788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142640" y="75960"/>
            <a:ext cx="80010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2314"/>
                </a:solidFill>
                <a:latin typeface="Gill Sans MT"/>
              </a:rPr>
              <a:t>October 17, 2017 </a:t>
            </a:r>
            <a:r>
              <a:rPr b="1" lang="en-US" sz="3200" spc="-1" strike="noStrike">
                <a:solidFill>
                  <a:srgbClr val="572314"/>
                </a:solidFill>
                <a:latin typeface="Gill Sans MT"/>
              </a:rPr>
              <a:t>ERCOT Board Updates </a:t>
            </a:r>
            <a:br>
              <a:rPr sz="3200"/>
            </a:b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914400" y="761760"/>
            <a:ext cx="82296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244440" indent="-1890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Agenda Item 2.1 On the “Consent Agenda”: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428400" indent="-1584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00000"/>
                </a:solidFill>
                <a:latin typeface="Gill Sans MT"/>
              </a:rPr>
              <a:t>Unanimously Approved</a:t>
            </a: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: 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593280" indent="-153000"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b050"/>
                </a:solidFill>
                <a:latin typeface="Gill Sans MT"/>
              </a:rPr>
              <a:t>NPRR768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, Revisions to Real-Time On-Line Reliability Deployment Price Adder Categories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593280" indent="-153000"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030a0"/>
                </a:solidFill>
                <a:latin typeface="Gill Sans MT"/>
              </a:rPr>
              <a:t>NPRR821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, Elimination of the CRR Deration Process for Resource Node to Hub or Load Zone CRRs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593280" indent="-153000"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030a0"/>
                </a:solidFill>
                <a:latin typeface="Gill Sans MT"/>
              </a:rPr>
              <a:t>NPRR840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, Implementation of Infeasible Ancillary Service Protocol Revisions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593280" indent="-153000"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030a0"/>
                </a:solidFill>
                <a:latin typeface="Gill Sans MT"/>
              </a:rPr>
              <a:t>SCR791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, Correction of 60-day SCED GRD Disclosure Report 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593280" indent="-153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44440" indent="-1890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Agenda Item 4 “CEO and Operations Reports” :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428400" indent="-1584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Highlights of interest to Retail: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593280" indent="-153000">
              <a:spcBef>
                <a:spcPts val="45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8dc765"/>
                </a:solidFill>
                <a:uFillTx/>
                <a:latin typeface="Gill Sans MT"/>
                <a:hlinkClick r:id="rId1"/>
              </a:rPr>
              <a:t>4.1 CEO Update REVISED 10.13.17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2" marL="593280" indent="-153000">
              <a:spcBef>
                <a:spcPts val="45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8dc765"/>
                </a:solidFill>
                <a:uFillTx/>
                <a:latin typeface="Gill Sans MT"/>
                <a:hlinkClick r:id="rId2"/>
              </a:rPr>
              <a:t>4.2 Operations Report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2" marL="593280" indent="-153000">
              <a:spcBef>
                <a:spcPts val="45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428400" indent="-1584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428400" indent="-1584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593280" indent="-153000"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428400" indent="-1584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428400" indent="-158400">
              <a:spcBef>
                <a:spcPts val="601"/>
              </a:spcBef>
              <a:buClr>
                <a:srgbClr val="3891a7"/>
              </a:buClr>
              <a:buSzPct val="80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428400" indent="-158400">
              <a:spcBef>
                <a:spcPts val="601"/>
              </a:spcBef>
              <a:buClr>
                <a:srgbClr val="3891a7"/>
              </a:buClr>
              <a:buSzPct val="80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428400" indent="-158400">
              <a:spcBef>
                <a:spcPts val="601"/>
              </a:spcBef>
              <a:buClr>
                <a:srgbClr val="3891a7"/>
              </a:buClr>
              <a:buSzPct val="80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44440" indent="-189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428400" indent="-1584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5" name="Date Placeholder 3"/>
          <p:cNvSpPr/>
          <p:nvPr/>
        </p:nvSpPr>
        <p:spPr>
          <a:xfrm>
            <a:off x="3581280" y="6305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November 7, 20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TAC and Board Upd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Slide Number Placeholder 5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92712-164B-4C27-BF42-676D506B6E43}" type="slidenum">
              <a:rPr b="0" lang="en-US" sz="1200" spc="-1" strike="noStrike">
                <a:solidFill>
                  <a:srgbClr val="b5a788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142640" y="-152640"/>
            <a:ext cx="80773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2314"/>
                </a:solidFill>
                <a:latin typeface="Gill Sans MT"/>
              </a:rPr>
              <a:t>October 17, 2017 </a:t>
            </a:r>
            <a:r>
              <a:rPr b="1" lang="en-US" sz="3200" spc="-1" strike="noStrike">
                <a:solidFill>
                  <a:srgbClr val="572314"/>
                </a:solidFill>
                <a:latin typeface="Gill Sans MT"/>
              </a:rPr>
              <a:t>ERCOT Board Updates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914040" y="761760"/>
            <a:ext cx="838188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Agenda Item 5: “Summer 2017 &amp; Hurricane Recovery”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797040" indent="-20556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5.1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Summer 2017 Operational and Market Review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3" marL="987120" indent="-155520">
              <a:spcBef>
                <a:spcPts val="45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8dc765"/>
                </a:solidFill>
                <a:uFillTx/>
                <a:latin typeface="Gill Sans MT"/>
                <a:hlinkClick r:id="rId1"/>
              </a:rPr>
              <a:t>5.1 Summer 2017 Operational and Market Review</a:t>
            </a: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2" marL="797040" indent="-20556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5.2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Hurricane Harvey Overview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3" marL="987120" indent="-155520">
              <a:spcBef>
                <a:spcPts val="45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8dc765"/>
                </a:solidFill>
                <a:uFillTx/>
                <a:latin typeface="Gill Sans MT"/>
                <a:hlinkClick r:id="rId2"/>
              </a:rPr>
              <a:t>5.2 </a:t>
            </a:r>
            <a:r>
              <a:rPr b="0" lang="en-US" sz="1800" spc="-1" strike="noStrike" u="sng">
                <a:solidFill>
                  <a:srgbClr val="8dc765"/>
                </a:solidFill>
                <a:uFillTx/>
                <a:latin typeface="Gill Sans MT"/>
                <a:hlinkClick r:id="rId3"/>
              </a:rPr>
              <a:t>Hurricane Harvey Overview</a:t>
            </a: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2" marL="797040" indent="-20556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5.3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Hurricane Harvey Restoration and Recovery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3" marL="987120" indent="-155520">
              <a:spcBef>
                <a:spcPts val="499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5.3.1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AEP Texas Hurricane Harvey Restoration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1167120" indent="-164160">
              <a:spcBef>
                <a:spcPts val="45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8dc765"/>
                </a:solidFill>
                <a:uFillTx/>
                <a:latin typeface="Gill Sans MT"/>
                <a:hlinkClick r:id="rId4"/>
              </a:rPr>
              <a:t>5.3.1 </a:t>
            </a:r>
            <a:r>
              <a:rPr b="0" lang="en-US" sz="1800" spc="-1" strike="noStrike" u="sng">
                <a:solidFill>
                  <a:srgbClr val="8dc765"/>
                </a:solidFill>
                <a:uFillTx/>
                <a:latin typeface="Gill Sans MT"/>
                <a:hlinkClick r:id="rId5"/>
              </a:rPr>
              <a:t>AEP Texas Hurricane Harvey Restoration</a:t>
            </a: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3" marL="987120" indent="-155520">
              <a:spcBef>
                <a:spcPts val="499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5.3.2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CenterPoint Energy’s Response to Hurricane Harvey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1167120" indent="-164160">
              <a:spcBef>
                <a:spcPts val="45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5.3.2 CenterPoint Energy's Response to Hurricane Harvey REVISED 10.12.17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Agenda Item 6 in the “Summer Review and Fall Winter Weather Outlook”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75640" indent="-21276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6 Summer Review and Fall Winter Weather Outlook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797040" indent="-20556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75640" indent="-21276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0" name="Date Placeholder 3"/>
          <p:cNvSpPr/>
          <p:nvPr/>
        </p:nvSpPr>
        <p:spPr>
          <a:xfrm>
            <a:off x="3581280" y="6305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November 7, 20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TAC and Board Upd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Slide Number Placeholder 5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73059-FBD7-432F-AE60-9C80BB67739E}" type="slidenum">
              <a:rPr b="0" lang="en-US" sz="1200" spc="-1" strike="noStrike">
                <a:solidFill>
                  <a:srgbClr val="b5a788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142640" y="75960"/>
            <a:ext cx="80010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2314"/>
                </a:solidFill>
                <a:latin typeface="Gill Sans MT"/>
              </a:rPr>
              <a:t>October 17, 2017 </a:t>
            </a:r>
            <a:r>
              <a:rPr b="1" lang="en-US" sz="3200" spc="-1" strike="noStrike">
                <a:solidFill>
                  <a:srgbClr val="572314"/>
                </a:solidFill>
                <a:latin typeface="Gill Sans MT"/>
              </a:rPr>
              <a:t>ERCOT Board Updates </a:t>
            </a:r>
            <a:br>
              <a:rPr sz="3200"/>
            </a:b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838080" y="609480"/>
            <a:ext cx="838224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73600" indent="-2116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73600" indent="-2116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Technical  Advisory Committee (TAC) Report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479520" indent="-1771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ill Sans MT"/>
              </a:rPr>
              <a:t>Agenda Item 9.1 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2" marL="664200" indent="-171360">
              <a:spcBef>
                <a:spcPts val="55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ill Sans MT"/>
              </a:rPr>
              <a:t>Non-Unanimous NPRRs Recommended by TAC for ERCOT Board Approval: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3" marL="822600" indent="-129600">
              <a:spcBef>
                <a:spcPts val="499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b050"/>
                </a:solidFill>
                <a:latin typeface="Gill Sans MT"/>
              </a:rPr>
              <a:t>NPRR817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, Create a Panhandle Hub – </a:t>
            </a:r>
            <a:r>
              <a:rPr b="1" lang="en-US" sz="2000" spc="-1" strike="noStrike">
                <a:solidFill>
                  <a:srgbClr val="c00000"/>
                </a:solidFill>
                <a:latin typeface="Gill Sans MT"/>
              </a:rPr>
              <a:t>Approved with 1 No Vot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822600" indent="-129600">
              <a:spcBef>
                <a:spcPts val="499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b050"/>
                </a:solidFill>
                <a:latin typeface="Gill Sans MT"/>
              </a:rPr>
              <a:t>NPRR829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, Incorporate Real-Time Non-Modeled Telemetered Net Generation by Load Zone into the Estimate of RTL  - </a:t>
            </a:r>
            <a:r>
              <a:rPr b="1" lang="en-US" sz="2000" spc="-1" strike="noStrike">
                <a:solidFill>
                  <a:srgbClr val="c00000"/>
                </a:solidFill>
                <a:latin typeface="Gill Sans MT"/>
              </a:rPr>
              <a:t>Approved with 1 No Vote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822600" indent="-129600">
              <a:spcBef>
                <a:spcPts val="499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030a0"/>
                </a:solidFill>
                <a:latin typeface="Gill Sans MT"/>
              </a:rPr>
              <a:t>NPRR836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,  Incorporation of Other Binding Document Forms into Protocol Section 23 – </a:t>
            </a:r>
            <a:r>
              <a:rPr b="1" lang="en-US" sz="2000" spc="-1" strike="noStrike">
                <a:solidFill>
                  <a:srgbClr val="c00000"/>
                </a:solidFill>
                <a:latin typeface="Gill Sans MT"/>
              </a:rPr>
              <a:t>Approved Unanimously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664200" indent="-17136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664200" indent="-1713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3" marL="822600" indent="-129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3" marL="822600" indent="-129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479520" indent="-177120">
              <a:spcBef>
                <a:spcPts val="601"/>
              </a:spcBef>
              <a:buClr>
                <a:srgbClr val="3891a7"/>
              </a:buClr>
              <a:buSzPct val="80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479520" indent="-177120">
              <a:spcBef>
                <a:spcPts val="601"/>
              </a:spcBef>
              <a:buClr>
                <a:srgbClr val="3891a7"/>
              </a:buClr>
              <a:buSzPct val="80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479520" indent="-177120">
              <a:spcBef>
                <a:spcPts val="601"/>
              </a:spcBef>
              <a:buClr>
                <a:srgbClr val="3891a7"/>
              </a:buClr>
              <a:buSzPct val="80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664200" indent="-17136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664200" indent="-171360">
              <a:spcBef>
                <a:spcPts val="601"/>
              </a:spcBef>
              <a:buClr>
                <a:srgbClr val="feb80a"/>
              </a:buClr>
              <a:buSzPct val="80000"/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3600" indent="-21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479520" indent="-1771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5" name="Date Placeholder 3"/>
          <p:cNvSpPr/>
          <p:nvPr/>
        </p:nvSpPr>
        <p:spPr>
          <a:xfrm>
            <a:off x="3581280" y="6305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November 7, 20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TAC and Board Upd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Slide Number Placeholder 5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5A823-D4C9-4115-BDC1-D3AF4EFF69CA}" type="slidenum">
              <a:rPr b="0" lang="en-US" sz="1200" spc="-1" strike="noStrike">
                <a:solidFill>
                  <a:srgbClr val="b5a788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143000" y="-152640"/>
            <a:ext cx="7848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2314"/>
                </a:solidFill>
                <a:latin typeface="Gill Sans MT"/>
              </a:rPr>
              <a:t> </a:t>
            </a:r>
            <a:r>
              <a:rPr b="1" lang="en-US" sz="3200" spc="-1" strike="noStrike">
                <a:solidFill>
                  <a:srgbClr val="572314"/>
                </a:solidFill>
                <a:latin typeface="Gill Sans MT"/>
              </a:rPr>
              <a:t>TAC Email Vote Taken October 25, 2017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914400" y="22860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 TAC Information Session WebEx was held on Monday, October 23, 2017.  TAC Vice Chair Bob Helton requests an email vote of TAC members regarding the following item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 </a:t>
            </a:r>
            <a:r>
              <a:rPr b="1" i="1" lang="en-US" sz="2200" spc="-1" strike="noStrike">
                <a:solidFill>
                  <a:srgbClr val="000000"/>
                </a:solidFill>
                <a:latin typeface="Gill Sans MT"/>
              </a:rPr>
              <a:t>Motion #1: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588240" indent="-2174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TAC approves “Generating and Maintaining the Load Distribution Factor Library” as amended by the ERCOT comments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15040" indent="-210240">
              <a:spcBef>
                <a:spcPts val="45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Please characterized your votes as one of the following: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2" marL="815040" indent="-2102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1)    Affirm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2" marL="815040" indent="-2102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2)    Object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2" marL="815040" indent="-2102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3)    Abstain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588240" indent="-2174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c00000"/>
                </a:solidFill>
                <a:latin typeface="Gill Sans MT"/>
              </a:rPr>
              <a:t>Motion #1 Above Carried Unanimously on October 25, 2017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2" marL="815040" indent="-210240">
              <a:spcBef>
                <a:spcPts val="45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2017 TAC Ballot.20171025 Generating Maintaining LDF Library ERCOT Comments 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588240" indent="-2174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88240" indent="-2174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15040" indent="-2102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588240" indent="-2174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588240" indent="-2174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88240" indent="-2174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88240" indent="-2174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0" name="Date Placeholder 3"/>
          <p:cNvSpPr/>
          <p:nvPr/>
        </p:nvSpPr>
        <p:spPr>
          <a:xfrm>
            <a:off x="3581280" y="6305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November 7, 20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TAC and Board Upd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Slide Number Placeholder 5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E534B-06A3-47A8-B70C-1CBE7FA6E683}" type="slidenum">
              <a:rPr b="0" lang="en-US" sz="1200" spc="-1" strike="noStrike">
                <a:solidFill>
                  <a:srgbClr val="b5a788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3" name="Object 2"/>
          <p:cNvGraphicFramePr/>
          <p:nvPr/>
        </p:nvGraphicFramePr>
        <p:xfrm>
          <a:off x="4114800" y="1828800"/>
          <a:ext cx="914400" cy="79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1828800"/>
                    <a:ext cx="914400" cy="79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371600" y="-76680"/>
            <a:ext cx="7499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Questions?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46" name="Slide Number Placeholder 2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DB6AE-6A8A-4E77-802F-9F1C60D57453}" type="slidenum">
              <a:rPr b="0" lang="en-US" sz="1200" spc="-1" strike="noStrike">
                <a:solidFill>
                  <a:srgbClr val="b5a788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Date Placeholder 3"/>
          <p:cNvSpPr/>
          <p:nvPr/>
        </p:nvSpPr>
        <p:spPr>
          <a:xfrm>
            <a:off x="3581280" y="6305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November 7, 20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TAC and Board upd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9" name="Picture 7" descr="C:\Users\00015621\AppData\Local\Microsoft\Windows\Temporary Internet Files\Content.IE5\M2YDF2H6\passe-compose-ou-imparfait-grammaire-bdf-19[1].jpg"/>
          <p:cNvPicPr/>
          <p:nvPr/>
        </p:nvPicPr>
        <p:blipFill>
          <a:blip r:embed="rId1"/>
          <a:stretch/>
        </p:blipFill>
        <p:spPr>
          <a:xfrm>
            <a:off x="1854360" y="990720"/>
            <a:ext cx="591804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>Bevill, Rob</dc:creator>
  <dc:description/>
  <dc:language>en-US</dc:language>
  <cp:lastModifiedBy>Scott, Kathy D.</cp:lastModifiedBy>
  <dcterms:modified xsi:type="dcterms:W3CDTF">2017-11-01T02:14:32Z</dcterms:modified>
  <cp:revision>1523</cp:revision>
  <dc:subject/>
  <dc:title>Instructions</dc:title>
</cp:coreProperties>
</file>