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719-918C-446D-A275-2F1AA64C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0FBB-C2FC-42E6-A70F-E0C7A955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F213-2384-41CD-814B-4ED1F304B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266C-5290-465D-8C51-FEED3BE6F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0C47-B53C-4743-9FDB-2AFE3C01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89D-2538-41A9-8A78-E5DBC22B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F413-2E38-456F-A9F2-9DE0111CE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70F8-07BE-4DC6-BFDF-8E1ADD61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078D-9D41-407E-8B8C-57092C70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5737-B919-449F-8BA2-68B94775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0E8-FA83-43A1-8E5A-C81C6C0E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C74D-A5EA-457A-B7F8-C93B4C1BA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FAFC-9937-4C09-ADBB-15B43087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67B5-56D8-4DEE-96C6-93642F2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90D7-A773-467B-B742-45D1D273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0C26-EA54-4263-89F1-61382AF1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2F56-B410-4914-A965-29F6B87F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A646-8CC9-42D9-B793-B282AB0A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268A-E4FF-422C-A922-CE0A5168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4D5C-C12E-4B50-9B06-ABAFE73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52CE-94F6-429E-93E7-FD590EF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CA78-0D6D-4DE5-BB76-E5BDD7FD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B9B9-73F7-4FB7-860F-F2F701C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485A-2A6D-4D91-B8B1-C7F3BA0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ED51-D27C-43EB-B495-2C10618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500D-55F6-4590-B72B-467CD8A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828-5FDD-4570-AD1A-DB9A42C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0793-D175-4BA3-8E26-FC7E742B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91F3-3395-4432-8746-A394ADF8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AF2F-69F7-44CA-9F23-45DCDA51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FAF9-63EF-4F32-AED2-BFBBDDA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0522-2279-432C-BEC4-5D96328A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71BC-3530-497F-A844-AE9F9223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95AA-9FAF-463A-8C21-A3A4DB4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7B01-44DA-4521-A134-EFB59779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A7CE-4128-40E2-8040-32106651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7C5B-07AE-48A6-8440-2F8EEE2AF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699B-CBDB-4B0A-A7BA-D8B504AF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FBA95-7D37-4F4C-9552-A580602415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8B68A-B659-4367-8BB6-FB26AD485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59D49-8383-460E-8C7E-B1A6B9CE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1/7/20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ments Timelines - 2017 Holiday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676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Review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M Statements issued on the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usiness Day after Operat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M Initial issued on 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ay after OD, or next Business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M Final issued on 5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ay after OD, or next Business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M TrueUp issued on 18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ay after OD, or next Business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tlement Invoices (STL) payments are due on the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ank Business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7 ERCOT Holi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/23/2017, Thurs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/24/2017, Frida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/25/2017, Monda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/26/2017, Tues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7 Bank Holi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/23/2017, Thurs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/25/2017, Monda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BA70-F440-4DF7-A854-3AC86A4E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anksgiving 2017 Timel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862E-4676-4C2C-B3CF-8E6CDFF6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33520" y="1676520"/>
          <a:ext cx="7848360" cy="293040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904760"/>
                <a:gridCol w="1828800"/>
                <a:gridCol w="381240"/>
                <a:gridCol w="304560"/>
              </a:tblGrid>
              <a:tr h="4222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7, 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8, T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9, W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2 – 11/26 (5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Init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, 11/19, 11/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2, 11/23, 11/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F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9 – 10/3 (5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TrueU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 – 5/31 (5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L Invo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1/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1/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2/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s Due f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1 &amp; 11/22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7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92120" y="5105520"/>
            <a:ext cx="842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, Initial, Final and Trueup dates are Operating Dates being issu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D Invoice being issued Tuesday, 11/2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 Auction Invoice being issued Friday, 12/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162920" y="25560"/>
            <a:ext cx="1295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ristmas 2017 Timelines (week befor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052F-59C3-4DE0-A300-25EFAA600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1676520"/>
          <a:ext cx="8076960" cy="2944800"/>
        </p:xfrm>
        <a:graphic>
          <a:graphicData uri="http://schemas.openxmlformats.org/drawingml/2006/table">
            <a:tbl>
              <a:tblPr/>
              <a:tblGrid>
                <a:gridCol w="1600200"/>
                <a:gridCol w="304560"/>
                <a:gridCol w="304920"/>
                <a:gridCol w="1905120"/>
                <a:gridCol w="2133360"/>
                <a:gridCol w="1828800"/>
              </a:tblGrid>
              <a:tr h="422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, W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1, Th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2, F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Init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F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TrueU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L Invo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2/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2/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2/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s Due f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Rectangle 6"/>
          <p:cNvSpPr/>
          <p:nvPr/>
        </p:nvSpPr>
        <p:spPr>
          <a:xfrm>
            <a:off x="566640" y="4876920"/>
            <a:ext cx="6705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66640" y="5105520"/>
            <a:ext cx="766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for CRR Auction Invoice posted 12/15, payments are due on 12/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472520" y="122400"/>
            <a:ext cx="11379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ristmas 2017 Timel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940-E93B-47BF-B22C-B6C4C4CC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1676520"/>
          <a:ext cx="8001000" cy="2944800"/>
        </p:xfrm>
        <a:graphic>
          <a:graphicData uri="http://schemas.openxmlformats.org/drawingml/2006/table">
            <a:tbl>
              <a:tblPr/>
              <a:tblGrid>
                <a:gridCol w="1600200"/>
                <a:gridCol w="304560"/>
                <a:gridCol w="304920"/>
                <a:gridCol w="2057400"/>
                <a:gridCol w="1905120"/>
                <a:gridCol w="1828800"/>
              </a:tblGrid>
              <a:tr h="422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7, W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8, Th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9, F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2 – 12/26 (5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Init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, 12/19, 12/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2, 12/23, 12/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F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 – 11/2 (5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TrueU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6 – 6/30 (5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L Invo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2/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/2/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/3/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s Due f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1 and 12/22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7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 txBox="1"/>
          <p:nvPr/>
        </p:nvSpPr>
        <p:spPr>
          <a:xfrm>
            <a:off x="491760" y="510516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D Invoice being issued on Thursday, 12/28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7086600" y="166680"/>
            <a:ext cx="13413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w Year 2018 Timel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2FC-5741-4FDF-90CA-B639D74BC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3520" y="1687680"/>
          <a:ext cx="8229600" cy="2838240"/>
        </p:xfrm>
        <a:graphic>
          <a:graphicData uri="http://schemas.openxmlformats.org/drawingml/2006/table">
            <a:tbl>
              <a:tblPr/>
              <a:tblGrid>
                <a:gridCol w="1708200"/>
                <a:gridCol w="387360"/>
                <a:gridCol w="1785600"/>
                <a:gridCol w="1863720"/>
                <a:gridCol w="1265400"/>
                <a:gridCol w="1219320"/>
              </a:tblGrid>
              <a:tr h="387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02, T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03, W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04, 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05, 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9 – 1/1/18 (4 O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/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/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Init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5, 12/26, 12/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9, 12/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F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 – 11/8 (4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M TrueU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 – 7/6 (4 OD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L Invo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due on 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s Due f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8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9 ST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ST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ST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TextBox 3"/>
          <p:cNvSpPr/>
          <p:nvPr/>
        </p:nvSpPr>
        <p:spPr>
          <a:xfrm>
            <a:off x="533520" y="5029200"/>
            <a:ext cx="6933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 Invoice payments due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Auction Invoice being issued Friday,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9" descr=""/>
          <p:cNvPicPr/>
          <p:nvPr/>
        </p:nvPicPr>
        <p:blipFill>
          <a:blip r:embed="rId1"/>
          <a:stretch/>
        </p:blipFill>
        <p:spPr>
          <a:xfrm>
            <a:off x="6066000" y="0"/>
            <a:ext cx="2697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Mee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676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PS met on 10/11/20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819, Modification of Non-Price Error Resettlement Thresholds and Resettlement Clean-Ups, 8/30/2017 ERCOT com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dded language to clarify that revisions to meter data not made in connection with a dispute or ADR will not trigger an evaluation of a rese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COPS voted to endorse as amended by the 8/30/2017 ERCOT com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sequently, on 11/2/2017, the WMS voted to endorse NPRR819 as amended by the 8/30/2017 ERCOT comments.  NPRR819 will go to PRS for language consideration on 11/9/2017 and for IA consideration on 12/14/201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Initia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 Resettlement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ng addressed by NPRR8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R Daily Meter Reads Problem Statement and Go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 Statem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ly 24% of ERCOT Load meter data is not available for Initial Settlement and the majority of TDSP read generation meter data for Non-modeled Distributed Genera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ily submission of meter data from Interval Data Recorder Meters and Interval Data Recorders for ESI IDs with BUSIDRRQ Load Profiles and Non-modeled Distributed Generators, respectiv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Repo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8 Market Data Transparency SLA Draf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Certificate Download Proc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8 Holiday Settlements Schedule (See Appendix 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ofiling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(AV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DSPs report 814_20 submittals ar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review submittals and provide list of any missing via MarkeT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d the current AV process, including review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 – Flops” from year t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-46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ofiling Working Group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(AV)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 flaws were found in the AMS/IDR algorithm for residenti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changes are highly dependent on the severity of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uture Consid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 ESI proves its response to cold temperatures, ESI remains on RESHI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SQ (Squared Correlation) values and/or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view NIDR ESIs for 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33520" y="6854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ovember 8,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6"/>
          <p:cNvSpPr/>
          <p:nvPr/>
        </p:nvSpPr>
        <p:spPr>
          <a:xfrm>
            <a:off x="3581280" y="1981080"/>
            <a:ext cx="564696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ttlements Timelines for 2017 Hol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tle 1"/>
          <p:cNvSpPr/>
          <p:nvPr/>
        </p:nvSpPr>
        <p:spPr>
          <a:xfrm>
            <a:off x="380880" y="76320"/>
            <a:ext cx="8458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1-07T00:35:13Z</dcterms:modified>
  <cp:revision>1890</cp:revision>
  <dc:subject/>
  <dc:title>Instructions</dc:title>
</cp:coreProperties>
</file>