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8F09-E8EA-4B96-8BA1-E7CA1ADD6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6E7F-343E-4A31-A217-EF1B73CB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164F9-1B0D-41D9-B781-4ECF12A1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629F21-9727-4823-81E7-BE023AC8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026768-E30F-4B18-9148-8B78B290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91416-AB7C-4FA8-A05E-54599286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5B4852-6431-4A35-9E09-7FE4B7A2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669E20-D575-4670-A177-7CF8C609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570403-3BB4-450D-9F04-A3277A4E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0FF94-C57B-413C-B240-07FB1B84B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0E48B-FBC4-4507-A467-0BC717B50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0502EC-7E9D-4A40-B00A-07BEE213B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5651-6BE1-4836-982F-4DAE1AB37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5EC038-0A56-4160-90E6-A0E4F084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FEBD1D-A5E5-4783-A634-967AC645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6BA99-849A-4EDB-835A-BEB1DC34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9E8F89-211E-41A9-A1E0-AB829A8B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FA2B74-15D8-4C4F-AFD3-10679C41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1643D5-1E70-4BAD-9C3B-6DE404C8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1BA798-681B-4993-94D7-C1A2D80C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B955A9-84DD-494E-894F-577D4378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C8826-ECEA-4C3F-A1A9-762F76A0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B93ACA-4D0E-4BCD-9C1E-5A4C383AC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507D-0AC4-4214-850E-79BEEEEDC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FAA18B-E437-4571-B666-1560010B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EEF2F-745E-4AB2-93C0-36C0650E0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55C1D-E01A-4CA3-8B71-0268CC83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1B68F-B335-4D83-9636-208736CF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B9FAEA-9C7D-4E89-A784-7F20E0D2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11E34-FDEC-4510-B26C-781A4BAB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EF8FB-8B5D-47FC-AE3D-6E867405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857FC-EFB1-4B7E-92F0-D313DA57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3C5FF-1EA8-44CB-B49D-A2607343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D9048-D119-4842-9D48-8CBDD579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56E0-893B-409C-8961-25CCBAA33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F5869-25C8-4851-BE15-FE0750BC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4EDE7-6B19-4A51-AA2D-8BFAB0EF4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49466-C405-4120-85E7-222511AD2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8BDD85-8F1E-4A14-B91E-441E11B3C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94E718-B708-48CC-805A-CB55D161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564C78-4387-4B42-A765-BF326B81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B8334D-1734-4CA1-98A4-9F46C8D4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EBFE9A-D823-4567-BC70-23A32879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751037-7169-4648-A592-21BBDC94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1AEE7B-850B-4E0E-971C-5F32A51F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B2D1-E8D5-4874-99EF-BEB88297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6CFE57-3128-4446-B6BB-A0B769BB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C43D89-AD93-460A-9793-AD83E641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062F7E-691D-4F0E-BB5A-BC7C5AE4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0248FE-B944-4FEA-92C3-7A645BDB1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B4E7BC-082B-4CEA-9017-59AAB1B71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E01F-41A6-4852-899F-070C9AE6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F0EC-846C-4B6E-B79D-DF5D4B73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EA2B-C06C-4400-94A6-846A78E7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8657-89C3-4A89-A971-8B974468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9810-A1ED-4EC6-A7DA-4D1851AF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B08E-C118-4E90-8E8C-F02FB31C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DAC0-1328-4E66-A2AF-E5FACB7E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F21A-4E44-4CEE-A993-41716621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348A-2662-4B6B-A868-BBD4F74D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EB092-9E2D-4F11-95E3-54AF333A2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8836-42F5-4454-AD9B-B169A52AA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E82AB-2503-4F6A-8DEB-A584EFC0A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34046-5AC0-4DBA-9498-D2DAE18E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03364-73E3-49EC-A2B7-99CD94FC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65885-708C-4D0E-8C3B-D3AFF776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1C739-6433-4705-B296-D2D0CA15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DE5C-CBAD-4C8E-967F-D716F9D3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B5193-0FC3-4D5B-A33B-C9C95E57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34D3D-3A12-453F-885D-70895657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585D5-4C0B-42E6-A897-02264878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01B78-DCA4-4CAF-8C8E-C81B2CB4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72AA7-8584-4272-89DD-64F3B86A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43DDF-AD70-41A2-8A5A-F9AEB5A59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D1518-0CE2-4225-B97C-E082C5A28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EE7BC-AFEC-40D5-AD83-11075258F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59E35-6154-4396-9B91-AD645A37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59EFD-7566-4597-AFB4-1EA738F5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D17B-6E78-41B0-B1D4-EBB9600A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8FAA3-3F4B-4144-8EEF-6A0B2118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70470-B817-4387-B4E2-EB81390D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FD8AA-46F6-48A1-BF45-79E5012C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4CEEC-16BA-4311-92FD-124C1330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4089D-E26F-4FEF-B3C2-D0CA59B5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98091-47AF-4557-9B5D-B013BD5D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5D4B8-BED5-41B9-B23E-B49E94E3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D3E7B-6395-40E4-ADA8-946588C2C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EA337-91C9-4CEE-9BF7-FF99274E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D70C1-EC60-4C18-9C69-418ED2BFA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FDBE-0550-4D8C-A88C-4CF1E1F2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57AA1-22B0-4456-A5A9-2FB264A1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FF139-1A41-4D43-A4C5-9D39B4E0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52C0E-99DC-4A7C-B47C-A04C1B74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A89CA-BC75-4CF1-AF60-65FA87FE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E0AE3-BBC3-46AD-998C-E1BC8798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C144B-6566-4063-A737-46F15FF3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ED272-0BC4-4F2A-B6A8-B45F4B13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6610E-3F7A-4269-8B75-DE0A8909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50489-65EA-4A91-91C9-BE72D42C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88336-3816-4EC8-AD86-434938CCF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A737-24AD-401E-81FB-094D6FD9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83D5F-5302-43AA-9D36-3B65758BB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9C2A4-FFC6-4601-AAC4-2708FB1D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61D42-B468-4472-8024-22C8C890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333EC-78B8-46DF-B8BC-878C1945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8B2F0-E137-4848-9B90-CEB06D75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66918-CD0C-47A2-AA77-3A379E79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85241-6362-40FC-B420-81CDEDCC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D73D1-8C8B-4721-9769-9762360D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A20A5-E737-4971-9CAE-94158EE2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766D1-4387-4A5F-B20D-AF214312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C55C-A910-474D-8867-805D07F6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D8B81-0C83-411E-A6EA-7F92680F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14EED-CD42-4084-BB94-E1B33EE05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07BE8-2BA2-4B6A-B527-B520E17C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C0E30-F3A4-4267-9980-F5842CAB7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EE733-5700-4DB7-A6AB-D719A9E7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3B4A3-A539-449F-86C2-B7D184F9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D1305-66AB-4604-8D12-A84225B6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8907C-152B-40E5-BD3C-FA96289A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EA527-9E13-493A-AECE-B5D8FA49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9C64A-59A4-4816-A5C7-316CAA99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399B-DA57-4B26-B609-E0E8CFCE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FFCCF-359E-4750-93CC-2DF552B6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8CEC5-6F4F-4B78-BFE6-4FFFA87E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A87F2-089A-4FAB-B79F-CCAFEDCC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EE702-B5E8-4720-AC16-92E873139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66ED2-5FD7-429D-88E0-B578689BF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312B6-CBB7-4083-AB66-C013AECE2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214D6-2DE6-4C51-AAEE-F1BA2C55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03BB8-9F41-4C7A-B63E-0046CDA2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EB1F7-4DBA-41CA-BF7F-2FEC9B67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0A6AC-B6F5-49FF-AB05-14D4A3E0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2C7C-43B7-494E-9B55-EF04A99F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89B35-6FD5-4B3D-8AF8-A0AF41A4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60D7B-8669-4F99-A51E-02C4DFE6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5A97A-ECFE-49D4-B6E2-E6B38FD5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E53D5-CD3A-4B5C-9AF2-2875B822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07E7D-ED08-4906-9CF1-E4FF052E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CA4D5-30E5-4716-9D14-A34D38365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C4224-BEFE-4E75-A571-807F22C8B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9B7B4-4410-496B-96A2-305033DB1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C265F0-CECD-40AC-B38E-48AF8765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50C52-2E48-48DF-866B-F85E6325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703A-B9B3-4C29-8BAB-F573492B45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       </a:t>
            </a:r>
            <a:fld id="{7C5FB975-062B-4D58-B3CA-2420F0F69B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777E-B475-4895-A10F-E46072BA36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1404-5AA7-4D26-95E6-F9A1B0E123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734A-9103-4256-949E-659172F4F5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6689-690F-4129-9DCD-B03E6D269C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2E85-402B-45BC-BD92-ABD8A5E020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D493-A3AB-464A-B44F-C3322DF416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488F-A4D9-46D8-AC8C-4D117E1121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EEE9-90DF-46B1-B959-DFF08F5136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4143-0580-4925-B9B3-3C4C476C90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1F99-1AC5-43DF-AB83-EC2FA44A1C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953E-3284-493E-BB24-54A301AACC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DC11-33EF-40AA-BC7D-CCDEC8BC07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2D60-9F79-48BA-A310-5435983201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039D-C1BD-494E-9B30-F4659FA2D0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7150-939B-404A-BE8C-2570F69177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D71C-DEED-4363-8B2F-1F569748CD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AEF6-1555-4A28-AC16-A65879A32E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8B45-7EB9-43A1-B201-DFD322A9F5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AEC6-1DAE-4849-B1F0-1CA65B1D4B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564A-928C-4C11-B8E7-31FC7B8344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A694-BE93-41EE-AC0A-5EA9B99EAC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0C9F-CB25-4A41-9384-0AD3DACB3B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Restricted-PGDTF@lists.ercot.com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Planning Geomagnetic Disturbance Task Force (PGDTF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 Update to the R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ovember 2, 201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Omar Urquide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GDTF Chairm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B2EC-2B00-48CD-BAE4-1552A75C58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/2/2017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ivities of the PGDTF – Sept/O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228600" y="12189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GDTF Business Meetings on Sept. 28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th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amp;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ct. 25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(Ope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rovided Vulnerability Assessment Scope &amp; Process Recommendation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rafting PGRR language for TPL-007-1 Requirement 3-Criteri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Updated GIC System Model Procedure Manual, bringing to ROS in Decembe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Next Business Meeting is Nov. 17</a:t>
            </a:r>
            <a:r>
              <a:rPr b="0" lang="en-US" sz="19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IC System Model Building Face to Face Meeting – Sept. 29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TSP Onl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ompleted First ERCOT GIC Model including first look at GIC Flows, cases and GIC values posted on MI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SWG 2021 Summer Peak and 2021 MIN Released July 2017 will be used in GIC System Model build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reated TSP only 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Restricted-PGDTF@lists.ercot.com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for confidential communication and investigating encrypted transfer for submiss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nalized GIC System Model Building Schedul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Next Model Face to Face Meeting is Nov. 16</a:t>
            </a:r>
            <a:r>
              <a:rPr b="0" lang="en-US" sz="19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645A-3868-4DC6-A3A3-A91D8CF52C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/2/2017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761760" y="121896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alibri"/>
              </a:rPr>
              <a:t>TSP Resubmission Deadline – October 20</a:t>
            </a:r>
            <a:r>
              <a:rPr b="0" lang="en-US" sz="2200" spc="-1" strike="noStrike" baseline="30000">
                <a:solidFill>
                  <a:srgbClr val="7f7f7f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7f7f7f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rst Pass Release RAW &amp; GIC Files – November 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rst Pass GIC/VAR Values – November 1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ff"/>
                </a:solidFill>
                <a:latin typeface="Calibri"/>
              </a:rPr>
              <a:t>GIC Model Review Face to Face Meeting – November 16</a:t>
            </a:r>
            <a:r>
              <a:rPr b="0" i="1" lang="en-US" sz="2200" spc="-1" strike="noStrike" baseline="30000">
                <a:solidFill>
                  <a:srgbClr val="0000ff"/>
                </a:solidFill>
                <a:latin typeface="Calibri"/>
              </a:rPr>
              <a:t>th</a:t>
            </a:r>
            <a:r>
              <a:rPr b="0" i="1" lang="en-US" sz="2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rst Pass TSP Update Deadline – December 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Pass Release RAW &amp; GIC Files – December 2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Pass GIC/VAR Values – December 2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GIC Model Review Face to Face Meeting – January 12</a:t>
            </a:r>
            <a:r>
              <a:rPr b="0" lang="en-US" sz="2200" spc="-1" strike="noStrike" baseline="30000">
                <a:solidFill>
                  <a:srgbClr val="0000ff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Pass TSP Update Deadline – January 19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2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Pass Release RAW &amp; GIC Files – January 28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Pass GIC/VAR Values – January 29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GIC Model Review Face to Face Meeting – February 16</a:t>
            </a:r>
            <a:r>
              <a:rPr b="0" lang="en-US" sz="2200" spc="-1" strike="noStrike" baseline="30000">
                <a:solidFill>
                  <a:srgbClr val="0000ff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nal Pass Release RAW &amp; GIC Files – March 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Final Pass GIC/VAR Values – March 1</a:t>
            </a:r>
            <a:r>
              <a:rPr b="0" lang="en-US" sz="2200" spc="-1" strike="noStrike" baseline="30000">
                <a:solidFill>
                  <a:srgbClr val="ff0000"/>
                </a:solidFill>
                <a:latin typeface="Calibri"/>
              </a:rPr>
              <a:t>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08AE-68AD-4BFE-87E1-9C1C212E21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al GIC System Model 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/2/2017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Questions and 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Picture 2" descr="question-mark3a.jpg"/>
          <p:cNvPicPr/>
          <p:nvPr/>
        </p:nvPicPr>
        <p:blipFill>
          <a:blip r:embed="rId1"/>
          <a:stretch/>
        </p:blipFill>
        <p:spPr>
          <a:xfrm>
            <a:off x="3236760" y="2206800"/>
            <a:ext cx="2670480" cy="3315960"/>
          </a:xfrm>
          <a:prstGeom prst="rect">
            <a:avLst/>
          </a:prstGeom>
          <a:ln w="0">
            <a:noFill/>
          </a:ln>
        </p:spPr>
      </p:pic>
      <p:sp>
        <p:nvSpPr>
          <p:cNvPr id="50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0ED8-1290-4E24-8C26-3A5EE3D97F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/2/2017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14:40:13Z</dcterms:created>
  <dc:creator>Williams, Adrian</dc:creator>
  <dc:description/>
  <dc:language>en-US</dc:language>
  <cp:lastModifiedBy>Urquidez, Omar A</cp:lastModifiedBy>
  <dcterms:modified xsi:type="dcterms:W3CDTF">2017-10-26T20:01:09Z</dcterms:modified>
  <cp:revision>256</cp:revision>
  <dc:subject/>
  <dc:title>PGDTF Update to ROS</dc:title>
</cp:coreProperties>
</file>