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2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3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32A7-4B7D-4E6F-9F27-DB130E468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BBE1-E151-4042-93DD-E8B75826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B85C-C1A5-45E3-9F49-CD8DDABFB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FE94-CF8C-4B0B-8264-704FCF62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C03F-23EB-49C2-AEC4-0146C737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19AA-8F2B-4CDD-AF45-D5788A94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8FC5-8272-4EE6-ACD8-740630D2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290C-9F55-4C4A-BA19-C8BC00BA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6EF6-7F14-43E2-A810-D23E2D1A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12B-2805-49CE-8D14-757053D3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AE53-477A-4F75-8838-2C271143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509C-EB08-4613-B398-5A7A3F58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DA1-78CE-4C33-8BEB-2D489FB0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0EFA-EB10-467A-A60F-F49D7BE3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3B69-02BC-47D2-8519-5CCA491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9344-E953-4F16-B969-9F0886C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7EDF-D8D3-49CA-A08A-2C5AEC40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E7E4-2F01-4AE9-A7E1-41786B5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0916-1AF5-45B6-87A8-4FAE6572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E08C-FA87-4183-97D2-FF0B4260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1959-119D-4084-A928-CC80A8C0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78BA-EDF8-4D11-8450-2C85A0D2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AA12-7A71-45FC-AC73-C2C096B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5F72-664D-4810-B773-80A89E5F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E209-38E8-4BD0-9AEF-98B72ACF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0379-1960-4858-B31D-00FD7540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3BB7-3D2C-4292-9668-33F2F82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27DE-76D8-4E10-A350-9FA16F4E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8F9A-B8D4-4BA5-A93C-405DF78C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96E-89AC-4756-925A-287B4A7B9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C0E6-41A7-4F31-A269-653B3A4A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72C35-A9B8-476A-A2DC-B4FED429CB3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E9F85-F03B-4483-A485-0A4A6F8EBC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30640" y="0"/>
            <a:ext cx="5913360" cy="6858000"/>
          </a:xfrm>
          <a:prstGeom prst="rect">
            <a:avLst/>
          </a:prstGeom>
          <a:solidFill>
            <a:srgbClr val="d7d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196920" y="2876400"/>
            <a:ext cx="2857320" cy="11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27FD5-D28A-48BB-B951-D0CADEE1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592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2% Resettlement Rule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% Resettlement Rule (Protocol Sections 9.2.5 (2) and 9.5.6 (2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WG Objectiv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 a resettlement threshold that is fair to large and small MPs, replacing the existing 2% resettlement r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the resettlement threshold on the DAM and RTM median settlement statement amou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the issue of small errors that cumulatively create an impact which exceeds a threshold that is fair to large and small M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 actual daily resettlements, as opposed to alternative settlement resolution, to provide for automation and systematic historical re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 error other than a pricing error that has a cumulative impact, designate a cutoff for the number of days the market will go back and resett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the cutoff for DAM resettlements due to the cumulative impact of an error other than a pricing error prior to the RTM True-up Resettlement, so its results are included in the resettlement of the RT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he number of resettlements due to errors other than pricing errors to the Settlement Stability Report for visibility into and review of the impact of NPRR81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2% Resettlement Rule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% Rule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PRR819, Modification of Non-Price Error Resettlement Thresholds and Resettlement Clean-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language referencing “data errors” for DAM and RTM re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ERCOT Board authority to direct a DAM resett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reference to undefined “declarations” of re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s a semantics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9640" y="3600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2% Resettlement Rule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6676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% Rule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PRR819, Modification of Non-Price Error Resettlement Thresholds and Resettlement Clean-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worked with COPS and submitted 5/24/17 Com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s the 2% of OD Payments resettlement threshol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AM statement amount for any Settlement Recipient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s the 2% of OD Payments resettlement threshol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RTM statement amount for any Settlement Recipient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4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a DAM cumulative error threshold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5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imum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-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able resettlement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porting of the number of resettlements made under this language to the Settlement Stabilit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8/30/2017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ies that revisions to meter data not made in connection with a dispute or ADR will not trigger an evaluation of a re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Black"/>
              </a:rPr>
              <a:t>2% Resettlement Rule Upda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66760" y="609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RR819 Time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9/2017 Tabled at PRS and referred to COPS and 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4/2017 WMS referred to QM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/24/2017 ERCOT submitted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/20/2017 COPS endorsed the 5/24/2017 ERCOT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/30/2017 ERCOT submitted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/11/2017 COPS will take up the 8/30/2017 ERCOT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MWG meets 10/27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S meets 11/1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S meets 11/9/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Trenary, Michelle</cp:lastModifiedBy>
  <cp:lastPrinted>2016-10-21T15:37:14Z</cp:lastPrinted>
  <dcterms:modified xsi:type="dcterms:W3CDTF">2017-10-11T01:04:13Z</dcterms:modified>
  <cp:revision>1884</cp:revision>
  <dc:subject/>
  <dc:title>Instructions</dc:title>
</cp:coreProperties>
</file>