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AC2B-CBF8-4B1E-9C48-5540655B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C7F-B48D-4392-84AF-0A38A535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CD4D-A167-4C4C-8824-594353BD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493D-75AC-4085-B3C5-3333BEFE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09CD-6DFA-4458-924B-809BEF02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0ED7-D2B7-4103-8D85-C51FB563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2215-3ABF-42E1-B951-8175D795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D59-5C49-4CEF-ABFA-AE9381DD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9AB4-A32E-4342-9516-373C99C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E0C9-0D22-461A-9883-8E12DBC6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CE50-191B-426B-8EFE-FFB02485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AD1D-C1CB-4A1D-A8A5-470A7445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F19E-0242-4403-87A9-A142767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70AB-9FFC-4AD7-9A9E-7DC8477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1C9B-5291-40EA-95D4-EC1D8378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03B2-FF3F-4760-8515-C4511E2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498D-8F1E-4B0F-804D-D9CB573A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4D2A-1473-41CA-ADEA-A530B0BE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F596-DC81-42F7-965B-113BD78B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1235-3134-459B-9A2B-FF1A2DD5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B22A-EA18-4AAE-B5F2-5D486034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50388-E517-498C-9BF2-44DAD70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49DA6-0D74-415C-B36A-303B70D1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EE8B-AA84-4D49-A268-7B6F73B6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3B903-0800-471E-B886-7BC06126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4224-11D3-4D07-9F20-3B64B7D8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86E9-1F72-4A9A-A17C-D72A9260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8406-7BE4-4DB2-B7F3-2D8D7385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48AB-2BEF-49C6-93DA-3E5DE51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EFB4-AB17-4566-896F-F03D05D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F7F2E-7525-47EA-979B-92D6858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7D9B-D642-4606-A824-35046DB1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9B5E-1F25-4B05-8956-D8973859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E7BF-3B91-412F-B529-42F8E9C6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A607-8EE1-4636-A407-0BA24CFA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5380-5FC5-436A-822F-43CB1F14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7789-E440-4236-A95F-A29B92A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D233-A72A-44CE-96BC-C802D03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07A4-ABAE-4274-81C6-96837AA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988-90B9-4B18-AFA8-A38156D1F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6AFA-1FC0-4AD5-A54A-2A1B5ACB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9CB1-B6C0-452B-8E43-4A2F625C4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D70C-F148-460C-92BA-1FCA1DC1B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0333-B8FA-462E-89AA-4E35DDF94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October 10th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DA8-600B-4FD9-8CAF-6919FD913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71680" y="1028880"/>
            <a:ext cx="8001000" cy="47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25th, 2017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update &amp;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Status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Review of proposed LPGRR regarding RESHI load 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81F2-80AE-48B9-93D0-39F043F36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EA9-E93C-4CDB-A627-1C4B221B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52280" y="1193760"/>
            <a:ext cx="87822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027A-C96B-4F41-9471-869936FBA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304920" y="1066680"/>
            <a:ext cx="85341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7, 2017 PWG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DSPs report 814_20 submittals are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to review submittals and provide list of any missing via MarkeTr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ve discussion regarding current AV process revie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– Flops” from year to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of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Study -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 algorithms for AMS changes were re-run for 2015 – 2017   (CenterPoint territory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V has a three year look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winter months of January and February ar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included, ESIs must have 90% of the data for the 6 months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the correlation (RSQ) of Average Dry Bulb temperature verses Daily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3 of the 6 months &gt;= 0.6 , then RESLO to RESHI pro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6 of the 6 months &lt;= 0.4 , then RESHI to RESLO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44FE-B756-42F4-A4DC-7F3BF171A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3960" y="380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Investigativ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2876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“Flip-flo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algorithms, IDR meters (including AMS) will not ‘flip-flop’ in two consecutive years (i.e. RESHI to RESLO one year and the next year back to RES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NIDR meters may change every year as the algorithm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study population (CNP residential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7 AV: 43,505 profil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AV:  Only 6 (NIDR) ESIs were on the change list for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5 AV:  499 (NIDR/IDR) ESIs were changing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7FE4-7887-4353-B41B-4ECADC87B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3960" y="380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Investigative Process –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380880" y="5410080"/>
            <a:ext cx="8302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than one-tenth of a percent of AV ESIs ‘flip-flopp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396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Weather Impacts –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4F93-263C-40B8-9FA8-887DA88FA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3960" y="380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Investigative Process –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1680" y="1676520"/>
            <a:ext cx="5607000" cy="3271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5584680" y="1504800"/>
            <a:ext cx="3492720" cy="36147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304920" y="5334120"/>
            <a:ext cx="83786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cooler winters in the evaluation will result in a higher number of changes from RESLO to RESHI which is indicative of electric h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396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Weather Impacts -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8869-3B58-4371-B83C-CC4E4E33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3960" y="380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Investigative Process –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04920" y="5334120"/>
            <a:ext cx="8378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mild winters result in fewer profil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0" y="1533600"/>
            <a:ext cx="5713560" cy="3405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5638680" y="1596960"/>
            <a:ext cx="36576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396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Validation Weather Impacts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73F-4E8D-42A6-9EBA-6F85A1530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3960" y="380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Investigative Process –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52280" y="5334120"/>
            <a:ext cx="86868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ll review periods are warmer winters, correlations resulting in a larger number of ESIs moving from RESHI to RESL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rn if this accurately represents an ESIs cold weather response (electric hea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31680" y="1571760"/>
            <a:ext cx="5683320" cy="3384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35053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E616-D19B-4CF2-8376-40C56EF2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3960" y="380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– Investigative Process –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52280" y="5334120"/>
            <a:ext cx="8686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WG is further reviewing proposed ‘once a RESHI, always a RESHI’ suggestion and if warranted will submit an LPGR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380880" y="137160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gnificant flaws were found in the AMS/IDR algorithm for residenti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changes are highly dependent on the severity of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4724280" y="13716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n ESI proves its response to cold temperatures, ESI remains on RESHI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RSQ correlation values and/or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view NIDR ESIs for 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7-10-10T17:34:52Z</dcterms:modified>
  <cp:revision>1230</cp:revision>
  <dc:subject/>
  <dc:title>Instructions</dc:title>
</cp:coreProperties>
</file>