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A9EA2-1723-4A55-935E-87FBB83EE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4EF55-DE92-44CA-858E-17FD856B7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BE535-D332-4AA9-9667-E052D2B85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5DFF7-9E92-456A-9821-57D11EBBA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30106-A202-42BD-A6F9-37D1B00E3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081A5-D6FC-45F8-A490-CD16E4A37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F7D5A-052F-40A6-B293-54539EBEA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597-8D48-4932-B628-13673572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233-F6CD-44E2-B8C0-FA222266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DBAD2-73CE-4A6D-8A5B-D9ADEB5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DD56A-68D8-4722-A4F8-4588D4B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D59249-B836-4E40-A535-EC133D8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52044-A3E7-4573-B101-59ADFDC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CDE8B-F85D-4244-BEC9-6D019D2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8E550-5D26-419B-900D-5778693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48DF6-2D6D-4D5C-9842-398E92BE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BCDAD-843E-4D7B-8B38-35EDE184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1EE41F-1D01-4DD6-AD26-3BB3352F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78FFC-69D6-4D8B-AFCC-E436F7A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A62-3C46-4B57-B49F-27C99A1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7A061-320E-4301-A24E-E1ACAC5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39192-6447-4DF5-84F1-B6A5081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37FC2-90C0-4B93-B9C3-5FA0FE42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320D8-6CE3-4412-A220-93FC7D6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50470-1F77-4326-AEE1-A8D1473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6EC19-C0E9-455B-A6C2-866000B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FEABF-0C3F-4845-BDDC-796E535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C3727-E617-44AC-B5FA-98DE05F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33D9D3-5B18-414F-B086-90FEE3F8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E058B-1594-45B0-BA82-9C381275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B01-E445-4F33-976B-DEAA4C28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2CD26-8985-494C-8015-207FA5D1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0F4-8DEC-43D4-B1E1-D42F537A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BFD8-07A7-4342-8C79-673ED5A9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B78-5242-4255-9048-55FAB82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3D8B-0654-4375-BA73-0349ADC1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DF2A-287D-4F2F-88CF-41C686F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519-1565-4CA6-9F57-B9DDB57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B90-EA8A-4C19-9B57-34DACB1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D62-152D-4497-AFDB-D5373DA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A38B-CE13-469E-9856-11D42F7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7E2-FF68-4E9C-A75C-A572288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8229-CD12-49CA-BA6D-F09C99F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439-A418-4154-9CCF-9CA302B8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B56-F57E-4512-A72C-DE640721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68E-E3A3-4076-9886-166C4B47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FA6-3922-4979-949D-0933ED2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C93E0-B0BF-485F-822B-D9A16523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CB5-7261-40F8-8965-407D88BD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C71C1-33A7-4BF5-ADDC-4BBEC7C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12251-BAA8-4E08-94A7-FCF2993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AF977-0FA0-42B3-8893-E6A3A15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66080-BDB0-488E-970B-C02502C3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523FA-C165-4B5C-B93A-527FD473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91E55-0441-48AD-8088-3A96888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4BED4-42BC-4CEB-8CDB-63A84A9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EA095-63DC-4C07-9187-EBBDE7F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2D834-C829-4417-B05D-290FE42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68CB4-C4E0-41C2-BC87-DC4E9E53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501-B8B3-44C4-AD41-CB303390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6EF95-C55E-4704-9F1F-2F0FB8A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1CBFC-11C7-4BA9-8717-00EAE7C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A801D-40BF-48D9-AC8C-886A9E13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8641B-5730-42F0-B9F3-61477D6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FF04C-B8CD-48B1-8A61-D0678490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26F42-0392-4961-A581-BE7AEC9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24F24-725F-4967-8A35-8425512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477EF-1609-40BA-9B3F-75ECB47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F0551-99BF-4898-BEE8-1DB8A04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4887E-4312-4E6E-9B46-39B0ED1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80B-4E9C-4C94-956D-E8BDFB7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C875E-62A0-47BB-B94F-31E5047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81F27-2BE9-4EB4-9307-330F6B30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CF729-74E3-41A8-8338-D5D58367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DCB6A-0231-467B-9ED0-87CA5C2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FEB09-5489-4964-AF84-0CA44CEE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4C580-762E-4241-8AD3-F09E4D4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097C9-5C4E-42ED-9693-6C26E43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B76BF-95D1-485E-8DF1-0626A7B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8AAB5-91E0-40B5-B0DE-00A9664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62F55-C4B8-4797-8555-069B22B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D99-F980-4932-9516-F527162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0A871-DF51-474D-8C71-09797DD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310B4-3D7C-4C5E-8B5D-0C5E73C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D976D-B423-41F8-80E0-B95D08F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F6859-A18A-491C-A256-624E69C7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04D2B-9F2E-4D8A-A510-71CEA32A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25465-9955-4A09-8D7B-1990A51C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E4C66-525D-400F-8A9B-FC2AC35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B1135-29BB-4F73-911F-2D4E9C3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275D1-2CE5-4D03-B30B-7A2026F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467BF6-3749-410C-A73F-B9C2208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62C-5BCE-449D-84D6-AB2CE3A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8CB25-4D73-4A51-8260-2EB863A5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CBC6E-2B35-4C07-9803-2D9A3EC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4B389-CF39-4DDE-9E5E-4145F26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B55E0-0BC1-4252-BCF6-00C0587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448AF-F14D-4D1D-99EF-4EE5C40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7728A-61F2-47F8-BB4A-036536C0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4BC72-EC51-4CC2-89EB-F0B2666F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F3908-1474-418A-95A1-919DE8D1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8E014-2F1D-4A86-901F-9717749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A083B-4BDD-47B5-BCA3-826F116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9D78F-9C86-4FC1-9685-F7BDEAD0F7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39913-048D-412A-9B52-828A09C3D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A0207-38EF-4E6F-8F2D-30FE5107A1E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90B9C-D77A-4025-BD6A-17EC30866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8EC67-6B74-46D5-8A9A-311F0A4861E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79D89-3112-4225-82E4-54C17031979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0F84E-291D-4561-8DA6-05D42722357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96262-99B4-4684-8335-47B4743AC92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D9494-B601-4B53-9E47-1FC69848B23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5681C-FDEC-4CDC-8D3F-9579AC26D19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DF1D2-01BF-40C5-BF3F-D45612F29A8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48764-CE72-455E-A17A-129978E49D7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9BFE7-46CC-40BE-9673-8B7B94DDEB6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2498E-F25E-459E-8D88-FE3430C306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B851F-D8E5-4275-B7C0-17C9D7FC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8th, 2017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95E6B-5BDB-40AA-8E55-5F6CF44B779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4936E-1D03-432A-A293-8B9F898E6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C6D7D-6C3F-49E4-B453-55A980BBCE1D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07DC-7FE4-4655-ACFD-DCD404D23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5EE2C-34BD-48EB-8A4C-16920F6FE39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51E35-B723-4CFF-BEE0-FEA4225828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A9E38-0178-4D7B-B42A-26203A78BB5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C708A-9F83-4596-BCFA-E359CD590BF1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56024-EDA2-43C1-BE99-42E6EBC0660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86EF1-8B03-45A4-AFA7-8A1345DF0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7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880B-FC48-465E-B0B4-AC138798EA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ptember 27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 (yesterda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ovember 1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7 (after next TAC meeting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D30FF-E187-4441-9920-94EA4A3DDB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VCMRR019 – Verifiable Cost Process Clar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and forward to TAC the 8/2/17 WMS Report and Impact Analysis for VCMRR019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visions to the Load Distribution Factors Methodolog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methodology as submitted, continue to evaluate necessary adjustments and present findings at the March WMS meetin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891C4-5834-432C-9544-3CE5440E0D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High Impact Transmission Elements (HITEs) Li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pprove as submitted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21 – Elimination of the CRR Deration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ndorse with 5/31 ERCOT comments with implementation no earlier than July 1, 2019 (Roll Call – 73.3% For, 26.7% Agains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1 – Real-Time Adjustments to Day-Ahead Make Whole Payments due to Ancillary Services Infeasibility Charg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2 – Study Area Load In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C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C4B8E-4EF3-4E55-B2BC-C3D4205096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 (Contd.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3 – Short-Term System Adequacy and AS Offer Disclosure Reports Addi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4 – Clarification to Outage Re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Q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NPRR845 – Clarification to Outage Re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est PRS to table and refer to RMWG (Unanimou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ir referral to QMW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59ECA-7C4E-458D-B03A-CDDDFE17D1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Other Discussion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136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Yesterday’s WMS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28TH, 2017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8538C-754B-4669-AFC2-A7BA930F8B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7-09-19T14:48:52Z</dcterms:modified>
  <cp:revision>92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