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8D910-1406-4144-92AF-9B92AF2E81A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E4668-58E2-42E0-A1E0-D61C6B191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2EB6A-7E01-4715-80F0-19F72D7C6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4B325-2E32-4AA0-97A6-F5AF42038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18C4F-45D0-4A5C-8824-560DD1DFC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5E200-ECCF-4E6E-BB6A-9AFC083B8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1C4C7-282B-41C7-89A3-7142FEAA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8F6C5-3817-4B05-B628-3A0DBBBC1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4FC3-7946-4916-8441-F5261E41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5CFDA-95CC-447A-BF3E-976CACE3C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FCCC-7070-4492-ABE6-8958B123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50241-418B-49F7-A68C-2DF22A834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E5C2D-256F-4997-9977-15A743DA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75A4-F1EE-4156-A30E-255C4CA6E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0E02-1C47-43DD-872F-AC1B5413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E346-991A-45CF-B713-5E341AFAB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92139-D0E5-4457-BEFC-1C29C71687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13BE9-96EC-4994-9BE6-0DEB58E43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B1DAE-61F4-463B-BA8C-2AE06FD15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ptember 28,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91, Correction of 60-day SCED GRD Disclosure Report [MDWG]</a:t>
            </a:r>
            <a:endParaRPr b="0" lang="en-US" sz="1800" spc="-1" strike="noStrike">
              <a:solidFill>
                <a:srgbClr val="000000"/>
              </a:solidFill>
              <a:latin typeface="Arial"/>
            </a:endParaRPr>
          </a:p>
        </p:txBody>
      </p:sp>
      <p:sp>
        <p:nvSpPr>
          <p:cNvPr id="192"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21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35k; no impacts to ERCOT staffing; impacts to DAIP;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populates unused Megawatt (MW) and price values in Security-Constrained Economic Dispatch (SCED) Generation Resource Data (GRD) Energy Offer Curves with null values rather than zero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20/17, PRS unanimously voted to recommend approval of SCR791 as submitted.  On 9/14/17, PRS unanimously voted to endorse and forward to TAC the 8/11/17 PRS Report and Impact Analysis for SCR791 with a recommended priority of 2018 and rank of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0, Implementation of Infeasible Ancillary Service Protocol Revisi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with Impact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5, Require ERCOT to Issue a DC Tie Curtailment Notice Prior to Curtailing any DC Tie Loa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50k and $20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209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91, Correction of 60-day SCED GRD Disclosure Report</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25k and $35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2100</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5, Revise the Limitation of Load Resources Providing Responsive Reserve (RRS) Servic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7, Create a Panhandle Hub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1, Elimination of the CRR Deration Process for Resource Node to Hub or Load Zone C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7, Disclosure of Protected Information for Research and Coordination Purpose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5, Revise the Limitation of Load Resources Providing Responsive Reserve (RRS) Service</a:t>
            </a:r>
            <a:endParaRPr b="0" lang="en-US" sz="2000" spc="-1" strike="noStrike">
              <a:solidFill>
                <a:srgbClr val="000000"/>
              </a:solidFill>
              <a:latin typeface="Arial"/>
            </a:endParaRPr>
          </a:p>
        </p:txBody>
      </p:sp>
      <p:graphicFrame>
        <p:nvGraphicFramePr>
          <p:cNvPr id="179" name=""/>
          <p:cNvGraphicFramePr/>
          <p:nvPr/>
        </p:nvGraphicFramePr>
        <p:xfrm>
          <a:off x="285840" y="709560"/>
          <a:ext cx="8610480" cy="6075360"/>
        </p:xfrm>
        <a:graphic>
          <a:graphicData uri="http://schemas.openxmlformats.org/drawingml/2006/table">
            <a:tbl>
              <a:tblPr/>
              <a:tblGrid>
                <a:gridCol w="1303200"/>
                <a:gridCol w="7307280"/>
              </a:tblGrid>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rgan Stanle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revises the current limit of 50% to 60%, and specifies that Primary Frequency Response from Resources shall not be less than 1150 M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865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via roll call vote to recommend approval of NPRR815 as amended by the 6/14/17 Sierra Club comments.  There were 12 opposing votes from the Consumer (Occidental), Cooperative (4) (Brazos, LCRA, STEC, GSEC), Independent Generator (Luminant), Investor Owned Utility (IOU) (AEP), and Municipal (5) (Brenham, Burnet, Cuero, Fredericksburg, Lockhart) Market Segments, and three abstentions from the Independent Generator (2) (Exelon, Dynegy) and IOU (CenterPoint) Market Segments.  On 9/14/17, PRS voted via roll call vote to endorse and forward to TAC the 8/11/17 PRS Report as amended by the 9/6/17 ERCOT comments and the revised Impact Analysis for NPRR815 with a recommended priority of 2018 and a rank of 2070.  There were eight opposing votes from the Consumer (Occidental), Cooperative (3) (Pedernales, LCRA, STEC), Independent Generator (3) (Calpine, Dynegy, Luminant), and IOU (Lone Star Transmission) Market Segments, and two abstentions from the Independent Generator (Exelon) and IOU (CenterPoint)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8; Rank 20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70k and $90k; impacts to Market Management Systems (MMS), Data Access &amp; Transparency, External Public, Data and Information Products (DAIP); ERCOT grid operations and practic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2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current 50% limitation on Load Resources providing RRS is over constraining during much of the year.  Changing this constraint will allow additional Resources to provide the service which should result in lower costs.  Analysis of RRS in 2017 assuming the higher 60% limit and using historical Market Clearing Prices for Capacity (MCPCs) estimates a cost savings of roughly $3,000,00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7, Create a Panhandle Hub</a:t>
            </a:r>
            <a:endParaRPr b="0" lang="en-US" sz="2000" spc="-1" strike="noStrike">
              <a:solidFill>
                <a:srgbClr val="000000"/>
              </a:solidFill>
              <a:latin typeface="Arial"/>
            </a:endParaRPr>
          </a:p>
        </p:txBody>
      </p:sp>
      <p:graphicFrame>
        <p:nvGraphicFramePr>
          <p:cNvPr id="182" name=""/>
          <p:cNvGraphicFramePr/>
          <p:nvPr/>
        </p:nvGraphicFramePr>
        <p:xfrm>
          <a:off x="285840" y="709560"/>
          <a:ext cx="8610480" cy="5462640"/>
        </p:xfrm>
        <a:graphic>
          <a:graphicData uri="http://schemas.openxmlformats.org/drawingml/2006/table">
            <a:tbl>
              <a:tblPr/>
              <a:tblGrid>
                <a:gridCol w="1303200"/>
                <a:gridCol w="7307280"/>
              </a:tblGrid>
              <a:tr h="100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is NPRR creates a trading Hub “Panhandle 345 kV Hub (Pan 345)” in the ERCOT panhandle.  The NPRR also excludes this new Hub from the existing ERCOT-wide Hub average and Bus average calculations in Sections 3.5.2.5 and 3.5.2.6.</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917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On 7/20/17, PRS voted to recommend approval of NPRR817 as amended by the 6/8/17 Megawatt Analytics comments.  There was one abstention from the Cooperative (GSEC) Market Segment.  On 9/14/17, PRS voted to endorse and forward to TAC the 8/11/17 PRS Report as revised by PRS and the revised Impact Analysis for NPRR817 with a recommended priority of 2018 and rank of 2080.  There was one opposing vote from the Independent Generator (Luminant) Market Segment and two abstentions from the Independent Generator (Dynegy) and Consumer (Occidental Chemical) Market Segment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Upon system implementation - Priority 2018; Rank 2080</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4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Between $150k and $200k; impacts to MMS, Network Model Management System (NMMS), DAIP, Data Access &amp; Transparency, BI &amp; Data Analytic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461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e ERCOT panhandle region has been added since the creation of the original ERCOT Hubs in 2005.  This Hub addition will allow additional trading liquidity and forward price discovery for the panhandle.  Discussion with ERCOT Staff indicated that future Hub definitions could be created in the cost range of 30% – 40% of the cost of NPRR817 because this NPRR creates a foundation for future Hub definition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1, Elimination of the CRR Deration Process for Resource Node to Hub or Load Zone CRRs</a:t>
            </a:r>
            <a:endParaRPr b="0" lang="en-US" sz="2000" spc="-1" strike="noStrike">
              <a:solidFill>
                <a:srgbClr val="000000"/>
              </a:solidFill>
              <a:latin typeface="Arial"/>
            </a:endParaRPr>
          </a:p>
        </p:txBody>
      </p:sp>
      <p:graphicFrame>
        <p:nvGraphicFramePr>
          <p:cNvPr id="185" name=""/>
          <p:cNvGraphicFramePr/>
          <p:nvPr/>
        </p:nvGraphicFramePr>
        <p:xfrm>
          <a:off x="285840" y="700200"/>
          <a:ext cx="8585280" cy="4860720"/>
        </p:xfrm>
        <a:graphic>
          <a:graphicData uri="http://schemas.openxmlformats.org/drawingml/2006/table">
            <a:tbl>
              <a:tblPr/>
              <a:tblGrid>
                <a:gridCol w="1311120"/>
                <a:gridCol w="727416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is NPRR eliminates the Congestion Revenue Right (CRR) deration process for Resource Node to Hub or Load Zone CRR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10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On 9/14/17, PRS voted via roll call to recommend approval of NPRR821 as amended by the 9/12/17 Joint comments, and to forward to TAC.  There were three opposing votes from the Independent Generator (Exelon), IPM (Tenaska), and Municipal (Denton) Market Segments, and three abstentions from the IPM (3) (Morgan Stanley, CitiGroup, EDF Energy Services) Market Segment.</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Upon system implementation, but no earlier than July 1, 2019</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o be determined</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691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ERCOT stakeholders have raised concerns with the CRR deration process interfering with hedging behavior.  The compromise proposed in this NPRR retains the ex-ante CRR deration process to deter exploitation of gaming opportunities for CRR activity that poses the most risk to Loads and continues the policy of sharing the cost of CRR underfunding that has been well established since Nodal go-live.  This NPRR provides exemption from deration for CRR activity that encompasses the majority of the hedging needs of the Market Participants in ERCOT.</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5, Require ERCOT to Issue a DC Tie Curtailment Notice Prior to Curtailing any DC Tie Load [REMC]</a:t>
            </a:r>
            <a:endParaRPr b="0" lang="en-US" sz="1800" spc="-1" strike="noStrike">
              <a:solidFill>
                <a:srgbClr val="000000"/>
              </a:solidFill>
              <a:latin typeface="Arial"/>
            </a:endParaRPr>
          </a:p>
        </p:txBody>
      </p:sp>
      <p:sp>
        <p:nvSpPr>
          <p:cNvPr id="18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209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50k and $200k; no impacts to ERCOT staffing; impacts to MMS, Data Access &amp; Transparency, DAIP, Integration;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quires ERCOT to issue a Direct Current Tie (DC Tie) Curtailment Notice prior to curtailing DC Tie 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7, PRS voted to recommend approval of NPRR825 as amended by the 7/19/17 Morgan Stanley comments.  There was one abstention from the Consumer (Occidental Chemical) Market Segment.  On 9/14/17, PRS voted to endorse and forward to TAC the 8/11/17 PRS Report as amended by the 8/18/17 REMC comments and the Impact Analysis for NPRR825 with a recommended priority of 2018 and rank of 2090.  There was one abstention from the Independent Generator (Luminant)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40, Implementation of Infeasible Ancillary Service Protocol Revisions [ERCOT]</a:t>
            </a:r>
            <a:endParaRPr b="0" lang="en-US" sz="1800" spc="-1" strike="noStrike">
              <a:solidFill>
                <a:srgbClr val="000000"/>
              </a:solidFill>
              <a:latin typeface="Arial"/>
            </a:endParaRPr>
          </a:p>
        </p:txBody>
      </p:sp>
      <p:sp>
        <p:nvSpPr>
          <p:cNvPr id="190"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782, Settlement of Infeasible Ancillary Services Due to Transmission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synchronizes the implementation of NPRR782 by removing the two hour advance notice period inadvertently left in Protocol language when NPRR782 was approve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7, PRS voted unanimously to recommend approval of NPRR840 as submitted.  On 9/14/17, PRS voted unanimously to endorse and forward to TAC the 8/11/17 PRS Report and Impact Analysis for NPRR8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7-09-18T15:02:17Z</dcterms:modified>
  <cp:revision>372</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