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0" y="0"/>
            <a:ext cx="70272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dt" idx="35"/>
          </p:nvPr>
        </p:nvSpPr>
        <p:spPr>
          <a:xfrm>
            <a:off x="3979800" y="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sldImg"/>
          </p:nvPr>
        </p:nvSpPr>
        <p:spPr>
          <a:xfrm>
            <a:off x="118548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ftr" idx="36"/>
          </p:nvPr>
        </p:nvSpPr>
        <p:spPr>
          <a:xfrm>
            <a:off x="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 type="sldNum" idx="37"/>
          </p:nvPr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FFFBCB-ABA8-4FDE-9510-13FB0F9CE1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5226B1-00B2-4CE4-8932-8C8E67DE88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43A399-4700-41F3-9A02-5044E7560D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F5D9A9-C11F-4631-A9E1-D7CFA0F815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164C64-583F-437B-9E4D-F8F23357F2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18F6FD-0F8F-45A9-B819-92E8710457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3C4221-5743-4769-9622-A62EAA38A9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234A-5165-4FEB-BFB2-2B6530B4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9639-C0A9-428E-B1CF-6CEDA582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25CA88-CFCB-4C72-9066-12EAD699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2153AE-697C-4078-A26E-2F1E80F7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EEDDA8-5ED0-4D9D-BD96-ABCB1064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A5132E-8D86-47C7-B577-FD00A17B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1FDEC9-5AAF-4FFF-A544-1294A888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84FA22-0F3A-4346-9F4A-4ADCD89C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AE8E17-2D73-4604-BF14-81D669BA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C14BBB-1EFA-4EE4-BEDA-DD5F2FC54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EB4A98-B3DA-4739-B894-8457237D5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CB4754-B914-46F8-B58C-7E411AF5C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EC14-583E-40DE-90D3-DE5FE5428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190B16-0747-41A7-B5AD-5D1F3F2C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FD5C41-5567-4923-8476-00998F62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334DFF-2A8D-4C16-A60C-38A83F89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009CAA-B6AF-4906-B83F-BCB4A0EB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AF2D06-F2DB-40DE-BAFD-9465B9F1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911CD4-8822-4FFA-9A4D-01293659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5CE565-6BB9-49C2-9177-09CF34ED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E452EE-94D5-4B01-9B45-CB3DFDF4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C05865-0127-4AF0-8201-472DCDC2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2D1FCD-4282-4C22-9D14-FF48F3E78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A1C4-1ACF-4A76-ABD0-6C918CED5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A2361C-B698-43AD-B0B9-D6006A247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190E-CF4E-492D-B577-6654B3147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54D2-2864-47CD-8A6E-978E4BAC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0CB2-C025-4B40-A728-E759213E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908F-A11B-4DE5-B40A-79EA6ECB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6D09-10D4-4ADC-B510-C370F3B0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ABB2-3F10-49E5-B219-20DB1765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1A66-0E65-41CB-BD4F-C3C31ED1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3874-D5A6-41B5-9DE2-79F72B17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A850-0B4F-4422-BB08-D3FE89F8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B38A-8590-432A-9D20-511D3660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8A19-EA64-4AEE-A0C4-76254D12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DCEA-50D7-438A-BB67-E118A9CD9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AB5C-3B60-4FF7-946E-8015EBBBE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A2BD-FFCE-4223-AB38-3BCC77BE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91B1-830A-4CB4-B54A-F49093DD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49087C-3577-4640-B0CA-133B68CE1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F5B8-AE06-4B0E-AD08-60EC2756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D94904-5783-4AF2-89C7-980F6646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1EAFB0-7BA5-484C-9B4B-B1893BEF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DE689A-572F-446D-A917-1410D595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115711-05E0-4839-ABC3-3E789ED7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30A0EA-6014-4E3B-B0EA-5D6235B8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1CC35C-FBFF-40EC-8149-D8AAEDAC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D1B63B-1641-48FA-A84D-BDA1F134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8AF508-891F-4DDC-AA75-A7D4DA59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349DF1-C12B-436E-9DC5-97BC8CAB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48ADC6-56B5-4687-A9A3-22D8FCCAE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776D-E71A-4D23-9A0C-6BB265A4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83BCA9-5FA9-46A8-9776-BC37F3451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7BC88E-6582-4104-A2A2-0310F2609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6B4EE3-FB27-4C72-84CE-DBC7EC98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7C9678-2B16-47C3-BBA6-E9405677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45BD62-4061-4772-A8E0-ED8D7672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51743D-5A53-4628-8084-C2C61A43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6B89D1-4DD9-4A06-BB21-5C15BA8F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2994B1-3DA8-4B8D-B3A2-BFD52CA7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AA894A-3DF2-46F8-9180-DB17E1B7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9836F4-69F4-400A-A7ED-09194776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E5A9-64F8-4B3D-B424-10A5C7D4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29E8C6-44E3-4A70-8636-EDEA9F18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514315-7BF8-434F-916E-146C9DBCF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202507-4177-45F4-B162-4B00BC7B3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DB058B-FF3D-45FF-8C3E-FB9EC4AA4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44C32D-5F23-42BE-A33B-FAC5E56E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82E612-96B7-40D9-80AD-1380F6BF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DD23B6-1C27-4CC4-9649-91AE1E07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8058B4-F9A4-4484-A45E-29133FAB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B4E06D-576F-4756-B910-01B5D44E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99D3B2-8B87-4375-B52D-DFEDABEA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CEC9-F026-4273-8E97-A26801DD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2AE748-4F10-4DE3-8016-F698DA8B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C50B30-88E1-48AF-A36C-C5289B6B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F89054-8C68-4E05-98CF-F64B5DAB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21000E-CF93-4D88-BFE2-82CC1E7E9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66D0C7-02B0-4611-9855-DA0557DEC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B3ADF2-08F7-4A50-9809-424F6CE24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2A6F29-9605-46E7-84E0-60DE539D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A53D2D-F41E-4098-B80A-94A47437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1E1145-3025-48C6-95DA-C2A1B463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03C353-31CD-454E-A55A-AF66AAF9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7852-DDC4-429E-A151-BE648001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381D89-BF52-4440-B832-4D38E1BD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67955D-AFED-4540-9473-7EF50B44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08BE3F-4E27-4A7A-9403-81D92070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0E4208-B075-42E8-9DA6-5915DE20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6C4042-3348-48AC-BCB0-9477C367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EFECA7-2041-40D5-A90A-72B522854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CBE9FF-0684-4F04-9AE5-A0C18C0F6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05F505-9ED2-437C-A8DB-3F5F5B552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805C89-6BCB-494F-9212-6E024BCC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CEAB84-865E-404E-9D84-AE32E655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855B7E-E5DE-46CC-85DD-2DF829F9523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September 28th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1E621E-262C-4BB3-8E49-B3E70E68BC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BF7E5A-BAA3-4715-AD61-E5EF1B2424AC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SEPTEMBER 28TH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E93BBE-267D-409D-9E71-27461852FD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CBF79F-4739-4136-BB67-B80EED3F3246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ftr" idx="2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EPTEMBER 28TH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F94ED5-A837-4D6E-81F4-948DF5127AB3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2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EPTEMBER 28TH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8A0BB2-F146-48F4-A2BA-098DE7535AD5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EPTEMBER 28TH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AE0B39-0939-4C1F-92F5-E0359B713C51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ftr" idx="3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EPTEMBER 28TH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AD1B51-944B-49A4-A79D-64A85EA54C6F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ftr" idx="3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EPTEMBER 28TH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B618C3-041F-42B4-829B-834CE83BACB8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ftr" idx="32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EPTEMBER 28TH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4B1BB5-1BDD-4FE5-8A7F-63ED647A0590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ftr" idx="3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EPTEMBER 28TH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82807E-BDBE-4D7F-99F6-BA1B348A5AC6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ftr" idx="3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EPTEMBER 28TH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6EFFA3-48EF-43C6-8935-B0F29949A9D2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SEPTEMBER 28TH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993610-1D4B-4771-A399-25911B066C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ftr" idx="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September 28th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F3DDF0-EABC-418D-BC6F-2ED599480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ftr" idx="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September 28th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9E846B-125C-4412-87BF-AFF1BBC878A2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SEPTEMBER 28TH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EB3492-3DE5-49B0-8C2D-D0C25EBC80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2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A9A9C8-4734-4AEE-8A54-FFC1D561BC5B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3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SEPTEMBER 28TH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4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CC85C1-3F60-4CC6-9575-87015F3E8A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5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82F787-D575-4CC1-A731-A310C52327D7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6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SEPTEMBER 28TH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7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6C3810-26E9-4ABE-9846-1B8A3E3041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8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312A93-0A70-46DD-A943-540997015A0D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9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4068"/>
                </a:solidFill>
                <a:latin typeface="Times New Roman"/>
              </a:rPr>
              <a:t>SEPTEMBER 28TH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0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FDE1FF-1EAE-4DE9-8A27-E326A8BADCD8}" type="slidenum">
              <a:rPr b="0" lang="en-US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D1E602-2AA3-4B3F-8800-1EAF397BA369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SEPTEMBER 28TH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B9A14E-305B-4881-932D-B2531701A1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Group 13"/>
          <p:cNvGrpSpPr/>
          <p:nvPr/>
        </p:nvGrpSpPr>
        <p:grpSpPr>
          <a:xfrm>
            <a:off x="787320" y="2804760"/>
            <a:ext cx="7543800" cy="2871720"/>
            <a:chOff x="787320" y="2804760"/>
            <a:chExt cx="7543800" cy="2871720"/>
          </a:xfrm>
        </p:grpSpPr>
        <p:sp>
          <p:nvSpPr>
            <p:cNvPr id="784" name="TextBox 9"/>
            <p:cNvSpPr/>
            <p:nvPr/>
          </p:nvSpPr>
          <p:spPr>
            <a:xfrm>
              <a:off x="787320" y="3082680"/>
              <a:ext cx="7543800" cy="25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holesale Market Subcommittee (WM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eremy Carpe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7 WMS 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hnical Advisory Committee (TAC) Meeting Rep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1584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TEMBER 28TH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F0BDC-4428-4883-8E98-00E4A1D8929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Meeting Schedule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ast WMS mee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ptember 27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, 2017 (yesterday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Next WMS mee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November 1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st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, 2017 (after next TAC meeting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0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TEMBER 28TH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729F84-4626-4D98-BB9A-7CFE0652B4C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TAC Voting Item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VCMRR019 – Verifiable Cost Process Clarification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ndorse and forward to TAC the 8/2/17 WMS Report and Impact Analysis for VCMRR019 (Unanimous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Revisions to the Load Distribution Factors Methodolog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ndorse methodology as submitted, continue to evaluate necessary adjustments and present findings at the March WMS meeting (Unanimous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4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TEMBER 28TH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806745-0BA1-4727-B798-C924490EA07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WMS Voting Item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High Impact Transmission Elements (HITEs) Lis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pprove as submitted (Unanimous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821 – Elimination of the CRR Deration Proces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ndorse with 5/31 ERCOT comments with implementation no earlier than July 1, 2019 (Roll Call – 73.3% For, 26.7% Against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841 – Real-Time Adjustments to Day-Ahead Make Whole Payments due to Ancillary Services Infeasibility Charg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Request PRS to table and refer to QMWG (Unanimous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842 – Study Area Load Inform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Request PRS to table and refer to CMWG (Unanimous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8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TEMBER 28TH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4A71F6-0DAA-41BC-9341-9BC70906B62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WMS Voting Items (Contd.)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843 – Short-Term System Adequacy and AS Offer Disclosure Reports Addition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Request PRS to table and refer to QMWG (Unanimous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844 – Clarification to Outage Repor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Request PRS to table and refer to QMWG (Unanimous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845 – Clarification to Outage Repor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Request PRS to table and refer to RMWG (Unanimous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hair referral to QMW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2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TEMBER 28TH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E2E7C6-EFA5-4014-9666-D0F87F313FC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Other Discussion Item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80136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Yesterday’s WMS Meet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6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TEMBER 28TH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353710-BECD-495D-95ED-812BABE7A28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Carpenter, Jeremy</cp:lastModifiedBy>
  <cp:lastPrinted>2016-09-28T13:51:23Z</cp:lastPrinted>
  <dcterms:modified xsi:type="dcterms:W3CDTF">2017-09-19T14:48:52Z</dcterms:modified>
  <cp:revision>923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4C4FFC4A894504CB30DBFB7150C9A36</vt:lpwstr>
  </property>
  <property fmtid="{D5CDD505-2E9C-101B-9397-08002B2CF9AE}" pid="3" name="Information Classification">
    <vt:lpwstr/>
  </property>
  <property fmtid="{D5CDD505-2E9C-101B-9397-08002B2CF9AE}" pid="4" name="Vault">
    <vt:lpwstr>0</vt:lpwstr>
  </property>
</Properties>
</file>