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4AF-B660-4349-B1E6-2E6AA9F7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8F9-E2FB-412F-B389-6B59F8B6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F1EAF-394D-4F26-863E-43060F79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389F0-A74C-406F-90A0-8D8FEF0D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D8CCD-9E20-4CE2-A18D-C09A5D14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D6B40-A395-4DB7-9479-0F7B0EDD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E5BC8-CD1F-4293-8BDA-80E4AA9A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B4AF7-6304-49C0-B9EC-B8D4E6E0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17E93-DE30-4A1F-9F90-03C2E223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2F73C-0E16-4736-A703-8C705E7E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2B70A-E2F3-4EB8-882D-EDB847A7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AC6D7-A002-4890-878F-6264BF3A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EEB-0232-42EB-BD22-BB7E03AF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CDABC-EDFB-4328-B474-9C965991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49593-F8D0-423D-982C-690C110E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A3F6D-56A9-43E3-974B-D3184C4E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98CD8-E298-4A7E-94C8-0FF5D9A7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8801D-4E50-47E3-B767-61B019F0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7F44E-7BFB-4774-A80E-3D0D77E8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C4A3A-65B9-43DC-8D59-9F8A7A93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A7091-812D-451C-A682-DBC6B581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2B991-D699-4462-9988-BBB439BA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ACAE1-8D1C-4A57-9626-D170E4EF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A25-8348-4F95-9928-D3775961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B7A22-E9EA-4AB4-992A-BBFF24E7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FD80A-FD42-45E8-9267-D4D34B6A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9D749-A446-4681-B771-F2064D59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A34DA-4F0A-4857-9547-EBE21A44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841F4-BFA5-4029-990B-5115C41E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96D19-878F-46BB-A707-212C9C75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E5BA9-FED1-4BA2-BC8E-EE80DADD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48B2D-DFF0-41F4-BFAB-009640FC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C302E-4E4B-4C81-9EEB-025F0B3D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A679E-4628-4808-AE3E-95AC7E0D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6F22-3FE5-42B0-A162-A71BFF9A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EB891-297C-4983-976E-A5F31AD5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B72DA-2A2D-4731-82FC-F59F5C97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123D2-AB74-4431-B4C2-3B4BA817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492EB-2EB9-4A76-9A5D-782A18A2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CBE15-5E8A-4FCD-9767-8A69E981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19482-9C86-465A-BF32-AB6782AA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1ED49-C1BE-463E-A8AA-BCE1B4F6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6D1A4-B9E4-4633-8BB0-1D58F798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0A818-4953-44D4-AB5B-95A9167A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E2C74-096A-43C9-9A0D-43C83C35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4C2F-3E58-4C62-A4A9-7B97F11B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5F6B9-85F4-4BA7-B30C-E79FC1F4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2D322-B39E-4727-8BB5-410F0496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88ACF-9F0B-43E6-BDAA-15FECFE4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596E0-04CB-4C59-9BA2-9AA048D1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81C62-B117-49D5-B58E-9CAEC592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9E77-3C14-4C78-861B-C33DCCF5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9790-090B-4AB2-B202-0A25FA08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C358-87D2-4D67-A658-1FA870AA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CA0C-32D6-4CFC-94F5-E4BD765D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BF99-4A01-4412-89CB-109037B1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BC7-8E3B-4209-8C34-D3A167CE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18EF-B689-427B-9CC7-661ED300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0B2E-A178-4A6C-A8F1-188A86EF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937D-0EC4-4DFD-86E8-BA2FCE17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A6DE-4531-4EB0-89B2-B87E2167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2CA4-7D9A-4D83-A435-E70A07ED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C15A9-90FB-4E2B-92E4-6D3EE5E1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0E90-54BC-4D7F-B9C3-FE9B24F6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5C660-34C5-415B-A8F3-1BD52828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DC37-3713-475B-BFBA-9921EC72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D147B-8AB4-4280-AC08-E535E2B4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A88-7385-4679-B856-30E4DE74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AFB80-57D8-415E-8123-45FEB528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33400-2194-4BB5-A5F4-2A5A7E05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BF1C1-8A4E-4065-B664-8F415108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0D8D9-00F1-436F-9AB5-787C2579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75E10-6117-4929-8B69-A2513110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FAF59-5CC0-4BF3-B6ED-CB28E149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0F508-AD73-4C1E-8F24-0CE138B0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3C081-5D82-4EF4-822F-75F37664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8D0FD-206D-4151-A455-838090A8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A4131-45F9-482D-B544-5A51C8BC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C30-2F5A-442C-AB16-31332C00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57F58-62D8-414B-86A9-F9678DB5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3C8EC-7882-476B-B8AE-139EA8A7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3C90B-715F-4A50-A196-A70452B5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EFF79-69F9-4BAB-A481-9D412152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F4776-2BB8-4288-AD4C-309D71E5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2DD90-806C-4298-85DF-79981F79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A39F1-C4AD-43CB-A74A-2135A284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C4D25-9CE9-4B1A-BAEC-58657545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0E910-3F74-4629-9827-1B1B00B6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13A09-EC59-49C4-A7F7-1DFB2AFB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D49-0552-4460-B5A0-F767B19D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00974-DC58-49DB-B257-0DE76117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6696A-5EDB-4DE9-85AB-92EF424A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B8912-138D-4482-965D-648E7ABA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C3D34-8D92-4B57-8977-FF3B9E5F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49973-0FD3-4FDF-BF3A-0E4E404D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236D9-AF3A-43E6-99B6-E0372C7A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FFC85-91D1-471C-8A11-1CE8C3BB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2ADCB-9F88-4355-85E3-69000D6E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71B48-BB50-4DFE-B6D7-B0BF9924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0B7AA-613F-4986-9EE3-5C61D26E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CA7-3F69-425B-9180-3B3DBF0D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25FE2-F700-4D54-A5AA-D4B302CF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7FDDE-168A-4CCA-9E76-3C3415FF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307AF-B9BD-4E0D-B905-50D69966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6E116-E7AB-4FDC-8770-C33CA1B5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F33FA-045C-4D9C-8BA6-3B9EA814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D7766-13E3-4E0D-882C-F7D5EF5E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63035-A636-4612-9841-C28576A1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544EC-111E-417C-BB97-BE9F5C2C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07411-0FA0-4665-832A-83B31503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BBBFB-C1FA-4669-B2FD-B351231E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A436-2DA0-4CF9-A269-DF002129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7A6FB-038E-4C0E-850A-FF47624B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8F8B7-AA05-42A8-8459-2E1FC016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E7972-3E12-4A7E-8137-0D5DB8C0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BD7F3-1CD6-4D9D-8A29-45959E84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4D58E-F8D9-4D64-8361-94476445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5BFF9-4BD5-49D3-8FE8-D4B3EAF0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768F9-D84F-4521-8F8D-0361BCB8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8B72F-A918-4035-8510-0503A12C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28BC4-547D-4BBA-B6A4-42008961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30297-3F90-412C-80D8-7F3C88EE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608-4399-4E9C-A79A-93B78870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15315-4099-44E4-B9B0-ED37A8CE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78B64-702C-4C9D-AF7F-31E416A6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AA21C-B4D8-4513-B562-854D3670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1EC38-8000-49AF-A085-E1F8995F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11FF7-DB3E-4A65-94F7-6932FEC1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9FE92-8B42-4D41-B777-1764A3CA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BEEAD-9FA5-4EF1-9E84-2FE8AC4E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73E3F-BC64-4913-B870-CF85B974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E903B-1B4D-45B3-913D-46857480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791C3-28FE-4471-AF9C-09740A39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00F-DA56-4C39-BFE5-CC78DB3F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52961-43E7-4A97-B597-2C6342A5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192C0-DE6D-477F-BB9A-3C3C4006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F83C1-94A0-4A0B-B8C2-6D27AC83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3A948-D7BC-497B-9F56-649A3352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8ED98-9D3C-429E-842B-8871F92D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17A3E-B8A6-40B7-B415-C2CDE493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129F6-CF29-4022-A3B8-3D522A60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60D81-BCDB-4A02-B9FF-F5A339F4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521BC-8D2B-459B-8A57-ED90CCA9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F721C-4428-43F5-BF42-73C487B7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C9FB-DD3A-4CDF-8AC0-E771584AF1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01832184-522E-4EA9-BF2B-85DB418F3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E741-1615-4FC8-B501-EEE90B8547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10E4-3A25-4FCF-B5B9-CCDA6C7FD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2F9C-9D45-45A6-BE2E-49D19AC643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74D0-4503-4564-AA6F-055C09042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E446-31AE-422F-B07A-BEA646DCC0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B2C7-4A0B-4112-96D6-CEA7CBD8D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6F84-77EA-4D76-B864-20DCBEB88E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00F2-0DA0-406C-80A4-55C90302A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327B-A5FB-4B4A-B873-968C74F3AB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FB75-C906-44C0-B777-07C3D5C25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5BE1-44BA-4BEF-BA53-FE09B901D8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F42D-AA19-4E96-9E2A-814D335D5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2F6A-BAA4-4C6C-BEC9-E3E4DA5601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B91B-02BC-4EF6-9790-689EC8778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DB72-BC4E-4D9F-98F3-8B3B569C8C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4588-34C1-423A-A43D-04F1FBEF6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3347-D35A-4A3E-BE9D-0AE59AF907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DEC0-C71F-42C1-A86E-AC005FA6E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6250-C4EF-4E18-88E1-9BBC82B5FF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FF7F-8033-4C82-80A1-E34498784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A4C4-3A03-448E-9CFB-C67EC26DC1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29E9-20C2-40ED-B302-28139CEAC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lanning Geomagnetic Disturbance Task Force (PGDTF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Update to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eptember 7,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ylan Pre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GDTF Vice-Chai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D3CF-A405-49A7-B0F4-2FAAFC9EE44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7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7 PGDTF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1 PGRR Appro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GDTF Contact Li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50"/>
                </a:solidFill>
                <a:latin typeface="Calibri"/>
              </a:rPr>
              <a:t>GIC Model Completion &amp; Revie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50"/>
                </a:solidFill>
                <a:latin typeface="Calibri"/>
              </a:rPr>
              <a:t>Assessment/Model Building Timeline Recommend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50"/>
                </a:solidFill>
                <a:latin typeface="Calibri"/>
              </a:rPr>
              <a:t>Vulnerability Assessment Scope/Criteria Recommend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50"/>
                </a:solidFill>
                <a:latin typeface="Calibri"/>
              </a:rPr>
              <a:t>Procedure Manual Upd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rrective Action Plan development and “approval” process recommend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"/>
          <p:cNvSpPr/>
          <p:nvPr/>
        </p:nvSpPr>
        <p:spPr>
          <a:xfrm>
            <a:off x="5257800" y="60199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Arial"/>
                <a:ea typeface="Arial"/>
              </a:rPr>
              <a:t>***Current Active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7/2017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D447-7DAC-4ABE-A855-D8268AABB2B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864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 of the PGDTF – Aug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82400" y="1066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 on August 2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RC TPL-007-1 R3 Criteria Discussion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NERC enforceable 1/01/202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205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 Steady State Voltage Performance during the benchmark GMD eve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205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posed criteria paper presented and discus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205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COT to develop draft languag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target 10/1) 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ture PGR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C System Model Procedure Manual Upd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C Data Pro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Vulnerability Assessment Scope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C model work session on August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celed due to incomplete RARF submi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C294-2E11-4DA6-AD77-18075094F08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7/2017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PGDTF Me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Content Placeholder 5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54800" cy="4522680"/>
          </a:xfrm>
          <a:prstGeom prst="rect">
            <a:avLst/>
          </a:prstGeom>
          <a:ln w="0">
            <a:noFill/>
          </a:ln>
        </p:spPr>
      </p:pic>
      <p:sp>
        <p:nvSpPr>
          <p:cNvPr id="50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9C21-BD6E-4601-A731-59EBFD445F6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12/31/2016 – TSP Data for 345 kV System Based on 2021 Summer Peak Case Released on 10/15/2016 Provided to ERCOT. </a:t>
            </a:r>
            <a:r>
              <a:rPr b="1" i="1" lang="en-US" sz="2000" spc="-1" strike="noStrike">
                <a:solidFill>
                  <a:srgbClr val="7f7f7f"/>
                </a:solidFill>
                <a:latin typeface="Calibri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3/31/2017 – TSP Data for 138 kV and 69 kV Systems and Update to 345 kV System Data Based on 2021 Summer Peak Case Released on 10/15/2016 Due to ERCOT. </a:t>
            </a:r>
            <a:r>
              <a:rPr b="1" i="1" lang="en-US" sz="2000" spc="-1" strike="noStrike">
                <a:solidFill>
                  <a:srgbClr val="7f7f7f"/>
                </a:solidFill>
                <a:latin typeface="Calibri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6/30/2017 – REs’ Updated RARF with GIC System Model Data Due to ERCOT. </a:t>
            </a:r>
            <a:r>
              <a:rPr b="1" lang="en-US" sz="2000" spc="-1" strike="noStrike">
                <a:solidFill>
                  <a:srgbClr val="7f7f7f"/>
                </a:solidFill>
                <a:latin typeface="Calibri"/>
              </a:rPr>
              <a:t>Incompl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11/1/2017 – ERCOT Provides First Pass of GIC System Model for Review to TSPs and REs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Delayed due to insufficient data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/1/2017 – TSPs and REs Provide GIC Model Changes/Updates to ERCOT.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Delayed due to insufficient data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1/2018 – Complete 2021 Summer Peak and 2021 Minimum GIC System Models Using July 2017 SSWG 2021 Summer Peak and 2021 Minimum Base Cases. 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NERC Enforceable from 7/1/2018 (R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1D0A-5F9C-44FB-A867-5F5292CAC86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pdated Schedule for GIC System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/7/2017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  <p:sp>
        <p:nvSpPr>
          <p:cNvPr id="5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BAD4-8058-4B77-B061-2838B9273F5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dpreas</cp:lastModifiedBy>
  <cp:lastPrinted>2017-08-31T14:11:43Z</cp:lastPrinted>
  <dcterms:modified xsi:type="dcterms:W3CDTF">2017-09-05T15:43:28Z</dcterms:modified>
  <cp:revision>253</cp:revision>
  <dc:subject/>
  <dc:title>PGDTF Update to ROS</dc:title>
</cp:coreProperties>
</file>