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973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6FC-7639-438F-AB4C-551C25EC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1CB-D718-4C76-BF54-5F8AFB88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0425-2DF2-4A08-88ED-433C5F2A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8BB-2578-41C7-B4A7-04123C65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315-59F0-4C9C-B18B-F7AF6210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9943-61B0-446B-B80F-3BFD8091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D3C-7B8C-4B38-86B3-09322D7D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2A0-3172-448E-A4EA-4C295D96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16D-C3F1-4D81-90A2-D70A3F73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549-233D-4CF7-84B6-FA4DC726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DEA-35C7-4D29-883C-E88E4F03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CCEE-8C11-426B-AF7C-F69B94CD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EFD2-8145-4B8C-9280-E5B63B6C1F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6CA2-C747-4F9B-AC2E-AD5BCD041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34308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Resource Cost Working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September 6, 20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WMS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44FF-46C5-42ED-AB0A-64BFB3299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80" y="9360"/>
            <a:ext cx="89074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ng-Term Solution to Coal Index Pri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7840" y="1434600"/>
            <a:ext cx="8001000" cy="49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CMRR014 provided an interim solu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1.10 fuel adder for coal and lignite resources that is added to the $1.50 Solid Fuel Pr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nsets 6/1/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ft NPRR for Coal Fuel Index 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IP”  Coal Fuel Index Price: “Delivered to ERCOT” index price based on PRB 8800 coal plus rail transpor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0/MMBtu fuel adder for coal and ligni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 Energy and Make-Whole caps from $18/MWh to 10.5*CF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liminary Cost Impact of $275k to $375k, but ERCOT is investigating options to reduce the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C252-26EA-49FC-9C3C-F845AE8EF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31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RR838 Updated O&amp;M Cost for RMR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ed using the budgeted O&amp;M per the RMR contract instead of the 10 year average normally used to establish O&amp;M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acts RMR Make-whole Payment and Real-Time Mitig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Gas Units Fuel Ad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gan discussions on the appropriateness of having a Fuel Adder applied to the Fuel Oil Price in verifiable cost calc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51DC-9336-4312-B63F-9872CAAE3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84240" y="9360"/>
            <a:ext cx="89074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ther RCWG I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5:06Z</dcterms:created>
  <dc:creator>john</dc:creator>
  <dc:description/>
  <dc:language>en-US</dc:language>
  <cp:lastModifiedBy>Vinson, Paul T.</cp:lastModifiedBy>
  <cp:lastPrinted>2017-07-28T15:29:48Z</cp:lastPrinted>
  <dcterms:modified xsi:type="dcterms:W3CDTF">2017-08-29T15:03:38Z</dcterms:modified>
  <cp:revision>412</cp:revision>
  <dc:subject/>
  <dc:title>PowerPoint Presentation</dc:title>
</cp:coreProperties>
</file>