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11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ftr" idx="12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 type="sldNum" idx="13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6D51-7D6C-4586-80B1-D3B280FA1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6457-84A9-4C15-8FFA-2D2909F71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B5A6-AB21-4305-9602-B504972BB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2BC7-9857-4C37-967F-CD678268B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E93C-A2F1-4872-8C2A-5B2D658EE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4AF5-84F3-42DA-8623-BBFC0770E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2BD1-CA75-41F9-913D-30432F76B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081C-4D65-445D-A884-BB9BD9FDD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D368-98C1-4D84-92C7-86C8B95D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4357-5936-4551-9DA6-4AD96314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CD89-69D6-4BA3-BA7F-8BEB5619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775D-FE4A-45DE-A07B-4A9EEDCB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6605-DC30-4E62-B6B8-7028109B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FBAF-D370-4E4E-BB11-C51CD6C5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AF78-6FAC-4B82-8A14-96C2BB1E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198D-9957-415A-A3B3-68E2A4A9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6D4C-08FB-4273-9755-CBD8D214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9F94-99C9-4E49-BA46-569701C8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CB10-EDF0-42DE-9E9D-F2769DA5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EFAB5-FA6F-4FB8-A55D-BD29CA26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F3F5-A05A-455C-AA4F-5547E7F2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F487-A815-445E-AFC3-F05FF06A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833A-BC78-4500-B75A-BBA53A0D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570F-B5EB-4FA1-9765-17D5A6A4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A2B1-0DFA-4A29-A47B-C70BC0FD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1144-2503-4C9E-8A46-65E30425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5EBF-8B1B-4824-98E4-A7F98897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FAB3-5DA4-42A4-BAC7-813E8A00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D3844-2997-4725-92FB-3540150E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22116-5681-4F8B-B1F5-137DE350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1A9B-6775-431B-B51D-FCA38107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5585-ECA3-42AB-B841-AE1B6E99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F267-8A76-4589-9396-EC785936D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0E99-C6A1-49B3-92BB-E53BF50A6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1132F-B3BE-4C90-A999-4D4E20319DF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878E8-AFC3-46B8-AA3F-818F6E0B19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C59D8-B00B-40DF-A827-04666D4AC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ercial Operations Subcommittee 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(COPS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to TA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ichelle Trena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8/24/20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COP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6676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S Information Se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d August 9, 201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ERCOT Repor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66760" y="685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Report – July 2017 provided by Dave Paglia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Data Transparency IT systems met all SLA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idents &amp;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/06/17 – The 20:00 posting of the Hourly Balancing Authority Operations Report was mi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/13/17 – Missed 5-minute postings of the following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intervals of State Estimator Real-Time Transmission Line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interval of Wind Power Production - Actual 5-Minute Averaged Values by Geographical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COPS Discussion Topic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6676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C and TAC Subcommittee Structural and Procedural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o reserve meeting room at ERCOT at the beginning of the year and cancel meeting rooms as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o meet via WebEx every other month to the extent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l meetings when agenda is too light to justify a Web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COPS Discussion Topic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6676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C and TAC Subcommittee Structural and Procedural Review 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 and Settlements Working Group (CS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342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meetings to every other month unless directed by COPS to review or provide feedback on NPRRs/Other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ling Working Group (P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342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lling meetings when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Data Working Group (MD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342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ing to bimonthly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342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istserv more extens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342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 via WebEx only, unless Face-to-Face i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COPS Discussion Topic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6676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ily Reads/Settlements for BUSIDRRQ 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statement development assigned to the CS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SWG meets August 28, 2017 at 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PRR807, Day-Ahead Market Price 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d at P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/QMWG reviewing and expect to submit new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S/CSWG will track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COPS Discussion Topic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6676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PRR819, Resettlement Clean-Ups (2% Resettlement Rule Chang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d at P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S filed Comments 7/20/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d at WMS on 8/2/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llow ERCOT to evaluate the dollar impact of a QSE level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llow ERCOT to evaluate adding language to make sure regular meter read corrections don’t fall under the new thresholds, causing a lot of resett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S/CSWG will track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COPS Working Group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66760" y="6854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SW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king updates to the Nodal Settlement Handbo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DW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niel Spence resigned as Vice Chair; Opening nominations at next mee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tinue to work on ERCOT Data Strategy and MIS Changes Visibil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racking digital certificate downloading develop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PI Quick Start Gui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d on 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W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orking on Annual Valid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3048120" y="3200400"/>
            <a:ext cx="2895480" cy="26877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533520" y="685440"/>
            <a:ext cx="80769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next COPS Me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s scheduled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eptember 13, 201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Trenary, Michelle</cp:lastModifiedBy>
  <cp:lastPrinted>2016-10-21T15:37:14Z</cp:lastPrinted>
  <dcterms:modified xsi:type="dcterms:W3CDTF">2017-08-21T16:18:34Z</dcterms:modified>
  <cp:revision>1921</cp:revision>
  <dc:subject/>
  <dc:title>Instructions</dc:title>
</cp:coreProperties>
</file>