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EE77B-6B6B-4E93-8E54-0EADE9CD304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647EC-6D76-4BC8-BCBA-FA328CCE8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073FD-01DB-472B-8948-8CDD5D9DA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B8673-C8E9-4021-B35E-10E66F5B7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2646-365D-4FBE-84DD-0F1D5104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B969F-A344-4A44-94C2-20FAD48CF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6A8CE-6A82-41A3-8D81-78154C38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EBF70-AC1E-4813-90F2-CB8DB987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7538F-8C0D-435E-81F2-A571F583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5AE0C-6793-4A47-9383-E02057F9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0C70-9566-46B1-894D-547CD215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111C-987A-4DEB-8A69-CB549F40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7A44-9252-49DC-9370-2728ED90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E939-2E7A-41E3-B3A9-42E1A4C4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159A-3A1B-4559-A565-E53601A44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6C793-53E3-4E82-B4C2-7C58F49F25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90FF4-C304-40A7-AF7E-3EBFE0E2D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2A0D1-9FA0-4B59-8119-FEEECB4F0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4,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pproved 2017 Resource Definition Task Force (RTF) Leadership</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Chair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avid Ricketts (Vistra Energ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Jay Teixeira (ERCO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9, Incorporate Real-Time Non-Modeled Telemetered Net Generation by Load Zone into the Estimate of RTL</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6, Incorporation of Other Binding Document Forms into Protocol Section 23*</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9, Incorporate Real-Time Non-Modeled Telemetered Net Generation by Load Zone into the Estimate of RTL</a:t>
            </a:r>
            <a:endParaRPr b="0" lang="en-US" sz="2000" spc="-1" strike="noStrike">
              <a:solidFill>
                <a:srgbClr val="000000"/>
              </a:solidFill>
              <a:latin typeface="Arial"/>
            </a:endParaRPr>
          </a:p>
        </p:txBody>
      </p:sp>
      <p:graphicFrame>
        <p:nvGraphicFramePr>
          <p:cNvPr id="177" name=""/>
          <p:cNvGraphicFramePr/>
          <p:nvPr/>
        </p:nvGraphicFramePr>
        <p:xfrm>
          <a:off x="285840" y="709560"/>
          <a:ext cx="8610480" cy="5800680"/>
        </p:xfrm>
        <a:graphic>
          <a:graphicData uri="http://schemas.openxmlformats.org/drawingml/2006/table">
            <a:tbl>
              <a:tblPr/>
              <a:tblGrid>
                <a:gridCol w="1303200"/>
                <a:gridCol w="7307280"/>
              </a:tblGrid>
              <a:tr h="1158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nchanted Rock)</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a mechanism for a QSE with non-modeled generation to inform ERCOT in a timely manner the net generation to the ERCOT grid from their Non-Modeled Generators so that the output can be considered in the estimate of RTL.  Absent this NPRR, output from Non-Modeled Generators is not included in estimating the QSE’s RTL, and the QSE is required to post a superfluous amount of collater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to recommend approval of NPRR829 as amended by the 7/14/17 ERCOT comments and as revised by PRS.  There was one abstention from the Consumer (Occidental) Market Segment.  On 8/11/17, PRS voted to endorse and forward to TAC the 7/20/17 PRS Report as amended by the 8/9/17 ERCOT comments and the Impact Analysis for NPRR829 with a recommended priority of 2019 and rank of 2510.  There was one opposing vote from the Municipal (CPS Energy) Market Segment and one abstention from the Municipal (DME)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9; Rank 251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2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20k and $160k; impacts to CMM, NMMS, EMS, Integration, DAIP, Data Access &amp; Transparency;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01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urrently it is difficult for non-modeled generation to hedge in the DAM due to potential superfluous collateral calls during high priced RTM events. Using telemetered data from non-modeled generation will allow ERCOT to more accurately calculate QSE collateral requirements. This NPPR will increase DAM liquidity due to increased participation of non-modeled generation in the DAM.  Implementing this NPRR has the potential to allow ERCOT to gain near Real-Time transparency into non-modeled generation which could increase their ability in analyzing Real-Time system conditions. Furthermore, ERCOT will better understand the true position of the QSE by Operating Day and will also better understand their cash flo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36, Incorporation of Other Binding Document Forms into Protocol Section 23</a:t>
            </a:r>
            <a:endParaRPr b="0" lang="en-US" sz="2000" spc="-1" strike="noStrike">
              <a:solidFill>
                <a:srgbClr val="000000"/>
              </a:solidFill>
              <a:latin typeface="Arial"/>
            </a:endParaRPr>
          </a:p>
        </p:txBody>
      </p:sp>
      <p:graphicFrame>
        <p:nvGraphicFramePr>
          <p:cNvPr id="180" name=""/>
          <p:cNvGraphicFramePr/>
          <p:nvPr/>
        </p:nvGraphicFramePr>
        <p:xfrm>
          <a:off x="285840" y="700200"/>
          <a:ext cx="8585280" cy="4541760"/>
        </p:xfrm>
        <a:graphic>
          <a:graphicData uri="http://schemas.openxmlformats.org/drawingml/2006/table">
            <a:tbl>
              <a:tblPr/>
              <a:tblGrid>
                <a:gridCol w="1245960"/>
                <a:gridCol w="733932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incorporates the following Other Binding Documents into the Protocols as a new Section 23, Forms, and allows changes to these Section 23 forms to be made using the Administrative NPRR proces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to recommend approval of NPRR836 as submitted.  There was one opposing vote from the Independent Power Marketer (IPM) (Morgan Stanley) Market Segment.  On 8/11/17, PRS voted to endorse and forward to TAC the 7/20/17 PRS Report and Impact Analysis for NPRR836.  There was one abstention from the IPM (Morgan Stanley)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 1, 2017</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increases market transparency into form revisions while maintaining the flexibility of the Administrative NPRR process to implement changes without the complete stakeholder process when the market does not deem such review necessary.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UFLS Workshops</cp:lastModifiedBy>
  <cp:lastPrinted>2013-01-30T23:16:36Z</cp:lastPrinted>
  <dcterms:modified xsi:type="dcterms:W3CDTF">2017-08-15T15:53:29Z</dcterms:modified>
  <cp:revision>36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