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697AB-9C7B-480F-948C-B673E0859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115EB-B4FF-4706-A3CD-CE591AB90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C971D-4B55-4DA8-9187-454F0B834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C591F-BB74-4AB3-84A0-8DADEF5EF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45D7A-042F-4DF8-B6C9-B772C7090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073-02F3-4C20-94E8-29BECAD3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A5C-C26A-45C6-B477-D2CE971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6819B-E569-470A-8904-F6C68F0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B1EEE-F185-4E42-B325-60817E57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17056-329D-476D-B0CB-270D759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7CD87-0383-425D-B590-F44F72D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42447-1238-4DAF-B164-BFCF8BF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CD2C1-29E3-4A83-B8BA-F86C005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4371B-870E-4994-9273-11802CD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1A8B0-6EEF-4410-BA05-867AD1BE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DCB79-0189-4316-B5F0-F67BC47C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9EA17-0B34-47F9-8922-2F4F6B31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3DC-C3C7-4E8C-A268-AC78D465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65708-8C74-4DE6-8DAB-0192BB68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51DB8-74A5-4C0A-AD77-78C4D06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7EF8B8-DC31-4CA8-9C1E-596385F8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807DC-CD64-4792-A7DA-08E6D08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93EE6-9B41-45E3-9BBD-0CACCCD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68BD5-E6AF-40D5-A57C-F578AF8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B4F70-0623-4A26-8660-59EF290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AE430-CCD7-43F2-8D49-447A129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988F2-FB8B-447B-86D4-F1F82D17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C6A8C-9514-46DF-ABDD-57560608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52E-1760-453E-A129-7038CE14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BCC88-A657-4E0F-874E-EF59D457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9CC-35B6-441E-9B20-E3C9F22A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3F8-A14E-4D17-BAC5-8E42E11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4A98-2DB9-4EB9-B3DE-7BD07520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ECA6-96FF-4878-A3D1-DF121A3D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F694-14FB-426C-9281-2F211EF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6CDD-F38C-4612-A7FD-0DC0A736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4E96-50FB-48EA-885D-ECF460D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4F9-D03C-4357-BC51-35DBE57E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BD1-64C6-4DCC-BC7F-2DC06F6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A090-4D91-4C6F-99ED-3648C67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5646-DDCF-47CD-A46C-DAE42DB0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C4D-331B-4E11-BEA9-6DAAD82B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F47-A5E5-4375-B40D-76CAF34E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3DA-DB17-4D1F-AD6D-2FF208D5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50E-0F2F-4F08-89F6-BB5E78A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EAFDC-5066-4BAF-A740-A1F5DC16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51F-C0F4-4FE4-BBE1-E5497C2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6DA31-9067-4862-8E03-C836908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6EFE5-AB80-45C3-837C-9E7355D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C9653-8A50-4234-AF5F-ADC6D07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A4F47-2C27-48C9-BD6E-25999A25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C28A5-D1CA-430C-B7C3-8FF7927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A62A2-5E04-45C0-82D0-88EF8122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1C853-81D4-44D4-BE1D-C2DBAFA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EAF47-1909-49B3-A79D-0D05D6F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B2AFD-0488-4EC3-9C1F-42C66C8D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9E49A-87A6-4FF7-A01F-0CA1821D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55C-9FD2-4AB5-9C2A-2ACD08B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DD059-A0F7-485B-B101-1CB94B10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6F9E2-B76E-4114-B0FD-4C611BA5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9CD32-4CD4-4938-8C5F-4DFBE92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2E23B-28A9-481C-8180-4A63E706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B824-DD8A-4797-8711-1A60F45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EF9C5-8397-4D1E-B42B-4E0913F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D12FD-46B2-4636-9891-2322F9FC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3D53A-797C-4823-B064-9ED0848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07709-6847-4557-B695-6F0AFE1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ACE8E-EE97-4FD5-970E-26CA8B3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23B-7794-4BE6-AEC5-042DE61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58274-3F62-419B-8811-403AABA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ABD37-30E6-4675-AF22-9D82F456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3B7DF-70DC-4BE0-976C-9165EB58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9D3FE-7F13-4D70-960E-BE5C24A3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7BAB6-49CF-4496-8286-FB589CA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29A3E-A8A0-49A0-BA45-52F9D3B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AD209-E78C-486A-B56A-76D4510C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1739D-5E3F-496E-A253-8F14105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A586F-A3DC-48EF-93BF-0C61533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C9815-2E2A-4DEC-9747-41A3EA3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EF2-DDD5-4E75-8A81-C5CC491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2CDE1-DA23-44BB-A9DF-82E69B0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31BA0-6596-45CA-923B-4F340F2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467FD-2A9F-4407-810A-614714A7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0C0EF-65A1-4064-B005-045416FE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FF7D7-51FD-4AD4-8410-0D8779B0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5A781-833C-4A4E-9498-0846D2A5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4C9AC-C513-418C-9C9E-CD2723A3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27158-5B8A-4EE7-9A0F-40DBC8D0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0E7D0-C506-4FB2-92D0-F4DEFE8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940AD-BE71-473B-9BBA-F99F14B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628-4253-4AC5-AF22-32D9F04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97D1D-383E-42FF-AEAF-ECF9BB78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5D8B0-A59F-4E11-A589-2A8BAEA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EAD31-6098-499A-AB5D-0BBA66D5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D66F5-8CC3-4553-9A67-8B9F021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EA6EF-A423-4818-87C2-4D0B0471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FD511-C7AF-4631-BC76-18C84BBB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216BD-1C2F-4497-BC33-BFBF3F77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81336-1DE8-4CB6-8C60-F02C2BB8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8B5F1-36FA-4722-8191-894BFCF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8EA4C-2604-40DF-B21F-C1962DF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39F6D-4604-46D9-A7E6-FC0821C916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EFAFC-C3DA-408F-9BF0-8B686AB9F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64C67-7531-4E81-A1C2-EB8B3BA9D28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C768F-3B21-47C1-B025-06122357DA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4E2D-AD12-468B-A865-2F8B87F9F50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1F832-6EFA-413F-91A3-92335C456D3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5B0DE-1E8C-42D7-9915-088C10C7118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9EA94-FF43-425C-909E-5626B0E3B67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AF3A2-6F3C-4B3D-9A0A-C7CE4D73BF3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C43CA-309C-44B2-A7E6-D839D15DC34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95CB1-FCB0-4DE1-B05D-3560C554F10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C4E24-CBB0-4C98-ABF0-1E07A5C932F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7FA8C-B22A-4F4A-A9BF-D599399EEE0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3F87A-FB48-47BD-B82D-852B7307A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FBF6F-A8CF-4A8C-88E5-BD7BD476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4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FD065-C65B-48D0-9520-A5026C99161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21453-9786-4917-89AA-D45464A9C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D0982-504D-4801-90B3-5E9941B1B0E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133D9-55DD-49B9-9864-91DC6353F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A9972-01AB-4253-ACD1-C088BFC25B6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22633-4FCE-4E34-94A0-3EB32F7C7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95797-3585-4BE8-AA81-418CC91A177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4305B-7AF2-4F9E-8E81-5A192C41BF8E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94735-E36E-4BA1-B829-C7A817401B1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EC079-E69F-4FC4-AEDF-5DDE0893BF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75CC6-DE94-48BE-9CF9-762D344F81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gust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BFE85-1C81-405D-A759-C654D53879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34 – Clarifications for Repossessions of CRRs by ERCO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35 – Removing the Capacity Limits from Resources Providing Fast Responding Regulation Service (FRR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37 – Regional Planning Group (RPG) Process Refor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C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38 – Updated O&amp;M Cost for RMR Resour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RC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25 – Require ERCOT to Declare and Emergency Condition Prior to Curtailing any DC Tie Loa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with 7/19/17 Morgan Stanley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CMRR019 – Verifiable Cost Process Clar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1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CF1D8-6F88-48CF-9747-288129B983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768 – No A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re studies on 2000MW swing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arve out for Southern Cross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nly apply to HVDC ties less than XXXMW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21 – Refer to QMWG and C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outhern Cross Projec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to recommend Working Group items at next WMS and RO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rst Southern Cross presentation/meeting after next RO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4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316E2-E640-40EC-A1BF-31B4A3DB6D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8-23T14:58:08Z</dcterms:modified>
  <cp:revision>91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