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4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310760" y="692280"/>
            <a:ext cx="432756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5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6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4D1-1457-41C3-8DD4-E0ADAB552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021C-B0B1-4EE0-B544-93701E0C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1FF5-DF0C-4A22-8173-51AA34701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B4EA-1CAF-45A5-A5D8-9E830086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E0E5-F272-4390-AE5D-3A221B1B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3802-0BFF-4A17-A39A-91BD3BBC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15BF-2C66-4BEC-B947-BA36ABF9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0F1E-482C-4130-BF4D-7B6EC19E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657B-E86C-46ED-8DBC-344858A4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D46D-0CBB-45CB-8B25-1D2422CA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5199A-1DAE-4A93-961C-3BB68023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1E9CA-A6B6-4CAB-93F3-1BFD6AC5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8DD06-E0DC-40AF-8111-978D1836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4F14D-EF46-4A60-94CB-F2773DA7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19304-0B49-4B50-A232-26DFAE2F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FB6D-ACA0-43B2-9D40-9B994B86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288B5-711D-49CB-8922-CD18AF5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8F504-3065-49E4-A094-BBCFA0F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3ABD4-E429-433C-8FD4-51E766B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59859-AE4C-4FEF-87B1-EBD53C4F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4077C-9F4A-423B-BAF3-4A486569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15020-CA6B-436B-85F7-AE2A50CE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EA576-712E-4AB4-BB0A-3C377F39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92ED7-4E47-41D9-A32F-628F072A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27395-46AC-46A5-9D3C-7A2829B2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7FA94-9867-4B54-AE5E-DCA335D2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7B69-BB74-4528-95AC-B8D77D7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4C7F2-C952-43E5-842B-E8235174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983DD-9633-4C7B-98B1-5E0B605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A40BF-1A9C-4B92-BF10-9D535DB1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FB59A-5229-4DE8-B6A3-ED271D8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AA3C6-FC4F-4C61-A1E1-F50D3801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AD67C-EBAE-4C79-A0F8-AF5F6CB1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5A37A-F81A-40DC-9C09-1FDA014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A287A-FDF5-4DC5-8478-3A70A273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39615-3CF3-4752-A213-08FEA8E9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C9EE-5623-4828-A24F-BE435EE0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2259-3A62-45D8-B5F5-366C10D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6213-9F3D-4548-8C4F-E233C88F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5941-DB71-4819-AC6A-88DEA29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2CC2-2108-44EE-BA51-47EB7715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2F8C-7BD4-4084-A905-2DCE21A9A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2E56-6068-4F3D-B746-A57AAF8E1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A692-76DE-4EDF-B1D4-E91BEF00D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9394-1BCA-484F-A254-968F55617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B464-FBF7-41F6-A58B-37823162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July 27, 2017</a:t>
            </a:r>
            <a:br>
              <a:rPr sz="3200"/>
            </a:br>
            <a:r>
              <a:rPr b="0" lang="en-US" sz="4400" spc="-1" strike="noStrike">
                <a:solidFill>
                  <a:srgbClr val="1e4649"/>
                </a:solidFill>
                <a:latin typeface="Arial Black"/>
              </a:rPr>
              <a:t>TAC</a:t>
            </a:r>
            <a:br>
              <a:rPr sz="32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Update to COPS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ugust 9, 20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A94E-1CF1-4D1F-BEA9-44E2CF77B2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6880" y="1218960"/>
            <a:ext cx="83822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gital Certificate Download Process, Leo Ang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performed a process review for the Market Participant Identity Management (MPIM)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to Digital Certificate Download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soft has phased out Active-X with the release of Microsoft 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meet future requirements, ERCOT will shift away from Active-X for all Digital Certificate 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gital Certificates will be downloaded as a file, instead of being installed directly into the brow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will be required to secure the file when downloaded. A password will be set during the download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new process will be the same for new Digital Certificates as well as Digital Certificate renew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Reports (Cont.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BE4-CABA-433B-B9C3-DE5C2383D5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26880" y="12189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gital Certificate Download Process (Cont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e ERCOT’s plan to TAC for Market awareness (07/27/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e to all Subcommitt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Market conference calls to communicate the impact of changes and answer questions (October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s will be communicated via Market No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will occur in the Market Operations Test Environment (MOTE) (11/06/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 change will occur with ERCOT’s R6 Release (12/05/17 – 12/07/1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TAC / TAC Subcommittee Structural and Procedural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BAA-6B7D-4F22-A65B-953929B825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6880" y="12189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viewed alignment of TAC Goals and Approved Revision Requests with the Strategic Pla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viewed TAC Subcommittee Structur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ittee Strategic Al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/Efficiency of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Groups/Task Fo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viewed Open Action Items at TAC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esults of the review will be presented at the August 2017 TAC Meet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C:\Users\iv3i\AppData\Local\Microsoft\Windows\Temporary Internet Files\Content.IE5\AAWN31BQ\question-mark[1].png"/>
          <p:cNvPicPr/>
          <p:nvPr/>
        </p:nvPicPr>
        <p:blipFill>
          <a:blip r:embed="rId1"/>
          <a:stretch/>
        </p:blipFill>
        <p:spPr>
          <a:xfrm>
            <a:off x="1828800" y="1987560"/>
            <a:ext cx="5486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Board of Directors Update</a:t>
            </a:r>
            <a:br>
              <a:rPr sz="4900"/>
            </a:b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D977-65E0-4362-BA8E-CC21EAE231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vision Requests Approved by the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June 13, 2017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56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Subsynchronous Resonance, Effective Date: Upon system implementation, Priority 2017, Rank 199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796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Extended Character Set Clean Up, Effective Date: July 1, 2017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20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Clarification of Aggregate Generation Resource (AGR) Definition, Effective Date: July 1, 2017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24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Alignment of EEA Level 3 with NERC Reliability Standards EOP-011-1 and BAL-001-2, Effective Date: July 1, 2017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27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Disallow PTP Obligation Bid Award where Clearing Price exceeds Bid Price by $0.25/MW per hour, URGENT, Effective Date: Upon system implementa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ard of Directors Update (Cont.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BACB-2FB7-447C-9AEF-B299229831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vision Requests Approved by the Board (Cont.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30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Revision of 4-Coincident Peak Methodology, URGENT, June 14, 2017, Priority 2017, Rank 201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31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Inclusion of Private Use Networks in Load Zone Price Calculations, URGENT, Effective Date: Upon system implementation, Priority 2017, Rank 1568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PGRR056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Alignment with NPRR562, Subsynchronous Resonance, Effective Date: Upon system implementation of NPRR562, Subsynchronous Resonan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PGRR057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Responsibilities for Performing Geomagnetic Disturbance (GMD) Vulnerability Assessments, Effective Date: Upon system implementation, Priority 2017, Rank 150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PGRR058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Clarification of Resources to be Included in the Planning Models, Effective Date: July 1, 2017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PRS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181A-5725-467D-AFAD-ED4819C5D6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PRR76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visions to Real-Time On-Line Reliability Deployment Price Adder Categories, Effective Date: Upon system implementation, Priority 2017, Rank 205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abled at TAC for one month and referred to W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PRR82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limination of the CRR Deration Process, Effective Date: Upon system implementation but no earlier than July 1, 2019, Priority 2019, Rank 25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abled at T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PRR82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esignate Resource Node Procedure an Other Binding Document and Adjust the Process for Retiring Resource Nodes, Effective Date: September 1, 2017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pprov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d Other Binding Document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PRS Update (Cont.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552A-45D8-401D-A388-201896A250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PRR83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dify PTP Obligation Bid Clearing Change, URGENT, Effective Date: Upon system implementation, Priority 2017, Rank 1945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pprov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A: Between $325k and $425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CR79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Enhance Communications of BAAL Exceedances, Effective Date: Upon system Implementa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y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2017, Rank 2060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pprov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A: Between $40k and $6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eal of NOGRR149, Revision to Definition of Transmission Operator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eviously Tabled until the August TAC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76092"/>
                </a:solidFill>
                <a:latin typeface="Calibri"/>
              </a:rPr>
              <a:t>ROS Upd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1A2E-E4CB-4474-93B3-21314379AD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2200" y="12193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RGRR01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-Build Clarification for RRGRRs 006, 007 and 009, Effective Date: July 28, 2017 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GRR1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ignment with NPRR824, Alignment of EEA Level 3 with NERC Reliability Standard EOP-011-1 and BAL-001-2, Effective Date: Upon system implementation of NPRR824, Alignment of EEA Level 3 with NERC Reliability Standards EOP-011-01 and BAL-001-02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orking Grou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WG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Impact Transmission Element 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E)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Frequency Load Shedding (UFLS) Workshop -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eting held on 6/28/2017; Next meeting scheduled for 8/17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thern Cross Project - ERCOT will set up a joint ROS/WMS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COPS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1842-EB38-470E-AB17-405C1CFDD6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1258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PGRR06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ssignment of BUSOGFLT Profile Type, Effective Date: August 1, 2017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ies the requirements for requesting a Profile change to the Business Oil &amp; Gas Flat (BUSOGFLT) Profile Type by specifying only the current Competitive Retailer (CR) or Record may request an BUSOGFLT Profile ass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SIDRRQ Meter Data, Estimated Data vs Actual Data for Initial Sett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C agreed that COPS should do further analysis, develop a problem statement, and report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1800" y="302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COPS Update (Cont.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E832-5757-40D3-B098-0E53C6024E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0880" y="1218960"/>
            <a:ext cx="838224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ad Data by Meter Type for June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33520" y="1828800"/>
          <a:ext cx="7924680" cy="3714840"/>
        </p:xfrm>
        <a:graphic>
          <a:graphicData uri="http://schemas.openxmlformats.org/drawingml/2006/table">
            <a:tbl>
              <a:tblPr/>
              <a:tblGrid>
                <a:gridCol w="1066680"/>
                <a:gridCol w="1222200"/>
                <a:gridCol w="1400400"/>
                <a:gridCol w="1388880"/>
                <a:gridCol w="1446480"/>
                <a:gridCol w="1400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hs of Load by Mete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Load by Meter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Actual Meter Data Used in Initial Sett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 of Estimated Load Used in Initial Sett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,50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,3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78,89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495,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8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39,97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_I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70,8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27,0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049,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1800" y="302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WMS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AD71-7EB1-4065-84E4-B4E31BFD53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0880" y="1218960"/>
            <a:ext cx="8382240" cy="57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ent WMS Voting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768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Revisions to Real-Time On-Line Reliability Deployment Price Adder Categories Endor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17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Create a Panhandle Hub Endor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21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Elimination of the CRR Deration Process Endor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26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Mitigated Offer Caps for RMR Resources Endor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29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Incorporate Real-Time Non-Modeled Net Generation by Load Zone into Estimate of RTL Endor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83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Modify PTP Obligation Bid Clearing Change Endors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uthern Cros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MS to discuss appropriate WG involvement next mont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MS/ROS joint meeting planning in progres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Trenary, Michelle</cp:lastModifiedBy>
  <cp:lastPrinted>2016-08-08T13:52:23Z</cp:lastPrinted>
  <dcterms:modified xsi:type="dcterms:W3CDTF">2017-08-07T15:10:37Z</dcterms:modified>
  <cp:revision>1257</cp:revision>
  <dc:subject/>
  <dc:title>Instructions</dc:title>
</cp:coreProperties>
</file>