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87A-5694-4C28-A335-76CDEED6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AC4-7F7F-4570-8B38-88F8D900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C12F5-BBCE-4C7A-827F-F1307DB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28B4A-7B1F-4BC1-A2A3-050BEBB4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AF4C-30B6-46A8-AAD1-643F5EE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3D4A-1133-4772-AD04-5D89866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AB17F-6150-46D4-A99D-5357C6D9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1A616-DAEB-431B-83A2-04E2FBB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ECE86-0C39-48C6-9E37-8ADE5CE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7DFBD-C35D-4678-AE13-53673D89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59A3E-BDF7-41D2-99A6-7477FE02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C54A-140C-4984-BBCC-082FD8E2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19C-92D3-4783-ACC1-35F416A7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6478C-CE49-4422-8C34-6B205DE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F1290-A4A4-4924-ADF2-473DEE1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4FEA4-AEC2-42C8-B7B1-1B12AC0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50F5-03C7-4B95-AECA-418F60FE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6E5E1-7A0F-415F-8131-1410089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39C20-F212-4515-A628-748D0FB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6C4B0-EE06-4BA0-8A63-48626E3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95BF-CC9B-4BF9-93BE-0744228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09F6F-18B4-4B8C-A9D9-2472F62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6DD22-FFEA-4B27-A885-56E72384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68A-A296-42A8-B6F1-3034BB20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483A5-3C62-4159-97FC-37E4D2D7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FA248-69A2-4DEF-93F4-E43732A3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E8DF-1FE8-4168-A918-45A11C3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12929-B932-496F-B647-E4AA265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A4BF4-BC90-4D22-A6E7-E4BE7806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96DF-D242-4A09-9B67-394C5AF1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0CD92-4EE5-474C-A088-D63F1A40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84C65-44D3-47F0-8703-78FC774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AECD-80F5-4C02-B111-6BF2990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9C1F-740B-4FF8-92C0-FB08CB5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D71-E12E-4311-98AC-F46E0F9A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B3A29-91B8-455D-8E3E-B80C1D3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A372A-9B06-4732-BDF8-BE40AE2B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C83B-B7C6-4E0D-9255-130CA9C2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F1C4E-48DC-46BA-9CDF-BB633D5A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D0FCA-553E-4824-9A22-F43DF22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88B9C-CEF1-47BF-9D45-8996EC8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01614-5E69-49AB-A041-8DB49DE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3D8E4-5C68-4E52-B715-37F372A2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FFDBF-321A-4F76-BAC5-F5636D2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CD575-38A0-4AF1-8CF6-AEAF04D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6DE-6990-4E83-8BA8-53548F21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3B12B-1904-409E-8199-3F6A747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B26F6-C2E0-4AFB-9CF9-7157229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78826-1240-4E8E-A7E8-25BB62C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A101E-4077-45C6-9F28-DF0B46D9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525A7-FFDB-461D-993B-4693D16C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C7E-6434-465D-B760-B51B27F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452-1F11-4ECB-9E9C-328E1B0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CD0B-FA71-4A15-973D-6E359C4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3F5-46D0-4D18-B5DF-7AB3E3E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4B7-6601-49A0-9C5A-C18362B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62D-0129-4512-9C2F-5C19BD1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D8AA-4082-4047-BB6C-4054AFE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C27-11BB-4E07-A8ED-6129A01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E5CA-2A3D-494F-8581-CEE7961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563-3810-41B1-841D-8ABA50C4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3E20-0DE8-4D61-8727-9A4A398D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4D09-30FC-4BD7-B171-97C0673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2EEE-8ED7-4CBE-A603-E0B7DA83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9C36-590E-4864-A35A-7B23A4BB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FA25-F812-4C85-9879-49BA66FB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A51D-E289-489F-8ACA-E191B0C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061-9AC9-4387-8EE6-D79E643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C478-EE5E-43E2-B957-5EEFE48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8EE2-EADA-4D23-B573-1799B86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699D-0ECE-47F1-A30A-398E21E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76D5-DCA3-4BC4-850F-F96DE5C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D2A1-910D-4F8C-88D3-39A633B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765E-8DBE-4240-B8CC-1AB25436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B751-AD67-4BC7-9C18-E506DE86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ACBE-EDF9-4029-A415-7D2027D9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C477-492C-487C-A751-32AE1E98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EC41-B985-4DE8-A86E-C9EF61D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1C8-FDE8-48D8-A2E4-7A77697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4D4B-8006-47FB-BEA8-FCD87F67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5786-0358-486B-9280-80303AE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E3A2-F8E4-4DFA-9C7F-A4A51DE7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50C5-347E-4633-8331-D08621D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0404-0BB5-4CEB-971E-8B2C8677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A096-FBF8-4C0E-B835-F6E7DE0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01BE-E44B-49DB-8876-4555D18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FC3A-03A3-48B5-9209-BBE54F96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297F-3157-4B24-8607-F1399ADE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07E8-41F5-428C-9CD0-EF8F3680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B26-DBDC-4022-94D3-68D5835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454C-1A03-48F6-93C1-85346F4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2F92-9B09-4058-B654-8385B3AF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166D-B3F6-4438-A91D-90A39DCF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C7D6-E120-4484-AEB8-5D0DC1F3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EA5C-38B9-4CBC-9213-8DBE85F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7CA5-640C-4CAC-8FE2-6B921C5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B8F2-C149-4A11-AD5B-A6F60AB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06BB-451C-43F5-8C5C-0C20E70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2F3A-DF80-432B-B24C-7DCAB6BC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9AB0-A248-4010-ABE9-9F325BD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315-95B5-47FA-BB0A-3CA2D411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C10B-CA62-4ECF-8588-3631D62D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8489-D10F-4B14-8E3E-351E2F73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71CF-EC44-4DEB-B090-119D7D1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AE93-B093-40FE-B685-9FDBCCFE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D69B-53C8-4B3D-805F-9CAC3617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BF3E-D1F1-4E0D-ABD8-977355E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6869-DB2B-4165-894A-4B1AE0FB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C9A1-DC55-47E1-B8B1-B17395C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AB9A-DDC0-42D0-A027-C6AF8D8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BB6E-656E-47CB-9D09-7F9E853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B2B-AB40-4955-A5B5-D323806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3B19-E83E-41F0-A15E-A7BAC09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F30C-C120-4925-A843-B39B37B6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1F6A-7B2C-4F23-83E4-9B10BC3B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DE89-C5AB-4D6F-B0B0-33838C8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62F2-A230-4449-9475-AA6E175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74B1-32EB-4D4F-BDD2-E563E98F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4F8C-DB16-4CD7-A2C7-C9ED714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8103E-17CB-4646-80A5-C34C34A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09910-91C1-4CB9-A0E7-EC9833B4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AC411-B0B7-4871-B32C-659E074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F40-E7F7-4390-AB79-B14F7F5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283FA-60E1-4AC7-B500-6BA3750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FF6D-D5B5-4278-A1B5-7C419F4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FF55-499A-4B02-85D3-92053EC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9954-23B4-417C-8545-721BA998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EC1E5-7771-46ED-99D3-C4204109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9C5EB-A5DC-43EC-AE1D-036B424A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05A6A-EDEF-44E8-8C77-3BE51C93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0AEF-A031-49BC-A3EC-800FD8A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B1E58-04D9-42AA-9CE5-435DE69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27EED-503B-4F22-AFF8-82CC16F7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A35-0B19-4F42-9800-A0027E8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C010-F81D-4103-89C6-A6649BE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B1B5-68DC-4BB8-B04C-6F948282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22EC-D13C-4FAA-97EE-C87213C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B1A81-905D-4346-A165-FB68E1E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CC8C-C83C-4467-AE33-ED41E3A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C39A-2D63-49DE-AD31-28E6A717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56A4-7C0C-4378-9146-8C5B9291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D006D-26B5-4318-92C0-E052A0C8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19B40-76A9-4B94-9DD0-42DF2F25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D375C-8DDC-4A43-9753-AB47447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23F-37D3-4A77-BCEB-DEFA6CC58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0A6600A3-6A0B-49BD-BC46-29258BEE5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BC87-F497-4EC4-9A7D-BE0D3AAEF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B1C-68DA-4327-B8BB-9B9A715C2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9ED-383C-4CFA-B97F-EE9FFBF23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DAD3-9A82-4B26-926F-8CC79C0E5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5970-9A6A-4556-A3C3-CB4885C22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F5B-7142-43D1-B640-631F667D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2B2-64F9-46F6-9357-BA72379585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DE4A-35C8-4179-8B65-1A2E032BC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4F7A-59BB-4B14-90F3-97BD995B0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380-22D2-4859-933D-0C22087CC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E2E-A87F-47A4-A391-9BD30A964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3B7-2712-4CAF-AAD5-6925A2C5A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213-9E34-4D9F-8031-62053F7A2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614-5058-4A70-8EC0-B3A3167F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A16D-E3A4-4D7C-88EC-00BE0AB1A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32F5-5711-40D0-8C3A-6DAEB2BDA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E14A-A399-4993-AC38-E130EC9DE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A06A-9CFA-4E53-8334-D62F456B9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31AF-43AD-48BD-8FAC-503F1D327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645-6549-41E3-AF79-F8C087EDD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23C4-8205-4F6A-AFF2-6F7CA1028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E50-7BBC-4A3A-BBCB-82918A107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ugust 3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mar Urquid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D67-3CD6-4B11-ACB7-6F058B06D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 PGDT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1 PGRR 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GDTF Contact Li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GIC Model Completion &amp; Re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Assessment/Model Building Timeline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Vulnerability Assessment Scope/Criteria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Procedure Manual Up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ctive Action Plan development and “approval” process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5257800" y="6019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***Current Active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3737-B3CC-46AB-82C3-37A86CD7C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– June/Ju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Board approved 057PGRR – Addresses TPL-007-1 R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June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July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 RARF Submission FAQs discussed and upda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pdated GIC System Model Building Schedu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lanned In-person GIC System Model reviews set for August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&amp; September 28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TSP/RE interface reconciliation strateg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lnerability Assessment Scope/Criteria (TPL-007-1 R3/R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raft outlines for both the scope and criteria have been presented and discuss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ational and State Activities Related to GM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PL-007-2 Comment Period/Ballot open until August 1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will meet next on August 2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1AE6-5D8C-42A7-AC19-A1806F501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12/31/2016 – TSP Data for 345 kV System Based on 2021 Summer Peak Case Released on 10/15/2016 Provided to ERCOT. </a:t>
            </a:r>
            <a:r>
              <a:rPr b="1" i="1" lang="en-US" sz="2000" spc="-1" strike="noStrike">
                <a:solidFill>
                  <a:srgbClr val="7f7f7f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3/31/2017 – TSP Data for 138 kV and 69 kV Systems and Update to 345 kV System Data Based on 2021 Summer Peak Case Released on 10/15/2016 Due to ERCOT. </a:t>
            </a:r>
            <a:r>
              <a:rPr b="1" i="1" lang="en-US" sz="2000" spc="-1" strike="noStrike">
                <a:solidFill>
                  <a:srgbClr val="7f7f7f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6/30/2017 – REs’ Updated RARF with GIC System Model Data Due to ERCOT. </a:t>
            </a:r>
            <a:r>
              <a:rPr b="1" lang="en-US" sz="2000" spc="-1" strike="noStrike">
                <a:solidFill>
                  <a:srgbClr val="7f7f7f"/>
                </a:solidFill>
                <a:latin typeface="Calibri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1/1/2017 – ERCOT Provides First Pass of GIC System Model for Review to TSPs and R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 due to insufficient da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/1/2017 – TSPs and REs Provide GIC Model Changes/Updates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 due to insufficient da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NERC Enforceable from 7/1/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CF3-E146-4E79-8416-EBC807129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d Schedule for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L-007-2 - Major Rev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TPL-007-2 Comment Period/Ballot open until August 11t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 of a Supplemental GMD Ev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5 times stronger event, local area impact only, no Corrective Action Plan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dlines added for implementation of Corrective Action Plan (CAP) for benchmark GMD ev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year for development of C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years for implementing operating procedure mit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years for implementing hardware mit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date procedure allowed in Requirement 7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 of an access requirement for GIC &amp; magnetometer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 11 requires a process to obtain GIC data from at least one moni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 12 requires a process to obtain geomagnetic field data for Planning Coordinator’s planning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2F6C-33DA-4B95-92CF-EA16408EF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AB87-74DC-4038-B9EB-690348CDB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3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Urquidez, Omar A</cp:lastModifiedBy>
  <dcterms:modified xsi:type="dcterms:W3CDTF">2017-07-31T14:30:24Z</dcterms:modified>
  <cp:revision>243</cp:revision>
  <dc:subject/>
  <dc:title>PGDTF Update to ROS</dc:title>
</cp:coreProperties>
</file>