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973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949200" y="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407600" y="1153800"/>
            <a:ext cx="4157640" cy="311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77248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94920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481-B36B-4744-B7B3-E6D547768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407960" y="115416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6960" y="4444560"/>
            <a:ext cx="5580000" cy="36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49560" y="8772480"/>
            <a:ext cx="3022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108-92E9-4E64-A4A8-85E7ACA66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A5D-C38C-4998-8B38-9B86F014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B82-FAE2-48D7-B1EC-2830D481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8FB-30DD-4965-A473-CE5FE4F9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F05-FC70-45FE-BDC2-6DAAAFB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326-E51F-43B1-A65C-91EDA536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37B-1358-472B-84BC-2A360280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D83-56A1-467D-BF5E-F06370F3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C91-62B0-4D6F-AC71-ABD57B2F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5F9-0E06-4442-9B2C-A70AD363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309-2A7D-4B61-B22E-5298125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8D0-60BE-4E4E-B69B-5DF4510D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9AD-3DE0-45B1-9663-F0354AA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87DA-56C6-4172-8A49-C384B470D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320-C490-4381-BC9D-0ED757B3E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August 2, 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A4C-04E5-4C76-859B-D330F9022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2590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ng-Term Solution to Coal Index Pr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D52-91B8-4552-B6F2-0D4B44E4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80" y="9360"/>
            <a:ext cx="8907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7840" y="1631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reviewed revised 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400 coal plus rail transpor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ing using 8800 Btu/lb coal index instead of 8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0/MMBtu fuel adder for coal and lign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 Energy and Make-Whole caps from $18/MWh to 10.5*C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BC89-CB12-46F4-9935-3460A7637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liminary Cost Impact of $275k to $375k, but simplifications may reduce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ain existing Coal and Lignite generic price formats for Minimum Energy and Make-Whole caps but possibly update values monthly or quarterly instead of utilizing a daily C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to review additional information and continue discussion at next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ability of coal index prices over monthly and quarterly peri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to provide historical changes to C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BB8-7B30-49AE-A487-9D0BABAA4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- continu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2590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al Fuel Costs Included in the Mitigated Offer Cap (MO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FD31-66F8-49A9-9B89-ED3C46F59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160" y="-4680"/>
            <a:ext cx="86868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ptional Fuel Cost Included in the Mitigated Offer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certain days in February and March 2014 (Polar Vortex), some Resources were mitigated in real-time to below their actual cost due to large differences between FIP and their actual gas price (i.e. Wah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664 implemented a manual Real-Time Make-Whole Payment process for exceptional fuel events that expired May 1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so provided for a resource-specific Fuel Index Price (FIPR) of Houston Ship Channel, Waha or weighted-average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714 extended the manual process for Make-Whole with a sunset dat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/1/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9A4-0424-4926-828F-A63BD73223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ptional Fuel Cost Included in the Mitigated Offer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ckground (continued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 assignment to investigate alternatives to NPRR6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fer exceptional fuel costs in LMPs to avoid make-whole and uplift, but also concerned with incorrect LM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CWG/WMS have discussed several options without reaching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1: Continue with existing Real-Time Make-Whole Pay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2: Pursue “Exceptional Fuel Cost flag” concep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tion 3: Increase MOC Capacity Factor Multipliers during Cold Weather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has proposed a new revised 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924-FF21-4E8A-96B7-947CC3A88B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80" y="-5040"/>
            <a:ext cx="89362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ptional Fuel Cost Included in the Mitigated Offer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632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 of draft NPR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ring an exceptional fuel event, a QSE can submit a weighted average fuel price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F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ERC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FP must exceed FIP + Fuel Adder + $2, and applicable to at least 10% of the total fuel burned in the applicable Operating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FP can only be submitted during the adjustment period for each Operating Hour (i.e. 1 hour at a ti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ould use the WAFP in the MOC calculation in place of FIP &amp; F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the event, QSE must provide documentation of the WAFP to ERCOT for validation, including attestation by an offi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to provide sufficient, timely and supportable documentation may result in limiting ability to submit exceptional fuel cost for up to 12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to continue discussion at the next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DB8-2124-40EB-B9F9-E2660339D0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47840" y="626112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pplicable only to intraday or same-day gas purch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MS Open Action Items for RC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6C2-004A-4416-8D8E-38B915DD1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3080" y="1270080"/>
          <a:ext cx="8458200" cy="4235400"/>
        </p:xfrm>
        <a:graphic>
          <a:graphicData uri="http://schemas.openxmlformats.org/drawingml/2006/table">
            <a:tbl>
              <a:tblPr/>
              <a:tblGrid>
                <a:gridCol w="3047760"/>
                <a:gridCol w="1143000"/>
                <a:gridCol w="4267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moval of PPA applied in Verifiable Cost from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existing PPA language until NPRR664 is final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 Assignment: Alternative to NPRR664 Fuel Index Price for Resource Definition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ing Projects-NPRR664, Index Fue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ing draft NP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l Index – Long Term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ing draft NP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Issue: Contract length – “significant investment”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 draft NPRR based on WMS guidance. On-hold pending PUCT RMR rulem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-assigned to QMW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chable Generation Resource DSWG White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t DSWG/RCWG 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9" name="TextBox 1"/>
          <p:cNvSpPr/>
          <p:nvPr/>
        </p:nvSpPr>
        <p:spPr>
          <a:xfrm>
            <a:off x="457200" y="5956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xt RCWG Meeting – Wednesday August 23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7-07-28T15:29:48Z</cp:lastPrinted>
  <dcterms:modified xsi:type="dcterms:W3CDTF">2017-07-31T13:29:02Z</dcterms:modified>
  <cp:revision>405</cp:revision>
  <dc:subject/>
  <dc:title>PowerPoint Presentation</dc:title>
</cp:coreProperties>
</file>