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5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6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7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7EFE-BAB0-4DC1-A203-33C60FB56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D2F3-CD48-48C0-95D5-289DB6D5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F610-7005-42C7-83ED-1B7070278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D308-B014-4C12-BD44-FC6DA7943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2D3F-F07B-4158-990A-A1CCEBC9F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E5C6-E19B-44FF-8DD4-36F87FD3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CFA8-F7DC-40A3-B107-1E184677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1936-039D-414A-AA2A-D84D14F14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640B-36C1-419E-A88A-657BD3CFC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CB10-F562-48F8-A650-A9BD55E1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91D-0A88-4A02-A976-0E44F22E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F38F-8266-493A-8579-D2B78EFE2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8ACC-87EB-460E-BA4A-DAE784C39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7443-3DA7-4F86-A412-5F66DDFEE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8CD4-CCB3-4EFA-8901-4018EE664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ADDB-DB15-4916-A50B-EF62AEC8D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F105-7DA4-411F-BAEF-8DF3E2D16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17B1-8CE6-439B-9E69-4EA6F570E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D43E-A1C1-4D81-B708-49CD8EE05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CD05-AF7C-4510-A6D4-446BF7ADE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F31F-2C5A-4C0E-891C-C3FA08B9B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6F40-ABC2-4DEB-B6CE-7FCB8540F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487E-5280-4CF1-9829-A17807BF1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A0F3-5D58-4B72-9ABF-64CD69191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D5FC-87E0-4502-B571-35F591BC7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F1BF-CB4A-4B74-A2D5-27A65B191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9B5C-8FE4-4655-9832-668B2488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1701-FCF1-4FF0-9371-250E8DAA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A8B9-3B45-467A-B9AD-F3A10EF8D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83C6-EE48-474B-891A-AA638B48C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33CB-8D3C-4CBB-A62E-40868209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FA3A-EAC0-4C74-AC81-610EAA59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D7281-EF95-47CD-A069-CD83C116D7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A134A-879B-470C-B49F-D9961937FB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07CD8-5DC9-402F-B373-99C56C09C04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C55DC-0AAE-42A5-ABE6-14049C4CAC4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BAF08-4D69-406B-9254-B906A5C8FA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DA7B2-BF7E-4904-958C-73D0E35844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6C5F5-8C96-4580-BF74-BED698C30F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21269-5FEF-4661-B16C-F41D8000B61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F6706-7257-43CB-A29D-9AB8F59E0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62A6-D0D3-47D6-B0B5-C1B9AF2F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BBAC-A707-4E4E-8D31-D503278A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4F8D-10AD-456D-8313-573CC87A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9B53-7F5C-4ABF-83A0-679C9717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3262-67AA-4D59-8E98-114271D9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3F67-1ACC-4692-B0DC-8A9BF4F9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FA7E-B4EC-45AE-A6D6-582D49A6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31DA-F194-454C-9D13-A5F12BC8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19C6-9D49-43A2-96CE-4233F004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0CA4-5508-433F-A375-651E9622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5A5B-47C6-4D1B-BEE0-D910CF7A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61C8-1EE6-4E6A-B224-8219BB89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F1D6-A383-45DA-853D-05844093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8360-BB50-470E-9825-62F274B2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5E07-5B15-4942-AE45-6D9C077D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11A2-CC85-4E27-A7E7-08ADDF1E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CC6C-C2C7-445C-8346-D05B816D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9EA43-EBF1-479F-A3DA-163255161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9B88-8102-4BBF-A391-36EC9429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D471E-00F4-4C27-84C6-D8A9E0D789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50057-0A5B-4396-8254-A74EC598836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8673B-7C2E-4714-95E3-E82B4971C9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867EB-A1F7-4866-8D4A-D6FC8A02240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CA0ED-15B3-4E3C-BFC3-8727E89D872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419AD-784F-4AED-BD97-7F10329F38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1D1D4-4B04-4EFE-8B0E-B32A727151D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B0958-D60A-4816-97A5-FEEFFC8E78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CFD0B-03DA-4E3B-BC1A-BEC644DC76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D096E-2F19-489B-B1E4-634015C02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CB2B-A0AD-4DCF-BBCD-2A6BD663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244BF-BD07-4BF4-B2EC-3DFD64CD26B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6057-51EE-402B-9A0D-233724C2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7195-7356-4743-8DD6-6A26A6D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2234-9607-433F-8687-E3A7281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B5320-1EBD-45F8-97CB-09E4F3DE233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0D20B-80F9-4C05-BF4D-A5B3174AA9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B476B-1DDF-40B4-B0C0-23FFE9679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F997-9648-4467-8D24-44FF865E3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FA6B-21AC-4BD6-8886-9A0912356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B0E1D-F7A8-4256-9C4C-CBF14D17CFC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C6712-8EC0-49F8-8096-52E40F7ED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ftr" idx="7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ooter text go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8"/>
          </p:nvPr>
        </p:nvSpPr>
        <p:spPr>
          <a:xfrm>
            <a:off x="8610480" y="656064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C757-AC25-4915-8CFC-37C11EB3B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9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0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581CC-448C-45FD-B8EB-DCE568DAF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304920" y="244440"/>
            <a:ext cx="75960" cy="517680"/>
          </a:xfrm>
          <a:prstGeom prst="rect">
            <a:avLst/>
          </a:prstGeom>
          <a:solidFill>
            <a:srgbClr val="5b6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9"/>
          <p:cNvSpPr/>
          <p:nvPr/>
        </p:nvSpPr>
        <p:spPr>
          <a:xfrm>
            <a:off x="304920" y="244440"/>
            <a:ext cx="99036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ftr" idx="13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ooter text go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Num" idx="14"/>
          </p:nvPr>
        </p:nvSpPr>
        <p:spPr>
          <a:xfrm>
            <a:off x="8610480" y="656064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20D0-DA70-440F-82FE-0017DC1B2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7/27/20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6676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ily Load Change from January 1, 2016 through March 31,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Chart 3" descr=""/>
          <p:cNvPicPr/>
          <p:nvPr/>
        </p:nvPicPr>
        <p:blipFill>
          <a:blip r:embed="rId1"/>
          <a:stretch/>
        </p:blipFill>
        <p:spPr>
          <a:xfrm>
            <a:off x="237960" y="1146240"/>
            <a:ext cx="7382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8284-9293-43A4-AC6F-76AFB6FFB9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1"/>
          <a:stretch/>
        </p:blipFill>
        <p:spPr>
          <a:xfrm>
            <a:off x="914400" y="787320"/>
            <a:ext cx="73058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8610480" y="6561000"/>
            <a:ext cx="3812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EA99-0E22-4447-BFE8-5869A4F90F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957240" y="790560"/>
            <a:ext cx="73058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6676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DRRQ Meter Data Estimates for Initial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that TAC allow COPS to do further analysis, develop a Problem Statement, and report back to TAC for further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676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s from the 2017 Q2 Settlement Stability Report provided by Magie Annab (See Appendix C for complete re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price corrections/changes after the Settlement Statement was posted for the O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4 Disputes submitted; 41 Resolved (21 Denied, 20 Granted); Not-Resolves are either Not started, Open, Rejected or Withdraw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proximately 30% of Load is being estimated for Initial Settlements (Just over 3% of ESI IDs, Approx. 225k ESI ID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ne 2017 Net Allocation to Load without ERS Settlement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$-0.39/MWh, mostly due to $-24.2 million Balancing Account Payout to Load and $-26.4 million Zonal Auction Distrib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verage Net Allocation to Load for the past 12 months (June 2016 thru May 2017) is $0.81/MW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6676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7 Release 3 Settlement Implementations Update provided by Austin Ro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ffective June 27-29, 201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PRR801, Non-Controllable Load Resource MW in Physical Responsive Capability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s the PRC calculation from including Responsive Reserve Service (RRS) MW responsibility from Load Resources controlled by high-set under frequency relays to including all MW from these Load Resources from their current output to their Low Power Consumption (LPC) capped at 150% of the QSE’s RRS responsibility from non-Controllable Load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Operating Reserve Demand Curve (ORDC) reserves are adjusted in the OBD to align with the PRC 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ncillary Service imbalance Settlement is changed to align with the change to the ORDC reser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33520" y="68544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Information 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(WebEx onl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ugust 9, 20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6040" y="6094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39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WG Replacement of 2% Resettlement Rule Objectiv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39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a resettlement threshold that is fair to large and small MPs, replacing the existing 2% resettlement r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39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the resettlement threshold on the DAM and RTM median settlement statement amou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39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he issue of small errors that cumulatively create an impact which exceeds a threshold that is fair to large and small M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39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 actual daily resettlements, as opposed to alternative settlement resolution, to provide for automation and systematic historical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39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 error other than a pricing error that has a cumulative impact, designate a cutoff for the number of days the market will go back and resett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39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utoff for DAM resettlements due to the cumulative impact of an error other than a pricing error prior to the RTM True-up Resettlement, so its results are included in the resettlement of the RT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39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number of resettlements due to errors other than pricing errors to the Settlement Stability Report for visibility into and review of the impact of NPRR8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640" indent="-339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Appendix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6676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 Level Statistics (1/1/2015 – 5/1/2017) for 2% Rul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62120" y="1460520"/>
          <a:ext cx="7010280" cy="2916360"/>
        </p:xfrm>
        <a:graphic>
          <a:graphicData uri="http://schemas.openxmlformats.org/drawingml/2006/table">
            <a:tbl>
              <a:tblPr/>
              <a:tblGrid>
                <a:gridCol w="560160"/>
                <a:gridCol w="639720"/>
                <a:gridCol w="1249560"/>
                <a:gridCol w="915840"/>
                <a:gridCol w="123840"/>
                <a:gridCol w="639720"/>
                <a:gridCol w="1059120"/>
                <a:gridCol w="903240"/>
                <a:gridCol w="919080"/>
              </a:tblGrid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M Pay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M Char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p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(3,098.4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(61.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4,909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98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(27,714.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(554.2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34,356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687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TM Pay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TM Char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p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18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(10,193.1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(407.7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6,493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259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(44,720.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(1,788.8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46,177.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1,847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762120" y="4648320"/>
          <a:ext cx="6095880" cy="1260360"/>
        </p:xfrm>
        <a:graphic>
          <a:graphicData uri="http://schemas.openxmlformats.org/drawingml/2006/table">
            <a:tbl>
              <a:tblPr/>
              <a:tblGrid>
                <a:gridCol w="1447560"/>
                <a:gridCol w="1198800"/>
                <a:gridCol w="1312920"/>
                <a:gridCol w="1069920"/>
                <a:gridCol w="1066680"/>
              </a:tblGrid>
              <a:tr h="420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. of Days of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d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p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(3,098.4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(464,766.0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(4,647.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0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(3,098.4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(154,922.0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(1,549.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Appendix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6676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lement Stability Report 2017 Q2 provided by Magie Anna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TAC Voting It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S Information Session via WebEx on June 14, 20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S met July 19, 20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6"/>
          <p:cNvSpPr/>
          <p:nvPr/>
        </p:nvSpPr>
        <p:spPr>
          <a:xfrm>
            <a:off x="3413160" y="2413080"/>
            <a:ext cx="5645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7 Q2 Update to C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ie An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/19/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i) Track number of pric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ACC7-85C9-4B5F-8EE6-50E4E76242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236600" y="1219320"/>
          <a:ext cx="6746760" cy="1160280"/>
        </p:xfrm>
        <a:graphic>
          <a:graphicData uri="http://schemas.openxmlformats.org/drawingml/2006/table">
            <a:tbl>
              <a:tblPr/>
              <a:tblGrid>
                <a:gridCol w="1139760"/>
                <a:gridCol w="628920"/>
                <a:gridCol w="709560"/>
                <a:gridCol w="701640"/>
                <a:gridCol w="727200"/>
                <a:gridCol w="647640"/>
                <a:gridCol w="561960"/>
                <a:gridCol w="718920"/>
                <a:gridCol w="911160"/>
              </a:tblGrid>
              <a:tr h="271440">
                <a:tc gridSpan="9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ing Period: 2017 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orrected Settlement Point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Intervals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</a:tr>
            </a:tbl>
          </a:graphicData>
        </a:graphic>
      </p:graphicFrame>
      <p:sp>
        <p:nvSpPr>
          <p:cNvPr id="423" name="TextBox 8"/>
          <p:cNvSpPr/>
          <p:nvPr/>
        </p:nvSpPr>
        <p:spPr>
          <a:xfrm>
            <a:off x="1236600" y="2379600"/>
            <a:ext cx="674676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were no price changes in Q2 201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rice changes reported on this slide display the price corrections that have been done after the Settlement Statement has posted for the Operating Day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ii) Track number and types of disputes submitted</a:t>
            </a:r>
            <a:br>
              <a:rPr sz="2000"/>
            </a:b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iii) Compliance with timeliness of response to dispu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840B-B3E4-487F-BC60-36A4F616E1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620640" y="5486400"/>
            <a:ext cx="4876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mitted but not resolved disputes may b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dra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380880" y="1389240"/>
            <a:ext cx="850284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5DBA-A030-44B7-B22D-A63E50AAD8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533520" y="391464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S Final settlement OD data is not represented in grap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6122880" y="3970440"/>
            <a:ext cx="29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percen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8420040" cy="20988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rcRect l="17834" t="6900" r="13793" b="6900"/>
          <a:stretch/>
        </p:blipFill>
        <p:spPr>
          <a:xfrm>
            <a:off x="6665760" y="4246560"/>
            <a:ext cx="19051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AD7-22B8-4D58-9BB2-6D61C6E417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"/>
          <p:cNvPicPr/>
          <p:nvPr/>
        </p:nvPicPr>
        <p:blipFill>
          <a:blip r:embed="rId1"/>
          <a:stretch/>
        </p:blipFill>
        <p:spPr>
          <a:xfrm>
            <a:off x="4740120" y="888840"/>
            <a:ext cx="3576960" cy="2595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"/>
          <p:cNvPicPr/>
          <p:nvPr/>
        </p:nvPicPr>
        <p:blipFill>
          <a:blip r:embed="rId2"/>
          <a:stretch/>
        </p:blipFill>
        <p:spPr>
          <a:xfrm>
            <a:off x="4836960" y="3587760"/>
            <a:ext cx="3575160" cy="2709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"/>
          <p:cNvPicPr/>
          <p:nvPr/>
        </p:nvPicPr>
        <p:blipFill>
          <a:blip r:embed="rId3"/>
          <a:stretch/>
        </p:blipFill>
        <p:spPr>
          <a:xfrm>
            <a:off x="809640" y="3540240"/>
            <a:ext cx="3575160" cy="27111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0" descr=""/>
          <p:cNvPicPr/>
          <p:nvPr/>
        </p:nvPicPr>
        <p:blipFill>
          <a:blip r:embed="rId4"/>
          <a:stretch/>
        </p:blipFill>
        <p:spPr>
          <a:xfrm>
            <a:off x="809640" y="882720"/>
            <a:ext cx="35780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FBD7-0AC4-4CB6-9DCB-CA6A149830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7" descr=""/>
          <p:cNvPicPr/>
          <p:nvPr/>
        </p:nvPicPr>
        <p:blipFill>
          <a:blip r:embed="rId1"/>
          <a:stretch/>
        </p:blipFill>
        <p:spPr>
          <a:xfrm>
            <a:off x="4800600" y="882720"/>
            <a:ext cx="3575160" cy="2709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"/>
          <p:cNvPicPr/>
          <p:nvPr/>
        </p:nvPicPr>
        <p:blipFill>
          <a:blip r:embed="rId2"/>
          <a:stretch/>
        </p:blipFill>
        <p:spPr>
          <a:xfrm>
            <a:off x="4789440" y="3554280"/>
            <a:ext cx="3576600" cy="2710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12800" y="3524400"/>
            <a:ext cx="3575160" cy="2709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"/>
          <p:cNvPicPr/>
          <p:nvPr/>
        </p:nvPicPr>
        <p:blipFill>
          <a:blip r:embed="rId4"/>
          <a:stretch/>
        </p:blipFill>
        <p:spPr>
          <a:xfrm>
            <a:off x="747720" y="841320"/>
            <a:ext cx="35751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876312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59F-A486-46A2-B43A-FA3E714D10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914400" y="787320"/>
            <a:ext cx="73058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8610480" y="6561000"/>
            <a:ext cx="3812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FBF5-8D4B-40C2-9F25-6247370E6C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957240" y="790560"/>
            <a:ext cx="73058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8610480" y="6561000"/>
            <a:ext cx="381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2C50-7FA3-4593-8ECC-889F690AC0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957240" y="830160"/>
            <a:ext cx="73058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8534520" y="6561000"/>
            <a:ext cx="457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049C-6739-448A-B126-44FF8224AC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957240" y="816120"/>
            <a:ext cx="73058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TAC Voting It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063, Assignment of BUSOGLFT Profile Ty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Effective Date: August 1, 20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rifies the requirements for requesting a Profile change to the Business Oil &amp; Gas Flat (BUSOGFLT) Profile Type by specifying only the current Competitive Retailer (CR) or Record may request an BUSOGFLT Profile assig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s with TAC 2017 Goal #6, Develop and implement needed market design corrections and improvements which are cost 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8610480" y="6561000"/>
            <a:ext cx="381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0DCD-F1F5-4364-AA0D-EE180186EE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tretch/>
        </p:blipFill>
        <p:spPr>
          <a:xfrm>
            <a:off x="957240" y="816120"/>
            <a:ext cx="73058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8610480" y="6561000"/>
            <a:ext cx="381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5BFF-99A1-4375-A030-B1C03F4BD1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957240" y="816120"/>
            <a:ext cx="73058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8.2(2)(g) Net Allocation to Load - Totals and $/M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8305920" y="656100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DE18-E7AA-42C4-A139-4260F77A94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3"/>
          <p:cNvSpPr/>
          <p:nvPr/>
        </p:nvSpPr>
        <p:spPr>
          <a:xfrm>
            <a:off x="1714680" y="868320"/>
            <a:ext cx="57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acc8"/>
                </a:solidFill>
                <a:latin typeface="Arial"/>
              </a:rPr>
              <a:t>NET ALLOCATION TO LOAD (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1752480" y="4648320"/>
            <a:ext cx="579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acc8"/>
                </a:solidFill>
                <a:latin typeface="Arial"/>
              </a:rPr>
              <a:t>AUCTION REVENUE PER CONGESTION MANAGEMENT ZONE ($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5157720" y="6102360"/>
            <a:ext cx="39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The total ERS charges have been evenly allocated across the contract perio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 The $/MWh value as calculated per PR 8.2 (2) g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rcRect l="0" t="22407" r="0" b="19351"/>
          <a:stretch/>
        </p:blipFill>
        <p:spPr>
          <a:xfrm>
            <a:off x="237960" y="4886280"/>
            <a:ext cx="8744040" cy="981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2"/>
          <a:srcRect l="1772" t="0" r="2244" b="0"/>
          <a:stretch/>
        </p:blipFill>
        <p:spPr>
          <a:xfrm>
            <a:off x="237960" y="1084320"/>
            <a:ext cx="86774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Meeting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6676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791, Correction of 60-Day SCED GRD Disclosure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S voted to submit Comments endorsing SCR7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es unused MW and Price values in Security-Constrained Economic Dispatch (SCED) Generation Resource Data (GRD) Energy Offer Curves with null values, as opposed to zer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Meeting Voting Ite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6676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819, Resettlement Clean-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S voted to submit Comments endorsing NPRR819 as amended by the 5/24/2017 ERCOT Com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RR819 removes language referencing “data errors” for resettlement of the DAM and the RT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RR819 gives the ERCOT Board authority to direct a DAM resettlement,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RR819 removes reference to undefined “declarations” of resett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Comments address resettlement of the DAM and RTM due to errors other than price errors (“non-price errors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Comments revise existing resettlement thresholds of 2% of the total ERCOT-wide Operating Day (OD) payments and addresses a DAM cumulative error over several 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Meeting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6676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819, Resettlement Clean-Up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Comments propose the following (See Appendix A and B for supplemental inform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for a Single OD – Resettle if the total error results in an absolute val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 greater than 2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Statement am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single Statement Recipient for the OD and the impact is greater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for a Cumulative Impact – Resettle ODs that do not meet the threshold for a Single OD i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mpact to a single Statement Recipient within a 150 day window results in an absolute value greater than 1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Statement am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f the impact is greater than $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M for a Single OD – Resettle if the total error results in an absolute val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 greater than 4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Statement am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single Statement Recipient for an OD and the impact is greater than 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include the number of resettlements required due to non-price errors in the Quarterly Settlement Stability Report, so MPs can determine if the thresholds need to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6676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port – May 2017 provided by Dave Paglia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Data Transparency IT systems met all SLA targ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ts &amp; Mainten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/04/17 – ERCOT experienced an outage to the Market Information System (MIS) between 9:29 AM – 10:34 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/09/17 – 05/22/17 – ERCOT experienced an issue with the 60-Day Day Ahead Market (DAM) Disclosure Reports (EMIL ID: NP3-966-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records for the same Resource were reported in the Generation Resource Data files (60d_DAM_Gen_Resource_Data) within the DAM Disclosure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mplemented a fix for this issue and re-ran the affected files for the dates of 05/09/2017 through 05/22/2017. These re-run files were posted to the MIS in their standard posting 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/18/17 – The 22:00 posting of the Short-Term System Adequacy Report was mi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/31/17 – Planned Maintenance (Site Failover – External Web 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6/01/17 – Planned Maintenance (Site Failover – MPIM, Retail AP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6/02/17 – Planned Maintenance (Site Failover – M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6676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port – June 2017 provided by Dave Paglia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Data Transparency IT systems met all SLA targ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ts &amp;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/01/17 – Planned Maintenance (Site Failover – MPIM, Retail A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/02/17 – Planned Maintenance (Site Failover – M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/22/17 – ERCOT experienced an outage of the Market Information System (MIS) 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:59 AM – 6:14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ervices accessed through the MIS were unavailable during the ou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66760" y="6091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4"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ccounted For Energy (UFE) Annual Report provided by Randy Rob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UFE Daily Average from July 1 2016 through March 31,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s: Between -5.03% and 2.9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s: Between -0.37% and 1.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UFE Monthly Average from July 2016 through March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s: Between -0.98% and 0.7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s: Between 0.03% and 0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ily Load Change from January 1, 2016 through March 31,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: Between -1,174 MWh and 1,158 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DR: Between -354 MWh and 157 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DRRQ: Betwe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,77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Wh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3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Monthly Load Change from January 2016 through March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: Between -1,935 MWh and 1,028 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DR: Between -6,848 MWh and 1,821 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DRRQ: Betwe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0,9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Wh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,85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7-07-25T18:20:57Z</dcterms:modified>
  <cp:revision>1904</cp:revision>
  <dc:subject/>
  <dc:title>Instructions</dc:title>
</cp:coreProperties>
</file>