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ECAFF-79EE-4B60-B1C0-2B736E2647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6C64D-DEA0-4CDF-82C9-90BDD14FC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8E102-B83D-4835-A20F-C17B5785F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35252-16DD-4715-9198-5BF854BB4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1BD34-4BAE-4038-BE08-B1E1A19F4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5523-202C-411C-8259-095390AE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D3C79-45EC-4864-8E85-276908B1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9E1DA-7CC0-4898-969A-6EF088CB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2ACD-B36A-41AE-86AE-F8BFCED8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125B-C2F1-4156-9C0B-009B994B8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0E239-5B45-408F-B104-FF1EFEDA8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F3A0-343E-46A9-AAD0-B131EB15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4A17-64EE-4C6E-B05A-ABFD9FBE9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458B-D215-4B61-8D9E-20CE98F3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E628-B8E4-4ED8-8C28-290A1E07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EFB0-2A9B-4ED0-81C3-54D14EB73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5D7DB-390E-4AD8-839D-6B6989FB94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CAF61-8F6B-4A65-995D-4D1CA4D46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C86EA-7400-482B-85CF-BECE212A0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27,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2, Designate Resource Node Procedure an Other Binding Document and Adjust the Process for Retiring Resource Nod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ssociated Revisions to the Procedure for Identifying Resource Nod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Updated Other Binding Document Lis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3, Modify PTP Obligation Bid Clearing Change – URGENT</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325k and $425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1945</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SCR792, Enhance Communications of BAAL Exceedances </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40k and $6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2060</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68, Revisions to Real-Time On-Line Reliability Deployment Price Adder Categories [ERCO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1, Elimination of the CRR Deration Process [DC Energy]</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68, Revisions to Real-Time On-Line Reliability Deployment Price Adder Categories</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761080"/>
        </p:xfrm>
        <a:graphic>
          <a:graphicData uri="http://schemas.openxmlformats.org/drawingml/2006/table">
            <a:tbl>
              <a:tblPr/>
              <a:tblGrid>
                <a:gridCol w="1245960"/>
                <a:gridCol w="7339320"/>
              </a:tblGrid>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Nodal Protocol Revision Request (NPRR) revises the categories of ERCOT initiated actions that trigger the Real-Time On-Line Reliability Deployment Price Adder pricing run in order for prices to reflect current system condition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043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n 6/15/17, PRS voted to recommend approval of NPRR768 as amended by the 6/1/17 TIEC Comments and as revised by PRS.  There was one opposing vote from the Consumer (Occidental Chemical) Market Segment and one abstention from the Independent Power Marketer (IPM) (Morgan Stanley) Market Segment.  On 7/20/17, voted to endorse and forward to TAC the 6/15/17 PRS Report and Impact Analysis for NPRR768 with a recommended priority of 2017 and rank of 2050.  There was one opposing vote from the Consumer (Occidental Chemical) Market Segmen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on system implementation - Priority 2017; Rank 205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etween $100k and $150k; no impacts to ERCOT staffing; impacts to Market Management Systems (MMS), Energy Management System (EMS), Data and Information Products (DAIP), Data Management; no impacts to ERCOT business processes; ERCOT grid operations and practices will be updated.</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067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NPRR will address the impacts of ERCOT initiated actions that may cause prices to not reflect system conditions in Real-Time.  By including these additional categories of ERCOT actions, the pricing signals in times of scarcity will be more accurate and have a positive impact on Resource adequac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1, Elimination of the CRR Deration Process</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756040"/>
        </p:xfrm>
        <a:graphic>
          <a:graphicData uri="http://schemas.openxmlformats.org/drawingml/2006/table">
            <a:tbl>
              <a:tblPr/>
              <a:tblGrid>
                <a:gridCol w="1245960"/>
                <a:gridCol w="733932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odal Protocol Revision Request (NPRR) eliminates the Congestion Revenue Right (CRR) deration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864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6/15/17, PRS voted to recommend approval of NPRR821 as amended by the 5/31/17 ERCOT comments.  There were five opposing votes from the Consumer (Occidental Chemical), Independent Generator (Luminant), Independent Retail Electric Provider (IREP) (2) (Reliant Energy Retail Services, Discount Power), and Municipal (Austin Energy) Market Segments; and two abstentions from the IPM (Citigroup) and Investor Owned Utility (IOU) (CenterPoint) Market Segments.  On 7/20/17, PRS voted via roll call to endorse and forward to TAC the 6/15/17 PRS Report and Impact Analysis for NPRR821 with a recommended rank of 2019 and priority of 2500, and a proposed effective date of upon system implementation but no earlier than July 1, 2019.  There were six opposing votes from the Consumer (Occidental Chemical), Independent Generator (Luminant), IREP (2) (Direct Energy, Source Power and Gas), IOU (AEPSC), and Municipal (Austin Energy) Market Segments; and three abstentions from the IPM (Citigroup), IREP (Reliant Energy Retail Services), and IOU (CenterPoint)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9; Rank 2500, but no earlier than July 1, 2019</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40k and $60k; no impacts to ERCOT staffing; impacts to Market Settlements (S&amp;B), MMS, Integration, and DAIP;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23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RRs that are positively valued and source or sink at a Resource Node are subject to the CRR deration process.  The process raises market equitability issues as CRR activity does not cause the underlying topology conditions that lead to deration.  This NPRR addresses this issue by eliminating the CRR deration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2, Designate Resource Node Procedure an Other Binding Document and Adjust the Process for Retiring Resource Nodes [ERCOT]</a:t>
            </a:r>
            <a:endParaRPr b="0" lang="en-US" sz="1800" spc="-1" strike="noStrike">
              <a:solidFill>
                <a:srgbClr val="000000"/>
              </a:solidFill>
              <a:latin typeface="Arial"/>
            </a:endParaRPr>
          </a:p>
        </p:txBody>
      </p:sp>
      <p:sp>
        <p:nvSpPr>
          <p:cNvPr id="185"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designates the “Procedure for Identifying Resource Nodes” an Other Binding Document and adjusts the process for handling Resource Nodes for retired Resources by allowing ERCOT to move a retired Resource’s Resource Node to a different, nearby energized Electrical Bu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5/11/17, PRS unanimously voted to recommend approval of NPRR822 as amended by the 4/18/17 ERCOT comments.  On 6/15/17, PRS unanimously voted to endorse and forward to TAC the 5/11/17 PRS Report as revised by PRS and the Impact Analysis for NPRR8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3, Modify PTP Obligation Bid Clearing Change – URGENT [ERCOT]</a:t>
            </a:r>
            <a:endParaRPr b="0" lang="en-US" sz="1800" spc="-1" strike="noStrike">
              <a:solidFill>
                <a:srgbClr val="000000"/>
              </a:solidFill>
              <a:latin typeface="Arial"/>
            </a:endParaRPr>
          </a:p>
        </p:txBody>
      </p:sp>
      <p:sp>
        <p:nvSpPr>
          <p:cNvPr id="187"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4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25k and $425k; no impacts to ERCOT staffing; impacts to MMS, EMS, Data Access &amp; Transparency, and DAIP;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justs the language introduced by NPRR827, Disallow PTP Obligation Bid Award where Clearing Price exceeds Bid Price by $0.25/MW per hour, to account for the steady state that will result when ERCOT implements the long-term, automated change affecting Point-to-Point (PTP) Obligation bid clear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20/17, PRS unanimously voted to grant NPRR833 Urgent status.  PRS then unanimously voted to recommend approval of NPRR833 as amended by the 6/29/17 ERCOT comments and to forward to TAC with a recommended priority of 2017 and rank of 194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92, Enhance Communications of BAAL Exceedances [ERCOT]</a:t>
            </a:r>
            <a:endParaRPr b="0" lang="en-US" sz="1800" spc="-1" strike="noStrike">
              <a:solidFill>
                <a:srgbClr val="000000"/>
              </a:solidFill>
              <a:latin typeface="Arial"/>
            </a:endParaRPr>
          </a:p>
        </p:txBody>
      </p:sp>
      <p:sp>
        <p:nvSpPr>
          <p:cNvPr id="189"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206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60k; no impacts to ERCOT staffing; impacts to Market Settlements (S&amp;B), MMS, Integration, and DAIP;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allows ERCOT to send, via Inter-Control Center Communications Protocol (ICCP) to the appropriate Entities, the consecutive clock-minute average exceedances of Balancing Authority ACE Limit (BAAL). This SCR also creates a situational awareness display in the Market Information System (MIS) Public Area that displays consecutive clock-minute average exceedances of BAA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5/17, PRS unanimously voted to recommend approval of SCR792 as submitted.  On 7/20/17, PRS unanimously voted to endorse and forward to TAC the 6/15/17 PRS Report and Impact Analysis for SCR792 with a recommended priority of 2017 and rank of 20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7-21T20:35:28Z</dcterms:modified>
  <cp:revision>35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