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BF3F-D9D7-4C8C-8FAB-1E7524178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769D-4D2B-4865-87E4-73F981BB2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01F6-F2F2-422C-BB43-D2063A8AD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1DBF-54DD-4243-9BB9-C634A9A4C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9E2F-2E3F-4F1C-A3F0-E0D8875A7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AC6F-FA00-4ED8-B572-FC1290790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6AFA-E209-4DAC-803A-82D83D8F8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14F1-FF2F-4A4A-BA8A-FCDF86EB7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407B-EE40-4724-AD76-9E9613B72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D2E5-682E-419D-9C67-73FA6CCA4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7E97A-ABB3-4F7B-85C9-61182B531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20EE-1D1E-4A90-8B39-BB3D80EA7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B0EE5-79C0-492E-802D-FD2507789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5CA58-FFCA-4207-A745-212459017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DD0AB-55B0-4FCC-9564-67DD2ED4B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EE600-4E4E-4E38-B7E8-C2DDD8CF8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07986-AF64-4622-A4B4-416F206B2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2A2A7-4B6F-479F-96DA-8DA0D322B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389D8-E6AB-459E-96FC-627201634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935AE-98C8-4247-AF28-6FC2F16F5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189CE-4BAE-4B3B-9548-39B96119F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26B0-3841-4B0D-90E8-49E5E9189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91E1E-AFBF-4370-BB6A-375E141E7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39B95-8AA6-4A5B-A7CE-5EE647CB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CC694-DAA6-4055-A5C6-75E0F1133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7AAB1-10EB-4F37-9FCB-016560D05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58286-AE11-4B1C-971D-774FBDDFA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EC4843-9DE6-458F-9201-146B40A88E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992BE-1282-47F3-A568-EF69395F0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16CCF-F106-4926-B11F-BC2F2651A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AF5BD-B1FC-403E-8D04-0DDDB3FB2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0A6423-452D-4A67-90D3-441F48564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4681-9128-4B20-9BA3-105AC4BBA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0DC10-973F-4C12-8830-72FB34C77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B88AE-543D-45D7-9417-E78B0458B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53110-C2FE-4895-B6C2-23B319B3E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98743-045C-4F6A-9066-845B438C4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232BE-9BD0-4112-8566-42ED377C2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5879F7-391F-4229-8425-6E59D745EA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3C7BDD-4753-4CB0-A9A5-0EDA0C1AF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DDCB48-5847-477E-AF9E-FEF7028428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154168-BDEF-4A57-A1BA-79BF621FA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2EB3B-08DD-4A72-9B45-6319C4572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DF4B2-1107-4C04-8918-D2C9ED57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E4DF7-9F59-42F3-ACD2-76DCA0C99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FA208-45F3-43DC-93E2-A1F7ED241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62E42-0BCB-4FC2-8F73-0B548A27F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D3047-6E52-409A-834B-AC718DF46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8769A-D31F-4CB9-87C5-5AD8DD29A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C41E0-A12B-48D5-807D-ADDA79651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61D89-B3F7-440C-8CD6-C25FCA95B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B7FD4-0062-4272-8F81-1E34DE41A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70F62-214B-452D-9C85-A5DB41EAA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9D5908-3C43-42F0-9213-EC2AE574F5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A9197-AE14-43E6-B884-3FF8BEF7B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D6849-4DA8-4F4A-8580-F2F197E06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97955-9A7C-4925-8141-737850685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FA0D7-9178-4939-972D-79607D9AD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BAF50-2CE9-4356-8277-A8DC03301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5F10D-7E50-47CA-9838-AAC18DD01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B9B62-15F9-433B-AC97-45AA9CF1E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6329A-9E04-4F06-9FBD-F9BECBF11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D403A-2339-44AB-BBFB-7B8BAEB0D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843FA-07F4-42BC-9AFC-38A8443A7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A2CA40-D033-40E1-8120-70302F4423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7B7CA-6D6C-4A13-9609-F214EF0C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F82C3-95D7-4A6A-81ED-10F0B2BDC3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1D65A7-3050-4F46-89DF-B41FB1C8F4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8E858D-E294-4F48-95C3-D1E2DB912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9841CB-2FD9-4ABD-A82C-270580687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BF7F6-C6BE-46DB-9992-537CE0A96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BD7B1-2110-4B6A-9A35-A095ABEDE2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F2F60-CD13-4818-A792-F7CEB9930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874AB-6BB5-4362-935A-6874E3C6A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0AFC0-C7EC-4C15-AD43-53395295B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A6356-8C33-4635-9CB7-5DB9E2E1C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7845-2737-48A2-9434-C9805D204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833C4-E225-48D4-AF37-482D29C9E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5B29D8-E5E0-4714-809E-D271E14D6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94FDC3-FDCC-4FE8-B33A-957CABF562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1AC805-94C9-47C1-9CD3-B45FB224B1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6A2592-2F67-4F87-AEE5-3879F7CEA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CCF6E-7959-471C-9BC7-1D7CD6A8F4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B30A4E-9233-4A53-8F6F-EB0127D65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D17B0-DAE8-4D17-852E-02F56420D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01409-5CA8-410D-B771-39ACE06103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0FF65-4C48-4D06-AF59-92F28EBD9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DFE64-E7A2-4425-8BA8-86D056460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B989E-43E0-473E-A755-A725CB38E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E06A4-FC67-4799-8A8D-DCA65A021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C3854D-3F0B-40DE-BAFB-EC98997A3A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5AD301-BA9E-4212-9B0C-1F3B7221DA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B7488D-AB97-48B9-9186-ABE5D9E1E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81F7-4ABE-46B6-A347-4503527AB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B041-BFBF-4297-99B7-718559858B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A967-0609-460A-849B-2D22C7E889E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3C3D-933D-437F-B236-5BC641D500C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4D8D-873B-43F6-9FE4-8621C28247F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923A-D902-4CDB-953D-3679223C2F5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88B0-DE5B-45FB-8912-9256044AA7D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B3E0-9D09-4A88-95F7-EE092DD5897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ercot.com/mktrules/issues/RMGRR149#keydoc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rcot.com/mktrules/issues/RMGRR132#keydocs"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rcot.com/committee/amwg" TargetMode="External"/><Relationship Id="rId2" Type="http://schemas.openxmlformats.org/officeDocument/2006/relationships/hyperlink" Target="http://ercot.com/committee/amwg" TargetMode="External"/><Relationship Id="rId3" Type="http://schemas.openxmlformats.org/officeDocument/2006/relationships/hyperlink" Target="http://ercot.com/content/wcm/key_documents_lists/113318/867_vs._AMS_thru_Apr17.xlsx" TargetMode="External"/><Relationship Id="rId4" Type="http://schemas.openxmlformats.org/officeDocument/2006/relationships/hyperlink" Target="http://ercot.com/content/wcm/key_documents_lists/113318/867_vs._AMS_thru_Apr17.xlsx" TargetMode="External"/><Relationship Id="rId5" Type="http://schemas.openxmlformats.org/officeDocument/2006/relationships/hyperlink" Target="http://ercot.com/content/wcm/key_documents_lists/113318/AMS_Load_Date_Lag_Mar17_thru_May17.xlsx" TargetMode="External"/><Relationship Id="rId6" Type="http://schemas.openxmlformats.org/officeDocument/2006/relationships/hyperlink" Target="http://ercot.com/content/wcm/key_documents_lists/113318/AMWG_Monthly_Market_Reports_and_Formats_Jun_2017.pptx" TargetMode="External"/><Relationship Id="rId7" Type="http://schemas.openxmlformats.org/officeDocument/2006/relationships/hyperlink" Target="http://ercot.com/content/wcm/key_documents_lists/113318/AMWG_Monthly_Market_Reports_and_Formats_Jun_2017.pptx" TargetMode="External"/><Relationship Id="rId8" Type="http://schemas.openxmlformats.org/officeDocument/2006/relationships/hyperlink" Target="http://ercot.com/content/wcm/key_documents_lists/113318/AMSR_Cycle_Read_Analysis_Mar17.pptx" TargetMode="External"/><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July 11,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7, 2017</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3E22-896F-46DC-8CE5-0ED22E30340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84" name=""/>
          <p:cNvSpPr txBox="1"/>
          <p:nvPr/>
        </p:nvSpPr>
        <p:spPr>
          <a:xfrm>
            <a:off x="914400" y="76176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LAST “Flight 1017” Schedule Announcement:</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itial Flight 1017 Market Notice will be sent 07/26/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signup begins 08/30/20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signup deadline is 09/06/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hoc signup deadline 10/13/17 (Current MPs Only, subject to Flight Administrator and TDSPs’ Approval)</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nectivity testing begins 09/12/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ay 1 transactions begin 10/02/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is scheduled to conclude on 10/13/17 (Contingency/Adhoc Period until 11/17/17)</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2018 System Change Roadmap</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T to IT Technical Roadmap WebEx Conference (New)</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tinue working projects on normal timeline for project releases</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posing Scheduling WebEx Conference in 3Q20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pecific audience is IT Staff located within the Market Participants’ shops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Technical upgrades potentially have impacts on Market Participants</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 Participant’s upgrades potentially have impacts on ERCOT</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Focusing on ERCOT Technical Roadmaps for Years 2017 - 2022</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 </a:t>
            </a:r>
            <a:endParaRPr b="0" lang="en-US" sz="1200" spc="-1" strike="noStrike">
              <a:solidFill>
                <a:srgbClr val="000000"/>
              </a:solidFill>
              <a:latin typeface="Arial"/>
            </a:endParaRPr>
          </a:p>
        </p:txBody>
      </p:sp>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A55A-6023-4037-821F-16B58C1079A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88" name="Object 7"/>
          <p:cNvGraphicFramePr/>
          <p:nvPr/>
        </p:nvGraphicFramePr>
        <p:xfrm>
          <a:off x="8001000" y="5486400"/>
          <a:ext cx="826920" cy="716040"/>
        </p:xfrm>
        <a:graphic>
          <a:graphicData uri="http://schemas.openxmlformats.org/presentationml/2006/ole">
            <p:oleObj r:id="rId1" spid="">
              <p:embed/>
              <p:pic>
                <p:nvPicPr>
                  <p:cNvPr id="389" name="Object 7" descr=""/>
                  <p:cNvPicPr/>
                  <p:nvPr/>
                </p:nvPicPr>
                <p:blipFill>
                  <a:blip r:embed="rId2"/>
                  <a:stretch/>
                </p:blipFill>
                <p:spPr>
                  <a:xfrm>
                    <a:off x="8001000" y="5486400"/>
                    <a:ext cx="826920" cy="7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Other Business/Announcements” </a:t>
            </a:r>
            <a:endParaRPr b="0" lang="en-US" sz="3600" spc="-1" strike="noStrike">
              <a:solidFill>
                <a:srgbClr val="572314"/>
              </a:solidFill>
              <a:latin typeface="Gill Sans MT"/>
            </a:endParaRPr>
          </a:p>
        </p:txBody>
      </p:sp>
      <p:sp>
        <p:nvSpPr>
          <p:cNvPr id="391" name=""/>
          <p:cNvSpPr txBox="1"/>
          <p:nvPr/>
        </p:nvSpPr>
        <p:spPr>
          <a:xfrm>
            <a:off x="914400" y="304920"/>
            <a:ext cx="8229600" cy="5943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2017 Price Responsive Load/DR Data Collection</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17 data collection efforts for Price Responsive and Demand Response products offered by the REPs.  REPs snapshots should be collected by the end of September and provided to ERCOT in October.  </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 Patterson (ERCOT) has also agreed to provide a Market Notice to the RMS listserv either this month or no later than mid-August as a reminder.</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TDSP’s 2017 CR Workshop</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EP 2017 Competitive Retailer Workshop</a:t>
            </a:r>
            <a:endParaRPr b="0" lang="en-US" sz="18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uesday, October 10, 2017; 6pm - 9pm</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ednesday, October 11, 2017; 8:30 a.m. – 3:00 p.m.</a:t>
            </a: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Gill Sans MT"/>
              </a:rPr>
              <a:t>RMS cancelled our August 16, 2017 meeting </a:t>
            </a:r>
            <a:r>
              <a:rPr b="0" lang="en-US" sz="2000" spc="-1" strike="noStrike">
                <a:solidFill>
                  <a:srgbClr val="000000"/>
                </a:solidFill>
                <a:latin typeface="Gill Sans MT"/>
              </a:rPr>
              <a:t>due to all of RMS’ Working Groups and Taskforce have cancelled their monthly meetings that were scheduled in July.   ERCOT’s meeting calendar has been updated accordingly. </a:t>
            </a: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5CD1-203F-4EBB-8C61-88E8C6E076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96"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2011-DAFE-4BA9-BE98-9D547708C6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9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399"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9</a:t>
            </a:r>
            <a:r>
              <a:rPr b="1" lang="en-US" sz="2400" spc="-1" strike="noStrike">
                <a:solidFill>
                  <a:srgbClr val="000000"/>
                </a:solidFill>
                <a:latin typeface="Gill Sans MT"/>
              </a:rPr>
              <a:t>, Clarification to Market Processes for ESI IDs Without a REP of Record (Vote)</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clarifies the Left In Hot communication process and codifies the Left In Hot process for Electric Service Identifiers (ESI IDs) without a Retail Electric Provider (REP) of record in the Retail Market Guide.</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28/17 Impact Analysis:  No project required.  This Retail Market Guide Revision Request (RMGRR) can take effect upon Technical Advisory Committee (TAC) approval.</a:t>
            </a:r>
            <a:endParaRPr b="0" lang="en-US" sz="18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10/17 Oncor Comments:  Added process clarification that was omitted from the initial TX SET version.  </a:t>
            </a:r>
            <a:endParaRPr b="0" lang="en-US" sz="18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11/17 RMS:  Motion to Approve RMGRR149 with Oncor’s comments was Unanimous  </a:t>
            </a:r>
            <a:endParaRPr b="0" lang="en-US" sz="18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mktrules/issues/RMGRR149#keydocs</a:t>
            </a: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S Recommends TAC’s  Approval of RMGRR149 as amended during the 7/27/17 TAC meeting.  </a:t>
            </a:r>
            <a:endParaRPr b="0" lang="en-US" sz="24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16CB-E6DD-4FA9-AAA3-73941E89974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000" spc="-1" strike="noStrike">
              <a:solidFill>
                <a:srgbClr val="000000"/>
              </a:solidFill>
              <a:latin typeface="Gill Sans MT"/>
            </a:endParaRPr>
          </a:p>
          <a:p>
            <a:pPr lvl="2" marL="61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RMGRR132#keydocs</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6177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RMGRR has been Tabled at RMS since August 4, 2015 and RMS leadership felt the July meeting was an opportunity to receive some direction from the submitter and/or Market Participants on the validity of these changes that would allow us to vote to Approve, continue to Table or Reject RMGRR132.     </a:t>
            </a:r>
            <a:endParaRPr b="0" lang="en-US" sz="1600" spc="-1" strike="noStrike">
              <a:solidFill>
                <a:srgbClr val="000000"/>
              </a:solidFill>
              <a:latin typeface="Gill Sans MT"/>
            </a:endParaRPr>
          </a:p>
          <a:p>
            <a:pPr lvl="2" marL="6177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MS discussed comments received from Oncor along with GSEC provided their  comments in response to Oncor’s position.  Since the Submitter wasn’t available to discuss his comments or answer any RMS questions during the July meeting, RMS supported Submitter’s Request to continue Tabling RMGRR132 for another month.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Table until September 2017 RMS was Unanimous </a:t>
            </a:r>
            <a:endParaRPr b="0" lang="en-US" sz="2000" spc="-1" strike="noStrike">
              <a:solidFill>
                <a:srgbClr val="000000"/>
              </a:solidFill>
              <a:latin typeface="Gill Sans MT"/>
            </a:endParaRPr>
          </a:p>
          <a:p>
            <a:pPr lvl="2" marL="6177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6177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5F11-353F-424A-87FD-94D5341A6A9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48"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Last 2017 Retail Instructor Led Classes </a:t>
            </a:r>
            <a:r>
              <a:rPr b="1" i="1" lang="en-US" sz="2400" spc="-1" strike="noStrike">
                <a:solidFill>
                  <a:srgbClr val="c00000"/>
                </a:solidFill>
                <a:latin typeface="Gill Sans MT"/>
              </a:rPr>
              <a:t>(Reminder) </a:t>
            </a:r>
            <a:endParaRPr b="0" lang="en-US" sz="24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i="1" lang="en-US" sz="1800" spc="-1" strike="noStrike">
                <a:solidFill>
                  <a:srgbClr val="1c4853"/>
                </a:solidFill>
                <a:latin typeface="Gill Sans MT"/>
              </a:rPr>
              <a:t>	</a:t>
            </a: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endParaRPr b="0" lang="en-US" sz="2000" spc="-1" strike="noStrike">
              <a:solidFill>
                <a:srgbClr val="000000"/>
              </a:solidFill>
              <a:latin typeface="Gill Sans MT"/>
            </a:endParaRPr>
          </a:p>
          <a:p>
            <a:pPr lvl="4" marL="1244880" indent="-1749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244880" indent="-1749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Loss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Wednesday,   September 27,  2017 </a:t>
            </a:r>
            <a:endParaRPr b="0" lang="en-US" sz="1800" spc="-1" strike="noStrike">
              <a:solidFill>
                <a:srgbClr val="000000"/>
              </a:solidFill>
              <a:latin typeface="Gill Sans MT"/>
            </a:endParaRPr>
          </a:p>
          <a:p>
            <a:pPr lvl="4" marL="1244880" indent="-1749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ext market topics being considered for training…</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X SET Transactions and Process Flows</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w Retail Market Testing Environment (User Guidelines) </a:t>
            </a:r>
            <a:endParaRPr b="0" lang="en-US" sz="2000" spc="-1" strike="noStrike">
              <a:solidFill>
                <a:srgbClr val="000000"/>
              </a:solidFill>
              <a:latin typeface="Gill Sans MT"/>
            </a:endParaRPr>
          </a:p>
          <a:p>
            <a:pPr lvl="2" marL="8503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50"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7AD3-464B-4E6A-BEDA-1B99BDEF160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53" name=""/>
          <p:cNvSpPr txBox="1"/>
          <p:nvPr/>
        </p:nvSpPr>
        <p:spPr>
          <a:xfrm>
            <a:off x="1133280" y="761760"/>
            <a:ext cx="38192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Onlin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4" name=""/>
          <p:cNvSpPr txBox="1"/>
          <p:nvPr/>
        </p:nvSpPr>
        <p:spPr>
          <a:xfrm>
            <a:off x="5257440" y="838080"/>
            <a:ext cx="380988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pic>
        <p:nvPicPr>
          <p:cNvPr id="357" name="Picture 8" descr=""/>
          <p:cNvPicPr/>
          <p:nvPr/>
        </p:nvPicPr>
        <p:blipFill>
          <a:blip r:embed="rId1"/>
          <a:stretch/>
        </p:blipFill>
        <p:spPr>
          <a:xfrm>
            <a:off x="1371600" y="1905120"/>
            <a:ext cx="2590920" cy="3886200"/>
          </a:xfrm>
          <a:prstGeom prst="rect">
            <a:avLst/>
          </a:prstGeom>
          <a:ln w="0">
            <a:noFill/>
          </a:ln>
        </p:spPr>
      </p:pic>
      <p:pic>
        <p:nvPicPr>
          <p:cNvPr id="358" name="Picture 9" descr=""/>
          <p:cNvPicPr/>
          <p:nvPr/>
        </p:nvPicPr>
        <p:blipFill>
          <a:blip r:embed="rId2"/>
          <a:stretch/>
        </p:blipFill>
        <p:spPr>
          <a:xfrm>
            <a:off x="5562720" y="2057400"/>
            <a:ext cx="236196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0" name=""/>
          <p:cNvSpPr txBox="1"/>
          <p:nvPr/>
        </p:nvSpPr>
        <p:spPr>
          <a:xfrm>
            <a:off x="91440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a:t>
            </a:r>
            <a:r>
              <a:rPr b="0" lang="en-US" sz="2000" spc="-1" strike="noStrike" u="sng">
                <a:solidFill>
                  <a:srgbClr val="8dc765"/>
                </a:solidFill>
                <a:uFillTx/>
                <a:latin typeface="Gill Sans MT"/>
                <a:hlinkClick r:id="rId2"/>
              </a:rPr>
              <a:t>ercot.com/committee/amwg</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ycle Read Analysis (posted to 7/20/17 AMWG Meeting page key documents) :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cope of report limited to March 2017 Settlement Data for AMSR Cycle Reads where the kWh delta was greater than +/- 500 kWh</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293</a:t>
            </a:r>
            <a:r>
              <a:rPr b="0" lang="en-US" sz="1800" spc="-1" strike="noStrike">
                <a:solidFill>
                  <a:srgbClr val="000000"/>
                </a:solidFill>
                <a:latin typeface="Gill Sans MT"/>
              </a:rPr>
              <a:t> </a:t>
            </a:r>
            <a:r>
              <a:rPr b="1" lang="en-US" sz="1800" spc="-1" strike="noStrike">
                <a:solidFill>
                  <a:srgbClr val="000000"/>
                </a:solidFill>
                <a:latin typeface="Gill Sans MT"/>
              </a:rPr>
              <a:t>Total ESI IDs identified out of 7.2 Million AMS ESI IDs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289</a:t>
            </a:r>
            <a:r>
              <a:rPr b="0" lang="en-US" sz="1800" spc="-1" strike="noStrike">
                <a:solidFill>
                  <a:srgbClr val="000000"/>
                </a:solidFill>
                <a:latin typeface="Gill Sans MT"/>
              </a:rPr>
              <a:t> </a:t>
            </a:r>
            <a:r>
              <a:rPr b="1" lang="en-US" sz="1800" spc="-1" strike="noStrike">
                <a:solidFill>
                  <a:srgbClr val="000000"/>
                </a:solidFill>
                <a:latin typeface="Gill Sans MT"/>
              </a:rPr>
              <a:t>ESI IDs root cause determined</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en-US" sz="1800" spc="-1" strike="noStrike">
                <a:solidFill>
                  <a:srgbClr val="c00000"/>
                </a:solidFill>
                <a:latin typeface="Gill Sans MT"/>
              </a:rPr>
              <a:t>4</a:t>
            </a:r>
            <a:r>
              <a:rPr b="0" lang="en-US" sz="1800" spc="-1" strike="noStrike">
                <a:solidFill>
                  <a:srgbClr val="000000"/>
                </a:solidFill>
                <a:latin typeface="Gill Sans MT"/>
              </a:rPr>
              <a:t> </a:t>
            </a:r>
            <a:r>
              <a:rPr b="1" lang="en-US" sz="1800" spc="-1" strike="noStrike">
                <a:solidFill>
                  <a:srgbClr val="000000"/>
                </a:solidFill>
                <a:latin typeface="Gill Sans MT"/>
              </a:rPr>
              <a:t>ESI IDs still under investigation</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3"/>
              </a:rPr>
              <a:t>http</a:t>
            </a:r>
            <a:r>
              <a:rPr b="0" lang="en-US" sz="1400" spc="-1" strike="noStrike" u="sng">
                <a:solidFill>
                  <a:srgbClr val="8dc765"/>
                </a:solidFill>
                <a:uFillTx/>
                <a:latin typeface="Gill Sans MT"/>
                <a:hlinkClick r:id="rId4"/>
              </a:rPr>
              <a:t>://ercot.com/content/wcm/key_documents_lists/113318/867_vs._AMS_thru_Apr17.xls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5"/>
              </a:rPr>
              <a:t>http://ercot.com/content/wcm/key_documents_lists/113318/AMS_Load_Date_Lag_Mar17_thru_May17.xls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6"/>
              </a:rPr>
              <a:t>http</a:t>
            </a:r>
            <a:r>
              <a:rPr b="0" lang="en-US" sz="1400" spc="-1" strike="noStrike" u="sng">
                <a:solidFill>
                  <a:srgbClr val="8dc765"/>
                </a:solidFill>
                <a:uFillTx/>
                <a:latin typeface="Gill Sans MT"/>
                <a:hlinkClick r:id="rId7"/>
              </a:rPr>
              <a:t>://ercot.com/content/wcm/key_documents_lists/113318/AMS_Volume_and_Count_Report_ERCOT_May17.xls</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8"/>
              </a:rPr>
              <a:t>http://</a:t>
            </a:r>
            <a:r>
              <a:rPr b="0" lang="en-US" sz="1400" spc="-1" strike="noStrike">
                <a:solidFill>
                  <a:srgbClr val="000000"/>
                </a:solidFill>
                <a:latin typeface="Gill Sans MT"/>
              </a:rPr>
              <a:t>ercot.com/content/wcm/key_documents_lists/113318/AMSR_Cycle_Read_Analysis_Mar17.pptx</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23680" indent="-212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1"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62"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C997-E63D-432F-986C-309ED600495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066320" y="685800"/>
            <a:ext cx="8077320" cy="548640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Calls</a:t>
            </a:r>
            <a:r>
              <a:rPr b="0" lang="en-US" sz="3200" spc="-1" strike="noStrike">
                <a:solidFill>
                  <a:srgbClr val="000000"/>
                </a:solidFill>
                <a:latin typeface="Gill Sans MT"/>
              </a:rPr>
              <a:t>	</a:t>
            </a:r>
            <a:r>
              <a:rPr b="1" lang="en-US" sz="3200" spc="-1" strike="noStrike">
                <a:solidFill>
                  <a:srgbClr val="000000"/>
                </a:solidFill>
                <a:latin typeface="Gill Sans MT"/>
              </a:rPr>
              <a:t>396</a:t>
            </a:r>
            <a:r>
              <a:rPr b="0" lang="en-US" sz="3200" spc="-1" strike="noStrike">
                <a:solidFill>
                  <a:srgbClr val="000000"/>
                </a:solidFill>
                <a:latin typeface="Gill Sans MT"/>
              </a:rPr>
              <a:t>	</a:t>
            </a:r>
            <a:r>
              <a:rPr b="0" lang="en-US" sz="3200" spc="-1" strike="noStrike">
                <a:solidFill>
                  <a:srgbClr val="000000"/>
                </a:solidFill>
                <a:latin typeface="Gill Sans MT"/>
              </a:rPr>
              <a:t>(+23)</a:t>
            </a:r>
            <a:endParaRPr b="0" lang="en-US" sz="3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Tickets</a:t>
            </a:r>
            <a:r>
              <a:rPr b="0" lang="en-US" sz="3200" spc="-1" strike="noStrike">
                <a:solidFill>
                  <a:srgbClr val="000000"/>
                </a:solidFill>
                <a:latin typeface="Gill Sans MT"/>
              </a:rPr>
              <a:t>	</a:t>
            </a:r>
            <a:r>
              <a:rPr b="1" lang="en-US" sz="3200" spc="-1" strike="noStrike">
                <a:solidFill>
                  <a:srgbClr val="000000"/>
                </a:solidFill>
                <a:latin typeface="Gill Sans MT"/>
              </a:rPr>
              <a:t>358</a:t>
            </a:r>
            <a:r>
              <a:rPr b="0" lang="en-US" sz="3200" spc="-1" strike="noStrike">
                <a:solidFill>
                  <a:srgbClr val="000000"/>
                </a:solidFill>
                <a:latin typeface="Gill Sans MT"/>
              </a:rPr>
              <a:t>	</a:t>
            </a:r>
            <a:r>
              <a:rPr b="0" lang="en-US" sz="3200" spc="-1" strike="noStrike">
                <a:solidFill>
                  <a:srgbClr val="000000"/>
                </a:solidFill>
                <a:latin typeface="Gill Sans MT"/>
              </a:rPr>
              <a:t>(+ 5)</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a:t>
            </a:r>
            <a:r>
              <a:rPr b="1" lang="en-US" sz="2800" spc="-1" strike="noStrike">
                <a:solidFill>
                  <a:srgbClr val="000000"/>
                </a:solidFill>
                <a:latin typeface="Gill Sans MT"/>
              </a:rPr>
              <a:t>285</a:t>
            </a:r>
            <a:r>
              <a:rPr b="0" lang="en-US" sz="2800" spc="-1" strike="noStrike">
                <a:solidFill>
                  <a:srgbClr val="000000"/>
                </a:solidFill>
                <a:latin typeface="Gill Sans MT"/>
              </a:rPr>
              <a:t>   (+19)</a:t>
            </a:r>
            <a:endParaRPr b="0" lang="en-US" sz="28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68   {U/ID &amp; P/W Invalid}</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40   {Typo errors}</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19    {Required Registration Assistance}</a:t>
            </a:r>
            <a:endParaRPr b="0" lang="en-US" sz="2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1" lang="en-US" sz="3000" spc="-1" strike="noStrike">
                <a:solidFill>
                  <a:srgbClr val="c00000"/>
                </a:solidFill>
                <a:latin typeface="Gill Sans MT"/>
              </a:rPr>
              <a:t>93,031</a:t>
            </a:r>
            <a:r>
              <a:rPr b="0" lang="en-US" sz="3000" spc="-1" strike="noStrike">
                <a:solidFill>
                  <a:srgbClr val="000000"/>
                </a:solidFill>
                <a:latin typeface="Gill Sans MT"/>
              </a:rPr>
              <a:t> (+  8,612)</a:t>
            </a:r>
            <a:endParaRPr b="0" lang="en-US" sz="3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1" lang="en-US" sz="3200" spc="-1" strike="noStrike">
                <a:solidFill>
                  <a:srgbClr val="c00000"/>
                </a:solidFill>
                <a:latin typeface="Gill Sans MT"/>
              </a:rPr>
              <a:t>7,320,886</a:t>
            </a:r>
            <a:r>
              <a:rPr b="0" lang="en-US" sz="3200" spc="-1" strike="noStrike">
                <a:solidFill>
                  <a:srgbClr val="000000"/>
                </a:solidFill>
                <a:latin typeface="Gill Sans MT"/>
              </a:rPr>
              <a:t> (+33,187)</a:t>
            </a:r>
            <a:endParaRPr b="0" lang="en-US" sz="3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   </a:t>
            </a:r>
            <a:r>
              <a:rPr b="1" lang="en-US" sz="3200" spc="-1" strike="noStrike">
                <a:solidFill>
                  <a:srgbClr val="c00000"/>
                </a:solidFill>
                <a:latin typeface="Gill Sans MT"/>
              </a:rPr>
              <a:t>7,261,971</a:t>
            </a:r>
            <a:r>
              <a:rPr b="0" lang="en-US" sz="3200" spc="-1" strike="noStrike">
                <a:solidFill>
                  <a:srgbClr val="000000"/>
                </a:solidFill>
                <a:latin typeface="Gill Sans MT"/>
              </a:rPr>
              <a:t> (+35,145)</a:t>
            </a:r>
            <a:endParaRPr b="0" lang="en-US" sz="32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June 2017</a:t>
            </a:r>
            <a:endParaRPr b="0" lang="en-US" sz="4300" spc="-1" strike="noStrike">
              <a:solidFill>
                <a:srgbClr val="572314"/>
              </a:solidFill>
              <a:latin typeface="Gill Sans MT"/>
            </a:endParaRPr>
          </a:p>
        </p:txBody>
      </p:sp>
      <p:sp>
        <p:nvSpPr>
          <p:cNvPr id="36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9BD6-46C4-46F9-B42D-7D700A3E9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68"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1" descr=""/>
          <p:cNvPicPr/>
          <p:nvPr/>
        </p:nvPicPr>
        <p:blipFill>
          <a:blip r:embed="rId1"/>
          <a:stretch/>
        </p:blipFill>
        <p:spPr>
          <a:xfrm>
            <a:off x="835200" y="530280"/>
            <a:ext cx="8997840" cy="5949720"/>
          </a:xfrm>
          <a:prstGeom prst="rect">
            <a:avLst/>
          </a:prstGeom>
          <a:ln w="0">
            <a:noFill/>
          </a:ln>
        </p:spPr>
      </p:pic>
      <p:sp>
        <p:nvSpPr>
          <p:cNvPr id="370"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June 2017</a:t>
            </a:r>
            <a:endParaRPr b="0" lang="en-US" sz="4300" spc="-1" strike="noStrike">
              <a:solidFill>
                <a:srgbClr val="572314"/>
              </a:solidFill>
              <a:latin typeface="Gill Sans MT"/>
            </a:endParaRPr>
          </a:p>
        </p:txBody>
      </p:sp>
      <p:sp>
        <p:nvSpPr>
          <p:cNvPr id="37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15AE-D773-4DD4-A091-CA9DC21DA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a:t>
            </a:r>
            <a:endParaRPr b="0" lang="en-US" sz="1200" spc="-1" strike="noStrike">
              <a:solidFill>
                <a:srgbClr val="000000"/>
              </a:solidFill>
              <a:latin typeface="Arial"/>
            </a:endParaRPr>
          </a:p>
        </p:txBody>
      </p:sp>
      <p:sp>
        <p:nvSpPr>
          <p:cNvPr id="373" name="Rectangle 1"/>
          <p:cNvSpPr/>
          <p:nvPr/>
        </p:nvSpPr>
        <p:spPr>
          <a:xfrm>
            <a:off x="7114320" y="6488280"/>
            <a:ext cx="1573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75" name=""/>
          <p:cNvSpPr txBox="1"/>
          <p:nvPr/>
        </p:nvSpPr>
        <p:spPr>
          <a:xfrm>
            <a:off x="914400" y="685440"/>
            <a:ext cx="82296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pril 2017 Inadvertent Gains Reporting:</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108491/13._Inadvertent_Stats_-_April_2017.pptx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 for July 2017: </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ercot.com/content/wcm/key_documents_lists/108491/13._RMS_July_2017_Project_Update.pptx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8 Target go-live date scheduled for October 29, 2017</a:t>
            </a:r>
            <a:endParaRPr b="0" lang="en-US" sz="20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1" lang="en-US" sz="1600" spc="-1" strike="noStrike">
                <a:solidFill>
                  <a:srgbClr val="c00000"/>
                </a:solidFill>
                <a:latin typeface="Gill Sans MT"/>
              </a:rPr>
              <a:t>Scheduled to gate to Execution on 7/19/2017</a:t>
            </a: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	</a:t>
            </a:r>
            <a:r>
              <a:rPr b="1" lang="en-US" sz="1600" spc="-1" strike="noStrike">
                <a:solidFill>
                  <a:srgbClr val="c00000"/>
                </a:solidFill>
                <a:latin typeface="Gill Sans MT"/>
              </a:rPr>
              <a:t>Targeted for go-live in 10/29/2017 (Release 5) </a:t>
            </a: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roject Requires several Market Coordination efforts: </a:t>
            </a:r>
            <a:endParaRPr b="0" lang="en-US" sz="16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Use of the new Retail Market Testing Environment (RMTE) and its availability of when the production data will be available to the market in this new test environment</a:t>
            </a:r>
            <a:endParaRPr b="0" lang="en-US" sz="14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et testing scenarios and the development of test scripts, </a:t>
            </a:r>
            <a:endParaRPr b="0" lang="en-US" sz="14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RCOT and/or Working Group’s advising MPs of what is needed to test and providing user instructions of the Retail Market Test Environment’s (RMTE’s) access requirements,</a:t>
            </a:r>
            <a:endParaRPr b="0" lang="en-US" sz="14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et Coordination and Communications of Pre and Post Production Go-live activities.  </a:t>
            </a:r>
            <a:endParaRPr b="0" lang="en-US" sz="1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32680" indent="-214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27, 2017 </a:t>
            </a:r>
            <a:endParaRPr b="0" lang="en-US" sz="1200" spc="-1" strike="noStrike">
              <a:solidFill>
                <a:srgbClr val="000000"/>
              </a:solidFill>
              <a:latin typeface="Arial"/>
            </a:endParaRPr>
          </a:p>
        </p:txBody>
      </p:sp>
      <p:sp>
        <p:nvSpPr>
          <p:cNvPr id="3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854D-EF52-47A6-A05D-8E086814B44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79" name="Object 2"/>
          <p:cNvGraphicFramePr/>
          <p:nvPr/>
        </p:nvGraphicFramePr>
        <p:xfrm>
          <a:off x="3733920" y="1514520"/>
          <a:ext cx="838080" cy="725400"/>
        </p:xfrm>
        <a:graphic>
          <a:graphicData uri="http://schemas.openxmlformats.org/presentationml/2006/ole">
            <p:oleObj r:id="rId1" spid="">
              <p:embed/>
              <p:pic>
                <p:nvPicPr>
                  <p:cNvPr id="380" name="Object 2" descr=""/>
                  <p:cNvPicPr/>
                  <p:nvPr/>
                </p:nvPicPr>
                <p:blipFill>
                  <a:blip r:embed="rId2"/>
                  <a:stretch/>
                </p:blipFill>
                <p:spPr>
                  <a:xfrm>
                    <a:off x="3733920" y="1514520"/>
                    <a:ext cx="838080" cy="725400"/>
                  </a:xfrm>
                  <a:prstGeom prst="rect">
                    <a:avLst/>
                  </a:prstGeom>
                  <a:ln w="0">
                    <a:noFill/>
                  </a:ln>
                </p:spPr>
              </p:pic>
            </p:oleObj>
          </a:graphicData>
        </a:graphic>
      </p:graphicFrame>
      <p:graphicFrame>
        <p:nvGraphicFramePr>
          <p:cNvPr id="381" name="Object 6"/>
          <p:cNvGraphicFramePr/>
          <p:nvPr/>
        </p:nvGraphicFramePr>
        <p:xfrm>
          <a:off x="7391520" y="3886200"/>
          <a:ext cx="838080" cy="725400"/>
        </p:xfrm>
        <a:graphic>
          <a:graphicData uri="http://schemas.openxmlformats.org/presentationml/2006/ole">
            <p:oleObj r:id="rId3" spid="">
              <p:embed/>
              <p:pic>
                <p:nvPicPr>
                  <p:cNvPr id="382" name="Object 6" descr=""/>
                  <p:cNvPicPr/>
                  <p:nvPr/>
                </p:nvPicPr>
                <p:blipFill>
                  <a:blip r:embed="rId4"/>
                  <a:stretch/>
                </p:blipFill>
                <p:spPr>
                  <a:xfrm>
                    <a:off x="7391520" y="3886200"/>
                    <a:ext cx="83808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07-24T04:54:09Z</dcterms:modified>
  <cp:revision>1802</cp:revision>
  <dc:subject/>
  <dc:title>Instructions</dc:title>
</cp:coreProperties>
</file>