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50B93-04CD-49F6-B934-7419087AD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34272-A09B-4165-9BF0-A02CC80AD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7EA99-3171-4C75-83DC-F0DC29A07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D9388-83BB-4322-824F-4178E4A8C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A31DD-9930-4E1E-AC73-02AE5EE1A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24409-95B0-4D58-B339-93DA18081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9C3-1CBC-4AD9-91FF-D5826407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647-962B-4D2E-B77A-30BD6A83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FAE0E-C35A-48A1-8C67-D7B7ED3B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994CC-7697-4601-BEF3-E5FC000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0B2474-29AA-43C5-B299-8738227C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3A517E-F899-4B86-8B8E-631BBC0F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643B23-812E-4BD6-B34D-1713CE98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4F6438-6D29-4DB9-BBB1-CA11534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66A4AB-DE17-4AB4-B35B-8B29DC38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558C3-04A8-4671-BF1A-3FE32262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8E1B7-7D85-4411-8E8A-E8ECFDB6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3918E4-E1C0-4A1D-A356-AC042BD9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177-B7C9-4453-8224-83DC6619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C3B6BD-04F6-4F9C-8DEF-06C444E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5DB91F-EEE3-4864-A3C2-7C8A1DF7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85AA7-53F0-4BAF-ADA3-247218B3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6AD888-FEAD-466A-9D05-CBCDE02B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4B0F6A-3657-40A6-B646-1AFC79B9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53EC3-CA9C-4A23-A673-080264B6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6F4662-9683-494D-AED1-0F600F16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2F3CB3-E50D-41A5-9DCB-5367EF2A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D2C441-7FB8-4ABC-A7A7-2A1B465D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666C1C-349D-4361-B537-6BE99C75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728-44CB-48B5-B7D1-2C839769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739F1-367E-416D-A1ED-F7D030E8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56D2-79A2-4510-96B9-DFAFCF10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01C1-1F90-4C08-AE72-2431D68D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4DCD-2DE7-4864-A223-9B9452C2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58D1-D257-431D-B98F-8C4055D6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7370-CC64-400F-AA7C-76D50ABC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096A-FA8C-4CCD-BFA6-32F1FAB4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74E1-4BAB-46B3-ACCD-CB587A16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13C-B5AC-46A9-9993-542008C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5CCC-1632-4385-876F-BDA0389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E81-32D6-4F1B-9AE1-C38C35E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C686-8C7A-47B2-B84E-B4B87AF8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275A-B39C-4E38-B51A-225846BC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B1D5-D529-4B2F-9E82-A8F50DA4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DA1-B02B-4C28-A6A5-B8441DEB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9BB-32BE-41AF-A256-AD52A04E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F84F4-D726-4D93-8C85-9DEF4934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775-839B-4743-AA8D-FE4E103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27830-495D-4A95-A10F-386BFC77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3B183-A646-4C1F-B683-ED6C9A7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52B56-6C28-4378-B38C-5378A22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44381-205A-4403-AD82-7F617F52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747BF-5374-46FE-B70C-CE8168D2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A6DB0-AF02-435A-9581-C68A66FE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1B759-D621-4A15-80B4-20A2D9F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37E47-449C-45CF-B73A-EFF7D05B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FB52C-E713-475E-9922-34CE3CDE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0A823-9B6B-4D20-B376-F59AF562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2B3-C248-4A8C-A0F6-E03D07F9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8397A-6EDE-4090-8974-CF5F800D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F03DA-C62E-4596-886E-0942C8B9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F3F5F-E39C-42F1-8335-AE3407C4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E5332-A1C0-4F9B-8869-E172A4E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52CF0-EA04-4893-9A01-87F1F3C7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2A954-6C3B-487B-9A4A-8C1AD291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E30C4-C851-4954-A208-DE95803C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90E87-0B02-4BAF-88DF-D4F0DFD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F3A9F-9A63-4A51-9E87-B2C5146A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99CBB-19BE-4AA5-9AE6-5515A09B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C24-8F2A-4906-B93B-75DA7379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661C1-E55D-4CB8-9F08-108C3D6A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76735-7B53-4C50-8EA9-1F67E089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16BFF-B270-4CD3-BED7-CF6571C6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EB257-28EB-4B3C-954F-92B1A9A2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4F7DC-204E-4C28-AB84-3E77BBDF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455C9-FAA7-449F-9D88-78A8EF49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1CBE6-C6CD-4C5B-99AC-5172AF00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5E42D-6FB9-4D5D-8B2A-747F7730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8A1B2-55A8-4260-9F06-F463DCDA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064A8-F23E-4B34-89CB-D65BAA32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B82-687C-4E2A-B636-85E4DF94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65610-7E0D-43F1-A0AF-43730396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0F5A1-743D-4709-89A3-050E3C1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95B08-C8F6-4BB3-8099-C1849A23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44DA9-E10A-4DDD-A357-39C27315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A7F64-2B73-451C-BE97-5B9116B9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4458B-823B-4877-AED8-D034A121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234B2-E1F6-4829-9348-7A6DE8F1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527FA-D870-4DC5-BE4D-77B16200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4F3EA-119A-410E-85E6-6CE2F58D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BA506-E2E0-4AD1-9306-A620558F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B6D-BC77-42D8-8652-C845239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48F4F-1304-470B-A0B7-DFC5FD0D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6DA7E-8B79-4A68-ACD1-5D3F92E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38BBB-F88E-4CA9-AA8F-AB66AE6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FAD43-1571-44EA-A689-D82D4C8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5CD83-1391-40C7-8128-A225033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D44EB-BA05-46BB-9390-D41C9B6A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0E798-D4FA-495B-B3A4-ABA88ECA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7CE05-C3BF-4F97-AD6C-A474D862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3336F-966D-4E70-8BA9-F100814F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B105D-428A-4D96-8B33-0144D0C2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D438E-C1E3-4ACB-917A-D9FFB5CB008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771F1-6AFB-4CBC-A67B-C89E63599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123F5-6480-4544-A9B3-A6074FFC6DD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6B94A-0A06-4786-B474-86521AC1E5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8FA29-0AA7-4D58-AC28-53E7E8B783D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A9D67-95A5-44AA-BE01-059EB69842C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0D275-77B3-4060-A363-FE09ABEF7AF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03B81-AD73-4708-852A-48B2C8BC2EF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BD44D-246C-4A20-9FEA-019A58D2FA6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44985-538A-4392-84C2-032A34CBDCD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76D7D-E54E-48D3-9EEC-60E3F1C006D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F7FF7-54B9-4A49-9F20-A9C8713E640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9898B-8FC0-459B-9FA6-A3F7A48EC0C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E3CDA-92B6-432D-AFC5-D28F8604E5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78CDA-416F-4E32-9948-26ABE832F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7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0E6C7-AB5C-4FA0-9A7D-39F084B2337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FF5C1-1A6F-4CCD-BB0E-C443368999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CE469-BC3F-40A3-B5C8-CF3A61DA08F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83DDE-8F3A-4BDB-842E-1E682E03DC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E48E1-1384-4E0C-949D-0FD27EBBCFF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3D5C2-3D07-4324-89D9-69148FFCFA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31577-21B4-43BE-A59F-B1CDF7B6C30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7441F-E713-4915-B792-9A2A86278CB1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2416B-D4D5-4EFB-B751-A7FC997A7B5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A4B6E-54C1-4FE8-834E-8729C50196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F68D4-DCF7-49DA-A1C9-5D6A9733FB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July 12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ugust 2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98A05-6658-4CDE-BABE-B46B017DFB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 (June Meeting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68 – Revisions to Real-Time On-Line Reliability Deployment Price Adder Categor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6/1/17 TIEC comments (4 abstenti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21 – Elimination of the CRR Deration Pro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5/31/17 ERCOT comments with implementation date no earlier than July 1, 2019 (6 opposed, 3 abstenti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29 – Incorporate Real-Time Non-Modeled Net Generation by Load Zone into Estimate of RT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5/16/17 Shell Energy comments (2 abstenti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5BC95-7C3B-46BA-BC6B-C9F66A06DA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 (July Meeting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17 – Create a Panhandle Hub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Megawatt Analytics comments (1 opposed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26 – Mitigated Offer Caps for RMR Resour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ERCOT comments (4 opposed, 3 abstenti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33 – Modify PTP Obligation Bid Clearing Chang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ERCOT comments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AD7F6-09FE-467C-86F5-82298551CB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Other Discuss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outhern Cross Projec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to discuss appropriate WG involvement next mon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/ROS joint meeting planning in progr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7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E4805-E8BE-4E0B-8E79-193545E99C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7-07-19T14:25:43Z</dcterms:modified>
  <cp:revision>91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