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914400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310760" y="692280"/>
            <a:ext cx="432756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5F18-B539-4EC9-A344-8BEC010B0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29A78-E87E-4229-9316-DBA7C1F6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789-8B3B-4474-B15B-45A7537E9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BE8B-5D00-45A5-B5E6-49804177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EB6C9-8BB5-4AF1-8136-81B657C7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DF50-02D0-41F6-8711-2F1FAE03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D806-CE62-42D4-98AD-A1E51177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C8B5-A9AF-4705-AA3F-86C7F552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9C092-CDB0-4AD0-BE8B-C5157874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53437-C79E-4ECA-A5FA-52265751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51E9C-DBC9-4878-B027-55C0F6FE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4BC77-D37F-4A5F-B5C3-939BF2D7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DDE17-AA2D-4812-BF66-A167CB00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4B73-1366-4A00-AB16-87EE7F1A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40897C-C474-45FC-8157-338E1800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12FE6-3D8E-4973-8B0E-7A8F201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E3EB8-C31C-4061-AB68-5CFC114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24137-699E-4EB1-906F-3F7EB70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CFCB2-5E80-4753-8737-A1739BAE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349E0-F06B-4D9D-9388-AB75C44A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F80F4-7F15-40BD-8411-19077F9BA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01C574-37F3-49CA-B235-3170C972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5290E6-5EAA-4365-A9CF-43E7E47D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E765F5-5E72-4E39-93A8-E2226EA5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1A50-5A63-4A23-874C-7ABB5513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212CA3-04FA-4015-9E05-7FDDBC1D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300D2-B177-4912-8775-B3395F83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F28F59-12F8-43E5-BDA0-02DC3727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F3C1D3-5483-4CA8-83A4-9AA2C31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03C8EA-419E-41B7-B85D-34CB555F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FD81C-DB8F-4789-9580-539A827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75FFA-C718-4384-9A1B-A5675B3F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479726-8010-4AD7-BEAD-1D4E5364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B16F6-0903-4A85-B4EE-EE0F5367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CB2C-F826-44FE-9A95-79AA4ED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FE19-2B78-486B-B378-BE1043D5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C164-A498-49FB-9C98-35ADC20E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840E-5EB0-48EC-9F20-EFEA92E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842C-84EC-4DF7-95E1-8333F39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4E0D-F54B-44F9-9363-183C9B2A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0EB6-7570-4D4F-98E9-BC88B7B6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F4D6-D053-43AF-A9EB-1275DDDDE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FD74-94E8-474D-97DD-CD00AA499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306-6078-45CF-ACC2-479A4A12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C</a:t>
            </a:r>
            <a:br>
              <a:rPr sz="32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Update to COPS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uly 19, 20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AC Email Vo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1917-526E-46B4-A391-DC2A583101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295280"/>
            <a:ext cx="853416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e to a light agenda, TAC Leadership cancelled the June 29, 2017 TAC me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wo Email votes were taken on June 28, 20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GRR17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ignment with NPRR824, Alignment of EEA Level 3 with NERC Reliability Standards EOP-011-1 and BAL-001-2, Effective Date: Upon system implementation of NPRR824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GRR170 revises the Nodal Operating Guide to be consistent with NPRR824 language relating to NERC Reliability Standards EOP-011-1, Emergency Operations, and BAL-001-2, Real Power Balancing Control Performanc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GRR170 does not modify NOG Section 4.5.3.3, EEA Leve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pon Board approval of NPRR824, a NOGRR will be submitted to maintain alignment of Protocol Section 6.5.9.4.2, EEA Levels, with NOG Section 4.5.3.3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AC Email Votes (Cont.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65BC-51BC-4D78-B4D4-FEC10CC5E9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95280"/>
            <a:ext cx="8534160" cy="58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RGRR01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-Built Clarification for RRGRRs 006, 007, and 009, Effective Date: July 1, 2017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ppro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RGRR014 conforms the Resource Registration Glossary to the Resource Asset Registration Form (RARF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RGRR014 captures baseline updates subsequent to the approval of RRGRR006, Clarification of Descriptions and Alignment with RARFs, and RRGRR007, Adding Solar Resource Registration Inputs, but omitted from the grey-box tab for RRGRR009, Adding Voltage Limit Sets, Relay Loadability, Most Limiting Single Element (MLSE), and Geo-Magnetic Disturbance (GMD) Data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C:\Users\iv3i\AppData\Local\Microsoft\Windows\Temporary Internet Files\Content.IE5\AAWN31BQ\question-mark[1].png"/>
          <p:cNvPicPr/>
          <p:nvPr/>
        </p:nvPicPr>
        <p:blipFill>
          <a:blip r:embed="rId1"/>
          <a:stretch/>
        </p:blipFill>
        <p:spPr>
          <a:xfrm>
            <a:off x="1828800" y="1987560"/>
            <a:ext cx="5486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8-08T13:52:23Z</cp:lastPrinted>
  <dcterms:modified xsi:type="dcterms:W3CDTF">2017-07-10T19:40:03Z</dcterms:modified>
  <cp:revision>1282</cp:revision>
  <dc:subject/>
  <dc:title>Instructions</dc:title>
</cp:coreProperties>
</file>