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4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310760" y="692280"/>
            <a:ext cx="432756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5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6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3ED-99ED-4A77-B0D5-3C8D44318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4D9A-80CB-465D-8B3F-3558C2ADC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14C2-A197-468C-A4D3-EDC55C6A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15F3-BA23-4D94-A8C2-F53C582B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1136-81E6-4C8A-B929-2C7A314F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72FF-183D-4D62-8F51-AF44C6F2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4AED-D290-44F2-823A-F24146CE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F8BB-DB39-4437-86C0-811CE13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DB069-081D-4234-A616-87BFFB81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982B4-7072-4239-A89F-6235F73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436B8-33A5-4C04-9097-84C2FF73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B712A-9E91-42D8-B541-988B456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8F721-A90A-4271-86ED-96396348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D02D-49A0-4C98-8015-30879812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0058A-22D7-46F6-BA97-18AD3CC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1B5B8-7FF1-4772-8F01-CC20C62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8B7C1-7998-4328-A81B-97A77D5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C11D2-BA5D-4BB0-9C75-6142159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4CD4C-FD4E-445C-B251-23C90865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653B5-233C-41AB-9454-80E82B4E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93C41-0FCC-4A2C-8F37-24E5447A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ECCA4-1B45-41FA-9637-D45D884B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9FB89-9208-4F67-B605-1D8273E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143AC-64E7-46C6-B197-83A57C5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2761-189E-41BD-95B2-E3591A82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5A031-C544-45EC-919C-BAE76DF7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5BFDD-1D47-4D7B-8C15-D8299E08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277F2-03A7-4835-90E6-C3CA0F4C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873AB-8645-4E2F-AFA8-29ACEA52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A235C-82C1-4A48-9AFE-A512A04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B2CEB-37EA-4821-97A8-1F2F9A18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DC0B8-9F19-4AFC-B7EE-42A102CC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3BE57-096E-4F38-8F66-4715E19C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F729B-C1FD-47B1-9D0E-1812E548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5D46-5465-4390-8344-FD2B371D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09D2-2116-448B-8E9F-BA1E6EB2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8C36-43EF-4705-ABD9-D8BF0555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92F0-5C32-4A58-801C-2C32852B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7D2B-D5E3-43BC-B3C5-49B9C1A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716E-95AA-4D33-9E19-C26570637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36B-87CF-422A-9445-5C01085F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65B-9B7F-41BA-8D7B-C35295E22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32A8-956A-4AB0-B997-959241463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0EB-33DA-49FE-8928-2CE21C6E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lists/121384/DERs_Reliability_Impacts_FINAL.pdf" TargetMode="External"/><Relationship Id="rId2" Type="http://schemas.openxmlformats.org/officeDocument/2006/relationships/hyperlink" Target="http://www.ercot.com/content/wcm/lists/121384/DERs_Reliability_Impacts_FINA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May 25, 2017</a:t>
            </a:r>
            <a:br>
              <a:rPr sz="3200"/>
            </a:br>
            <a:r>
              <a:rPr b="0" lang="en-US" sz="4400" spc="-1" strike="noStrike">
                <a:solidFill>
                  <a:srgbClr val="1e4649"/>
                </a:solidFill>
                <a:latin typeface="Arial Black"/>
              </a:rPr>
              <a:t>TAC</a:t>
            </a:r>
            <a:br>
              <a:rPr sz="32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Update to COPS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une 14, 20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3A1C-C083-4209-AC03-8E43C00A12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61800" y="1143000"/>
            <a:ext cx="8382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R Reliability Impacts and Recommended Changes, Bill Blev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itepaper issued 3/22/2017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www.ercot.com/content/wcm/lists/121384/DERs_Reliability_Impacts_FINAL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R penetration in ERCOT continues to trend upward and has the potential to affect grid operations in multiple way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creased error in Load Forecast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ss accurate inputs to the State Estimator and Load Adapt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coordinated system resto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id visibility is key; More detailed collection of static DER data from DSPs and TSPs; ERCOT does not propose to model or operate the distributi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RCOT will work with DSPs and TSPs to develop a method of providing and collecting data for mapping current and future registered DER units to the CIM Loads (This will affect 85 existing units, all of which are at least 1 MW and export power to the grid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RCOT will work with stakeholders to develop a process for Competitive Choice and NOIE DSPs to monitor the accumulation of clusters of Unregistered DER units, &gt;50kW and &lt;1MW, connected to specific CIM Loa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AC Leadership asked ERCOT to begin the DER discussion at the R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CA38-37F5-471A-BA30-51BDF7D758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6880" y="1218960"/>
            <a:ext cx="83822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rtual Weather Zone (Sub-Area Forecast) Update, Nikki McKe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on 2, Keep the forecast as a “virtual” weather zone used for forecasting purposes only, endorsed by WMS and 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 within the Seven-Day Load Forecast by Weather Zone report, noting this is a sub-area forec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in the Actual Loads of Weather Zone Display and Actual System Load by Weather Zone reports, noting this is a sub-area forec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C approved moving forward with Option 2; ERCOT will draft at least one NP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eads up to the MDWG: There will be changes to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registered Distributed Generation (DG) Report, Pete Warn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ing requirements moved to Protocol Section 3.2.5.3 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: What Subcommittee does ERCOT need to report to? A: W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Other Busines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4730-DDC4-40F5-A4A5-C188C92069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6880" y="1218960"/>
            <a:ext cx="83822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Definition(s) Protocol and Guide Clean Up, Adrianne Bran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C Leadership requested that a Task Force be formed under the PRS, to be Co-Chaired by ERC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Electric Transmission Texas, LLC (ETT) Outages on Certain CREZ 345 kV Transmission Lines in Northwest Texas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19, 2017, Market Operations Notice W-A051917-03, Extended Outages on Certain CREZ 345 kV Transmission Lines in Northwest Texas; Now through November 2018; Replacing transmission structure components as part of a warranty cla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ill host a WebEx on June 15, 2017, 2:00 PM – 5:00 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requests comments and questions ahead of the WebEx (Send through Client Services) so they can better prepare for the discu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submitted are being posted to the Workshops Web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C:\Users\iv3i\AppData\Local\Microsoft\Windows\Temporary Internet Files\Content.IE5\AAWN31BQ\question-mark[1].png"/>
          <p:cNvPicPr/>
          <p:nvPr/>
        </p:nvPicPr>
        <p:blipFill>
          <a:blip r:embed="rId1"/>
          <a:stretch/>
        </p:blipFill>
        <p:spPr>
          <a:xfrm>
            <a:off x="1828800" y="1987560"/>
            <a:ext cx="5486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AC Omnibus Motion (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pprove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D924-B151-4094-AD73-5FACACC558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295280"/>
            <a:ext cx="8534160" cy="58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PRR562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Subsynchronous Resonance, Effective Date: Upon system implementation, Priority 2017, Rank 199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PRR796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Extended Character Set Clean Up, Effective Date: July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PRR820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Clarification of Aggregate Generation Resource (AGR) Definition, Effective Date: July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PRR824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lignment of EEA Level 3 with NERC Reliability Standards EOP-011-1 and BAL-001-2, Effective Date: July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RGRR013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Resource Registration Glossary Revision Request Process, Effective Date: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OGRR168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Nodal Operating Guide Revision Request Process, Effective Date: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MGRR145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ppendix for a Mass Customer List (MCL), Effective Date: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MGRR146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Retail Market Guide Revision Request Process,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MGRR147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Stand-Alone Discretionary Meter Tampering Charges, Effective Date: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MS 2017 Go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PMGRR046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Commercial Operations Market Guide Revision Request Process,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PGRR062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Load Profiling Guide Revision Request Process, Effective Date: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VCMRR018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Verifiable Cost Manual Revision Request Process, Effective Date: June 1,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MS Procedur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PRS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D910-6C60-4124-9125-CF6181E970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PRR82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isallow PTP Obligation Bid Award where Clearing Price exceeds Bid Price by $0.25/MW per hour, Effective Date: Upon system implementati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PRR83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Revision of 4-Coincident Peak Methodology, Urgent, Effective Date: June 14, 2017, Priority 2017, Rank 2010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PRR83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clusion of Private Use Networks in Load Zone Price Calculations, Urgent, Effective Date: Upon system implementation, Priority 2017, Rank 1568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ROS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8E6-B474-44D2-ABDC-94653C2B54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880" y="1258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GRR05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lignment with NPRR562, Subsynchronous Resonance, Effective Date: Upon system implementation of NPRR562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GRR05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Responsibilities for Performing Geomagnetic Disturbance (GMD) Vulnerability, Effective Date: Upon system implementation, Priority 2017, Rank 150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GRR05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larification of Resources to be Included in the Planning Models, Effective Date: July 1, 2017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WMS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2BC3-1313-4F48-B832-81E2925D02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880" y="1258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MOGRR02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ettlement Metering Operating Guide Revision Request Process, Effective Date: June 1, 2017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BC9-62DF-47E6-BD65-97AF7DAC8E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85480" y="1203120"/>
            <a:ext cx="83818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r West Texas RPG Project, Prabhu Gnanam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ndo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ubmitted by Oncor and AEPSC on 4/20/2017 to the R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ed to address transmission needs both in Culberson Loop area and the Barilla Junc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recommends Option 2 to meet reliability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d cost $336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ayburn Country Electric Cooperative (RCEC) Load Integration Study, Prabhu Gnan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CEC is considering connecting the remainder of its load (Approx. 190 MW) to the ERCOT Grid as early as December, 20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CT requested ERCOT to study the impact of integrating the RCEC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recommends Option 2 to meet the planning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d cost $38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ted for information only, TAC took n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4CD-762D-479A-B9CE-19EDA52132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6880" y="1218960"/>
            <a:ext cx="83822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COT-SPP Coordinated Lubbock Power and Light Integration Impact Study Results, Jeff Bi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d Study requested by the P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recommends Option 4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d cost for transmission facilities $364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l and detailed information will be available in the study report to be filed with the PUCT in June,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ted for information only, TAC took n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D006-19F9-4AA1-A8B3-37100AFE47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880" y="1218960"/>
            <a:ext cx="83822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ries Capacitors Update, Fred Hu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PRR562, Subsynchronous Resonance (SSR), Effective July,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ies capacitors will improve Panhandle Generic Transmission Constraint (GTC) export capability (Approx. 150 M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ill coordinate with TSPs to identify transmission options for generators with Subsynchronous Resonance (SSR) vulnerability within N-4 ou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Energy Management System (EMS) will be used to monitor transmission outages; ERCOT Operations will bypass the Series Capacitors if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ill take this to the Board on June 13,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ted for information only, TAC took n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FB64-1DE8-4834-A7F8-2AB4BBD626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26880" y="1218960"/>
            <a:ext cx="83822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ern Cross Transmission (SCT) Project (#46304), Dan Woodf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presented a list of directives to resolve issues related to the implementation of the SC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below are some of the directiv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rmine the type of Market Particip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mp rate restrictions, if any, to accommodate the interconn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rmine how to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rmine any necessary transmission upgrad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rmine whether some or all DC ties should be economically dispatched or whether implementing a congestion management plan or Special Protection Scheme (SPS) would be better in managing congestion caused by the DC tie fl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ssible voltage support requirement and possible modifications to existing Ancillary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C Leadership directed ROS and WMS to conduct a joint Workshop to assist ERCOT in addressing the SCT dir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Trenary, Michelle</cp:lastModifiedBy>
  <cp:lastPrinted>2016-08-08T13:52:23Z</cp:lastPrinted>
  <dcterms:modified xsi:type="dcterms:W3CDTF">2017-06-14T00:43:45Z</dcterms:modified>
  <cp:revision>1273</cp:revision>
  <dc:subject/>
  <dc:title>Instructions</dc:title>
</cp:coreProperties>
</file>