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60E4-E82E-4159-8571-DF7C96BD1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26B8-2CDE-430A-B1FC-474001173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17A1-09F9-4EE8-A7B7-31F0EFFC9A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D120-3F9F-466D-BA3A-69D0E81E8C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21E0-3F05-4B1A-A8A0-FAFEC7EDEF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0E4E-935C-489E-992B-83AEA24B2A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10F1-F613-4710-98B8-2530ADE546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EE1B-B1BA-46F4-924A-49E0EDC5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F696-5BFC-4D8F-89B4-5346E18E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5AA2-FD2F-4679-8859-6873C176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9557-9D11-4C42-BFCE-FA486676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561B-C450-433D-9885-5190D143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3D3F-122A-4255-96F4-25231461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937A-3336-4773-A85D-183B6410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65D0-C8C9-4E83-BDC8-AD31B9B6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2D62-EEAD-4343-8356-B93C4BE3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0217-7280-4E8B-BF00-0A434666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4CC8-E8AC-4029-9B52-A690907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FAC6-1F3B-469D-B2D7-368BB80C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A8D-D612-4FFC-885D-3A34E611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B934-E45C-4DF2-9A78-45DFDC1C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51D4-896E-4DEC-811A-DEF656EA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370E-B902-44A2-8F18-05926B29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9690-851D-4BF1-8E6E-93A4728D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4979-4095-400E-8180-AC0F8647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1780-A546-47FD-A32C-99B9F258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FDE8-DD4F-4395-A105-450E42BB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ED2DE-DE38-43B9-9A98-5B8190E6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3D9E-0392-49A6-B9C5-95486D2F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C3E3-DDC7-414B-87D1-CBEB522C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3324-E10B-47C9-BECE-DBD531FC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A00B-01BE-4506-9F42-FFFDD305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585DE-256E-4740-921A-EF91F30A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3CF2-F232-4603-BB03-9CBC83B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0640-A533-4907-97B9-0D7F955F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E9D6-6BE3-48EB-974C-8952A859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D98C-B25C-4872-A04B-C8E7DFAF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AE8EE-350A-4ED5-9F46-244CFA6FE4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B23B9-C2C8-46F7-8F94-C556D1B34E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A4B19-D4F8-4435-A784-93C32502B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1B47-D9BC-43F1-B2A0-7B5CC2A0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08CBA-AC8D-49F2-B00E-11F9FC3541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50296-D11F-45C7-B44B-403BFDD175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E0417-0B90-421F-9A1A-A5E8CC087E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FEC0A-B7B3-4DC8-82BE-36005D7CBB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7E9FA-91D0-4E70-B04A-96BECA58DE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4565D-445B-45F3-9536-EFD2636EA2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0A9DA-33CD-47B5-8B4E-BDC03C624F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2D09E-84A4-4B70-992C-DB5109B8BB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8C334-4AFC-418E-8A73-2EC6761E034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33A9-597F-4F5D-A69C-318160D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A520-1E4E-460E-82B2-5BEE0936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A69CB-FFC2-4872-92CC-718F95A196D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6FC2B-2631-4C02-9753-2AE95815D2D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BECE2-8942-4CA0-96C5-42DD69F9B8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2D6C-9314-461D-AFE8-0AC47738BD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FBCDB-CDB9-473D-B297-2C4F3697596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75AF4-529C-43E7-B117-C7D397CE8E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D729-A2AE-4CA5-8D6B-D9493E070DA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4D91-D714-49DB-A428-B12D5EA4A10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22E1-C412-455C-8B3F-5D7A4334C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B9E0-AD22-4DA7-86BF-AACB8667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FE40B-BD6A-4F86-AF1F-0B5C606B5F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CD036-770A-4D3F-83CE-9F3C5FD29F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ADC9E-2B39-4E78-86DB-0C53539CC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8F81-2887-42FF-A846-61CF68D1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4FC8-E4F4-4B81-83E7-B76165C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BCAC-EAC7-49FB-A49C-DE5B9A7FA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C263-7CA3-4E0D-B312-08D57AE5F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8EFD-3AC3-4CAF-A0C9-83DADE6DB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2285-93DD-4754-95AA-478114FEF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ftr" idx="10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017 PWG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11"/>
          </p:nvPr>
        </p:nvSpPr>
        <p:spPr>
          <a:xfrm>
            <a:off x="8534160" y="6560640"/>
            <a:ext cx="533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64B9-4AFD-4E4E-9EA9-DF89BDD87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04920" y="244440"/>
            <a:ext cx="75960" cy="517680"/>
          </a:xfrm>
          <a:prstGeom prst="rect">
            <a:avLst/>
          </a:prstGeom>
          <a:solidFill>
            <a:srgbClr val="5b6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04920" y="244440"/>
            <a:ext cx="99036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ftr" idx="14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017 PWG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Num" idx="15"/>
          </p:nvPr>
        </p:nvSpPr>
        <p:spPr>
          <a:xfrm>
            <a:off x="8534160" y="6560640"/>
            <a:ext cx="533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250E-5625-46E4-9108-693749F26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A353-E5F3-405E-8C1D-EE2101D20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June 14th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cc8"/>
                </a:solidFill>
                <a:latin typeface="Arial"/>
              </a:rPr>
              <a:t>2017/2018 Transmission Losses (Actual &amp; Forecas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2743200" y="65530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7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8534520" y="6561000"/>
            <a:ext cx="533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507D-E898-4DA1-BE9B-642245FAED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Content Placeholder 5" descr=""/>
          <p:cNvPicPr/>
          <p:nvPr/>
        </p:nvPicPr>
        <p:blipFill>
          <a:blip r:embed="rId1"/>
          <a:stretch/>
        </p:blipFill>
        <p:spPr>
          <a:xfrm>
            <a:off x="1085760" y="990720"/>
            <a:ext cx="6972480" cy="50529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2"/>
          <p:cNvSpPr/>
          <p:nvPr/>
        </p:nvSpPr>
        <p:spPr>
          <a:xfrm>
            <a:off x="6400800" y="2362320"/>
            <a:ext cx="1733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PECIAL NO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3/23/2017 TAC Meeting – Key Documents – Item 11. ERCOT Reports – Transmission Loss Factors (TAC March 2017).pptx for additional details on higher than normal TL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67FC-8385-408A-8F4D-9733C0FC0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71680" y="1028880"/>
            <a:ext cx="8001000" cy="479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tentative meeting da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18th, 201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Ex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: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E:  June WebEx meeting has been cancell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update &amp;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spcBef>
                <a:spcPts val="876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8c93"/>
                </a:solidFill>
                <a:latin typeface="Arial"/>
              </a:rPr>
              <a:t>Spikes on re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spcBef>
                <a:spcPts val="876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8c93"/>
                </a:solidFill>
                <a:latin typeface="Arial"/>
              </a:rPr>
              <a:t>Method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spcBef>
                <a:spcPts val="876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8c93"/>
                </a:solidFill>
                <a:latin typeface="Arial"/>
              </a:rPr>
              <a:t>Is the process necessa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B40D-236C-4A41-BA20-332677A75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388-2CCA-4D5E-9211-31FE896F9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609480" y="1249200"/>
            <a:ext cx="7848720" cy="17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LPGRR063 - Modification of Oil &amp; Gas Profile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to state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rent REP or CR of Reco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est an Oil &amp; Gas Load Profile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52280" y="22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PWG Voting Items –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x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1747800" y="2732040"/>
            <a:ext cx="56484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Update –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4C0C-FDB7-4C87-9DF7-3D9E17E8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152280" y="1193760"/>
            <a:ext cx="87822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Up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B1AE-A934-40EA-9D5D-8BF5C890E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ontent Placeholder 2"/>
          <p:cNvSpPr/>
          <p:nvPr/>
        </p:nvSpPr>
        <p:spPr>
          <a:xfrm>
            <a:off x="304920" y="1066680"/>
            <a:ext cx="853416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31, 2017 PWG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SPs should be submitting 814-20s for Residential and Business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will review database for expected changes on 10/02/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lans on investigating more thoroughly CNP’s request when we upgrade to SAS grid (more stor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69720" y="297000"/>
            <a:ext cx="70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Unaccounted For Energy (UFE) Report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C066-1711-4D92-BFC1-2163C32D4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ontent Placeholder 2"/>
          <p:cNvSpPr/>
          <p:nvPr/>
        </p:nvSpPr>
        <p:spPr>
          <a:xfrm>
            <a:off x="304920" y="1066680"/>
            <a:ext cx="85341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116000" y="1089000"/>
            <a:ext cx="6912000" cy="44067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4"/>
          <p:cNvSpPr/>
          <p:nvPr/>
        </p:nvSpPr>
        <p:spPr>
          <a:xfrm>
            <a:off x="1596960" y="2008080"/>
            <a:ext cx="6023160" cy="2971800"/>
          </a:xfrm>
          <a:prstGeom prst="rect">
            <a:avLst/>
          </a:prstGeom>
          <a:solidFill>
            <a:srgbClr val="ccccff"/>
          </a:solidFill>
          <a:ln w="507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Sources of UFE includ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■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tion Measurement Err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■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C Tie Inadvertent Ener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■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- Missing/Erroneous Usage 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Backcast Profile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Load Profile ID Assignment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Th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■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osses  - Model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Loss Calculation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Loss Code Assignment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1"/>
          <p:cNvGraphicFramePr/>
          <p:nvPr/>
        </p:nvGraphicFramePr>
        <p:xfrm>
          <a:off x="4267080" y="5538960"/>
          <a:ext cx="91440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55389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cc8"/>
                </a:solidFill>
                <a:latin typeface="Arial"/>
              </a:rPr>
              <a:t>Average Daily % UFE (sorted low to h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2743200" y="65530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7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8534520" y="6561000"/>
            <a:ext cx="533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1C15-6C95-4331-BB07-D0E148F2A1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Content Placeholder 6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cc8"/>
                </a:solidFill>
                <a:latin typeface="Arial"/>
              </a:rPr>
              <a:t>Historical UFE Cost, MWH, and Average MC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2743200" y="65530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7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8534520" y="6561000"/>
            <a:ext cx="533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997B-885E-46E0-8C9D-5A2E82D5A9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Content Placeholder 6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cc8"/>
                </a:solidFill>
                <a:latin typeface="Arial"/>
              </a:rPr>
              <a:t>Historical UFE as Percent of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2743200" y="65530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7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8534520" y="6561000"/>
            <a:ext cx="533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1B5F-0325-41DF-9A4D-178D3BB607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Content Placeholder 5" descr=""/>
          <p:cNvPicPr/>
          <p:nvPr/>
        </p:nvPicPr>
        <p:blipFill>
          <a:blip r:embed="rId1"/>
          <a:stretch/>
        </p:blipFill>
        <p:spPr>
          <a:xfrm>
            <a:off x="1085760" y="990720"/>
            <a:ext cx="69724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acc8"/>
                </a:solidFill>
                <a:latin typeface="Arial"/>
              </a:rPr>
              <a:t>2016 Transmission Loss vs. UF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2743200" y="65530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7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8534520" y="6561000"/>
            <a:ext cx="533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75F5-1C26-480C-9A91-8DF2D64FB7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Content Placeholder 6" descr=""/>
          <p:cNvPicPr/>
          <p:nvPr/>
        </p:nvPicPr>
        <p:blipFill>
          <a:blip r:embed="rId1"/>
          <a:stretch/>
        </p:blipFill>
        <p:spPr>
          <a:xfrm>
            <a:off x="1085760" y="990720"/>
            <a:ext cx="69724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7-06-09T16:52:03Z</dcterms:modified>
  <cp:revision>1212</cp:revision>
  <dc:subject/>
  <dc:title>Instructions</dc:title>
</cp:coreProperties>
</file>