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9B133-C550-4CE9-970D-0FA6BC0AF8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43B2D-43D2-4A80-ACCD-B9F0A0685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1D50F-B749-46E5-BD37-DEE4AC013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F8F0F-E11E-47CA-A6F0-6509D7845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9B712-7DE5-42F4-A00C-D52EB4B7F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D471B-B887-4337-B1E9-A3826EDF0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E513-1110-49DF-8E23-96C266BF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CA7C-69A2-4240-AEFF-84B0EFCF1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BA1D4-F6DB-421D-970C-2CAA43FE0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FC52-9FB0-4B20-AF5F-093496C32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F735-4B74-41A6-BBEA-AA5A6093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B9F1A-2F84-4D17-92E9-D9B89E5C0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4D65-6152-48DC-B35A-2BACF013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908B-4E16-47AF-9C6C-C6439D03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621B6-BDBB-4C70-B3C5-5048113A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0ACF-C6C5-4C02-9CAC-A035D94C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BC0B-4652-4998-9043-DCABE02BA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507AD-D6C6-4E68-BDBB-D2BB22ED8B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89306-E682-4109-A783-F28D3CE1E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7EDE7-DADC-49CE-9F85-A1D44BF3C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y 25,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4, Alignment of EEA Level 3 with NERC Reliability Standards EOP-011-1 and BAL-001-2 [ERCOT]</a:t>
            </a:r>
            <a:endParaRPr b="0" lang="en-US" sz="1800" spc="-1" strike="noStrike">
              <a:solidFill>
                <a:srgbClr val="000000"/>
              </a:solidFill>
              <a:latin typeface="Arial"/>
            </a:endParaRPr>
          </a:p>
        </p:txBody>
      </p:sp>
      <p:sp>
        <p:nvSpPr>
          <p:cNvPr id="190"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Protocol language with North American Electric Reliability Corporation (NERC) Reliability Standards: Attachment 1, Energy Emergency Alerts, of EOP-011-1, Emergency Operations, and BAL-001-2, Real Power Balancing Control Performan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4/13/17, PRS voted unanimously to recommend approval of NPRR824 as submitted.  On 5/11/17, PRS voted unanimously to endorse and forward to TAC the 4/13/17 PRS Report, as revised by PRS, and the Impact Analysis for NPRR8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0, Revision of 4-Coincident Peak Methodology – URGENT [ERCOT]</a:t>
            </a:r>
            <a:endParaRPr b="0" lang="en-US" sz="1800" spc="-1" strike="noStrike">
              <a:solidFill>
                <a:srgbClr val="000000"/>
              </a:solidFill>
              <a:latin typeface="Arial"/>
            </a:endParaRPr>
          </a:p>
        </p:txBody>
      </p:sp>
      <p:sp>
        <p:nvSpPr>
          <p:cNvPr id="192"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ne 14, 2017 - Priority 2017; Rank 201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20k and $160k; no impacts to ERCOT staffing; impacts to Settlements and Billing (S&amp;B) and DAIP;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vises the basis of ERCOT’s calculation of the 4-Coincident Peak (4-C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5/11/17, PRS unanimously voted to grant NPRR830 Urgent status.  PRS then unanimously voted to recommend approval of NPRR830 as revised by PRS; to forward NPRR830 and the Revised Impact Analysis to TAC with a priority of 2017 and rank of 2010; and a recommended effective date of upon ERCOT Board appr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1, Inclusion of Private Use Networks in Load Zone Price Calculations – URGENT [ERCOT]</a:t>
            </a:r>
            <a:endParaRPr b="0" lang="en-US" sz="1800" spc="-1" strike="noStrike">
              <a:solidFill>
                <a:srgbClr val="000000"/>
              </a:solidFill>
              <a:latin typeface="Arial"/>
            </a:endParaRPr>
          </a:p>
        </p:txBody>
      </p:sp>
      <p:sp>
        <p:nvSpPr>
          <p:cNvPr id="194" name="Rectangle 2"/>
          <p:cNvSpPr/>
          <p:nvPr/>
        </p:nvSpPr>
        <p:spPr>
          <a:xfrm>
            <a:off x="487440" y="879480"/>
            <a:ext cx="8157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56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00k and $150k; no impacts to ERCOT staffing; impacts to </a:t>
            </a:r>
            <a:r>
              <a:rPr b="0" lang="en-US" sz="1800" spc="-1" strike="noStrike">
                <a:solidFill>
                  <a:srgbClr val="000000"/>
                </a:solidFill>
                <a:latin typeface="Arial"/>
              </a:rPr>
              <a:t>	</a:t>
            </a:r>
            <a:r>
              <a:rPr b="0" lang="en-US" sz="1800" spc="-1" strike="noStrike">
                <a:solidFill>
                  <a:srgbClr val="000000"/>
                </a:solidFill>
                <a:latin typeface="Arial"/>
              </a:rPr>
              <a:t>Energy Management System (EMS), Data Access &amp; Transparency, DAIP, Market Management Systems (MMS), BI &amp; Data Analytics;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market systems in order to calculate a net Load value for each Private Use Network that will be included in the Load Zone price for all markets, Congestion Revenue Rights (CRRs), Day-Ahead Market (DAM), and Real-Time Market (RTM), when the Load is a net consumer from the ERCOT Transmission Grid. This NPRR also clarifies that Private Use Network net Load will be redacted from the Electrical Bus Load distribution factors and other information necessary to forecast Electrical Bus Loads that is posted to the Market Information System (MIS) Public Area pursuant to Section 6.3.2, Activities for Real-Time Oper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5/11/17, PRS unanimously voted to grant NPRR831 Urgent status.  PRS then unanimously voted to recommend approval of NPRR831 as revised by PRS; and to forward NPRR831 and the Impact Analysis to TAC with a priority of 2017 and rank of 15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796, Extended Character Set Clean Up*</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20, Clarification of Aggregate Generation Resource (AGR) Defini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24, Alignment of EEA Level 3 with NERC Reliability Standards EOP-011-1 and BAL-001-2*</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562, Subsynchronous Resonance</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25k and $35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1990</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30, Revision of 4-Coincident Peak Methodology – URGENT </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120k and $16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2010</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31, Inclusion of Private Use Networks in Load Zone Price Calculations – URG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100k and $15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1568</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7, Disallow PTP Obligation Bid Award where Clearing Price exceeds Bid Price – URG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1, Two Day Cure Period for Foreign Market Participant Guarantee Agre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6, Clarification of Definitions of FIP and FOP</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7, Disallow PTP Obligation Bid Award where Clearing Price exceeds Bid Price</a:t>
            </a:r>
            <a:endParaRPr b="0" lang="en-US" sz="2000" spc="-1" strike="noStrike">
              <a:solidFill>
                <a:srgbClr val="000000"/>
              </a:solidFill>
              <a:latin typeface="Arial"/>
            </a:endParaRPr>
          </a:p>
        </p:txBody>
      </p:sp>
      <p:graphicFrame>
        <p:nvGraphicFramePr>
          <p:cNvPr id="181" name=""/>
          <p:cNvGraphicFramePr/>
          <p:nvPr/>
        </p:nvGraphicFramePr>
        <p:xfrm>
          <a:off x="285840" y="700200"/>
          <a:ext cx="8585280" cy="5367240"/>
        </p:xfrm>
        <a:graphic>
          <a:graphicData uri="http://schemas.openxmlformats.org/drawingml/2006/table">
            <a:tbl>
              <a:tblPr/>
              <a:tblGrid>
                <a:gridCol w="1245960"/>
                <a:gridCol w="7339320"/>
              </a:tblGrid>
              <a:tr h="1114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rescent Powe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odal Protocol Revision Request (NPRR) disallows ERCOT from awarding Point-to-Point (PTP) Obligations in the Day-Ahead Market (DAM) where the corresponding clearing price is greater than the bid price for the PTP Oblig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71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4/13/17, PRS unanimously voted to grant NPRR827 Urgent status.  PRS then unanimously voted to table NPRR827 for one month and refer the issue to WMS.  On 5/11/17, PRS voted to recommend approval of NPRR827 as amended by the 5/4/17 WMS comments, as revised by PRS; and to forward to TAC.  There was one opposing vote from the Independent Retail Electric Provider (IREP) Market Segment and two abstentions from the Cooperative and Independent Power Marketer (IPM)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ss than $10k (O&amp;M); no impacts to ERCOT staffing; impacts to Market Management System (MM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63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events harm to Market Participants by disallowing ERCOT from awarding PTP Obligations in DAM where the corresponding clearing price is greater than the bid price for the PTP Obligation.  This situation arises due to some modeling issues that need to be resolved and any resolution will take many months to implement.  The language change in this NPRR does not need to be undone with final resolution of this issue as any resolution of this issue must honor the fact the PTP Obligation bid price reflects the maximum willingness to pay by the bidde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562, Subsynchronous Resonance [ERCOT]</a:t>
            </a:r>
            <a:endParaRPr b="0" lang="en-US" sz="1800" spc="-1" strike="noStrike">
              <a:solidFill>
                <a:srgbClr val="000000"/>
              </a:solidFill>
              <a:latin typeface="Arial"/>
            </a:endParaRPr>
          </a:p>
        </p:txBody>
      </p:sp>
      <p:sp>
        <p:nvSpPr>
          <p:cNvPr id="184"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9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35k; no impacts to ERCOT staffing; impacts to Data and Information Products (DAIP), Energy Management System (EMS), Data Access &amp; Transparency, and BI &amp; Data Analytics;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reates a process for investigating and addressing Subsynchronous Resonance (SSR) risk and clarifies the responsibilities of the various Entities affec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3/9/17, PRS unanimously voted to recommend approval of NPRR562 as amended by the 3/3/17 ERCOT comments.  On 4/13/17, PRS unanimously voted to endorse and forward to TAC the 3/9/17 PRS Report, as revised by PRS, and Revised Impact Analysis for NPRR562 with a recommended priority of 2017 and rank of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6, Extended Character Set Clean Up [ERCOT]</a:t>
            </a:r>
            <a:endParaRPr b="0" lang="en-US" sz="1800" spc="-1" strike="noStrike">
              <a:solidFill>
                <a:srgbClr val="000000"/>
              </a:solidFill>
              <a:latin typeface="Arial"/>
            </a:endParaRPr>
          </a:p>
        </p:txBody>
      </p:sp>
      <p:sp>
        <p:nvSpPr>
          <p:cNvPr id="186"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specifies that character set validations are available within each Texas Standard Electronic Transaction (TX SET) Implementation Guid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4/13/17, PRS unanimously voted to recommend approval of NPRR796 as amended by the 12/14/16 ERCOT comments.  On 5/11/17, PRS unanimously voted to endorse and forward to TAC the 4/13/17 PRS Report and Impact Analysis for NPRR7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0, Clarification of Aggregate Generation Resource (AGR) Definition [ERCOT]</a:t>
            </a:r>
            <a:endParaRPr b="0" lang="en-US" sz="1800" spc="-1" strike="noStrike">
              <a:solidFill>
                <a:srgbClr val="000000"/>
              </a:solidFill>
              <a:latin typeface="Arial"/>
            </a:endParaRPr>
          </a:p>
        </p:txBody>
      </p:sp>
      <p:sp>
        <p:nvSpPr>
          <p:cNvPr id="188"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the definition of an Aggregate Generation Resource (AGR) with paragraph (1) of Section 16.5, Registration of a Resource Entity, which allows a Resource Entity to submit a proposal to register the aggregation of generators, with the exception of Intermittent Renewable Resources (IRRs), as an AG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3/9/17, PRS voted unanimously to recommend approval of NPRR820 as submitted.  On 4/13/17, PRS voted unanimously to endorse and forward to TAC the 3/9/17 PRS Report and Impact Analysis for NPRR8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 Boren</cp:lastModifiedBy>
  <cp:lastPrinted>2013-01-30T23:16:36Z</cp:lastPrinted>
  <dcterms:modified xsi:type="dcterms:W3CDTF">2017-05-18T14:26:38Z</dcterms:modified>
  <cp:revision>35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