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A1C5E-933D-4FD0-AA75-33ED1D4AB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83A93-65F4-450F-A466-FAD51B6D5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C5789-7386-4BF8-966E-E8A94B572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1F945-A9CC-44E7-AE3A-92D11AEE3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B42A6-36A7-4966-BF33-AD3F6A93C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DBD-EEAB-464E-B7B9-7E52D693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73C-75E7-4221-BECA-C2D367F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4CCE7-45F6-4B96-A1CC-5E5A057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EA8A9-35BF-46A4-9CEE-87B9679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CA031-B82B-4B74-91BC-233905DC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24806-3891-4BBB-839C-E44D81BA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48721-1E43-49A8-A077-5D2D37B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05BD1-E613-4FC1-827F-72D2C5B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3EBA6-E8BA-403E-B6BC-402DA658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1FED2-1135-4233-8412-6A1A0165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3F7BB-3E38-4B22-95E8-6A7219B2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04778-8F37-440B-8DDA-66BD814B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3C5-706C-4B9C-8F02-40194E94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287230-0FFF-41E4-B0E6-E01D6B9C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66B9D6-EA03-48B0-ABBE-4BD85B7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5FE6C-9CA4-4C86-B9EF-F07A346A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F4C92-895C-4130-875C-C34DA50F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7DCD5-C524-4098-8BB2-75E9B071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2A37A-63BC-481F-8139-C97C88C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F0FBB-1422-4761-B67E-4E80D02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B00FE-830F-46B3-9165-7CA7DF0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EE2AE-3D12-4859-9AF8-E874856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3AD4A-ACB3-41CA-874A-BAF7C039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7E1-85CA-4877-8E03-898A0169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2BDA2-30A2-4FE6-AF9D-F0E9CA8A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3A85-2296-4CC4-A78F-96BD4FC2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443-AF6E-473F-9081-A80518A0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4CAB-EBE3-4B97-BDDE-297D1C9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726C-B9E6-486D-99EE-3997F472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62E4-7127-4B40-A07E-88221F70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C729-A4D8-4AD7-A31B-4CE926C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C82-2353-44E0-BAB3-6A82DAE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F6B-CD83-4332-9C69-6638BD9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0C18-2EE9-456B-88C2-BAFAEE9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1DC7-51D5-4041-8965-43AD873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B833-12F6-4ABF-BAAF-64B3D3C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661-3DDA-4611-B775-3EB4521E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553C-3DEC-46BA-AE39-B5277EB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F43-6AC6-46E4-8AAA-6A72F16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FBD-6D57-4BDA-BE1D-8ED64477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A3F14-D48D-4EEB-9074-6C6D7F5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B33-9D7F-4AD0-AE3F-256CAFCC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99C3F-6CF8-4314-A3CF-FC2F6E0C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037DB-4EE7-4AD5-AD42-BB59FB9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763E5-12A6-4630-AD40-28E17E1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79939-09C1-497C-818F-9CC4DA2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2CEE2-754C-4204-B13B-892F6B4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9A8C8-6849-4C89-9FA3-279DBA6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B9942-40B4-44C3-BB73-391F1D6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6FABE-C6E5-4549-9B3E-C078750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AFE19-CD7F-4677-8549-DCA8DF3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B7A23-19A8-4132-A50B-316E7C34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551-D540-4891-883E-3633BE6C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78914-FC84-4DAE-B8A2-D465CA96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B0A01-191E-4D47-90DD-3B2215EC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D210D-077B-49CE-A6F7-AEE6C6E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4DBE9-4759-4688-9658-7C44BF68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133AC-91DF-423E-8D24-741E4945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79CDA-704D-46F3-8103-226FFED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5BED3-F3B9-44EC-B7DF-6A907C8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3FAC9-598E-46F0-A764-A37E058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77AFE-DFF3-4396-AA04-862F6295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24FF0-D8D6-4700-9D70-6EA34BD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B9D-A999-4DDF-AFC6-D2F9CC5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3EE5C-AE3D-4DA2-93D1-ADA36A3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A0D65-C306-48CB-BEEE-ECDC80AA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D9DEE-E7DE-4596-A647-B2437365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F31CB-196D-406F-9405-8C389F2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3C3F2-4BA9-4069-B9C2-75DA5EE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A47E5-D452-47C3-B9EC-32A699E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E5EB6-96A2-406E-B514-B81E22D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91021-718D-4E8D-9D3C-0C4F834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648B7-B2DA-4FA5-AFAB-72DCD670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F8638-3FE2-4A2F-9E36-7338C57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A7C-D837-4673-B102-957CE1F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4DC19-063E-48D3-9FD0-8098E8A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DA67E-A6F2-498C-8008-93662E0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6BADD-4FD2-46F5-B339-D6E01540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B4A20-DE63-40D5-92E7-00D781D6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59EB3-4A86-4498-B7EE-A94C81CF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2C3E7-6E36-42BC-89C7-35A0C145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EC048-7301-46FD-BAF2-DC4A9D9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3A90C-996F-4EF4-A5F1-8F18385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C046B-6757-49A1-BDC5-020BCD6F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71425-EF7C-4740-9480-43A0549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AA6-6D60-4E07-B221-73621EA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F7FA5-2B16-46A8-818F-8AF897B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4DB2E-CCF9-47B7-B8E6-FAB8D781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4989E-2683-4202-97EA-0360FB8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596AE-8A48-48B1-981A-746FA2C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1C646-29F2-4384-99C4-75DDBFB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E9BD6-2E96-4CE2-8EB1-4ADB9FB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BCD4B-D868-4F58-8061-D59FA71A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C48BB-3EE6-4113-9A47-D7A09F58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FD6588-A13D-4004-BD1A-D0D823D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915B6-F72A-4827-890B-A3E7325C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3BCA2-C18E-49DC-A7B9-DA79C8662E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91F7-8991-408F-85DF-67E6CC8ED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48EB6-5650-4123-BEA2-C91D203D0AB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00D04-4AC0-43A1-B717-830813F2C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93CFE-D82F-4A22-A14E-33B085EA99C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03895-913D-4A64-9078-AAE0B0C8E2C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40315-B498-4458-98B0-8718A9EB09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87BF8-B0E3-4AA7-8C22-5FF4FB0DADC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64FE8-F321-4605-9F3E-82F21FABE9B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D88F9-4F4E-43C4-8A06-9072A45A45C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4C9F6-69DE-4D98-8784-524335719C0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93AE4-34D9-4896-8E97-8AEB89A46FF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77FCB-B70F-413E-AAF5-89AFA8E3C80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DB1C9-700B-43C4-A4DC-F349385251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5D38F-3731-41F6-B531-745C005E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AA14F-8379-4090-BC54-706E2E2F214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DD85F-6817-4D33-BB60-303E940C6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0834F-9E73-4A87-9F99-A9350CFF63B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B3345-C831-407F-9509-5758E17B8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7B36C-41A0-49B9-A322-01B3A18D463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D70B2-D010-41B7-8C3F-C4E4349C2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B7E11-32BA-4B4B-A100-310ED2A8EE7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FB460-7283-42BF-90FE-C6B429995082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762B9-DA48-476A-BE57-80BCE532974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73CF8-69CB-41CB-914E-0A7639A65C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vid K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Vice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57B96-CF0A-41BB-9DF0-59D381D636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ne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9D3CA-2A15-427E-912A-70CCFDEB8B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VCMRR018, Verifiable Cost Manual Revision Request Proces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MOGRR021, Settlement Metering Operating Guide Revision Request Proces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WMS Procedur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78AEA-381D-4004-95C6-B59EC3A845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witchable Generation Resources up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to take up white paper next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ries Capacitor Up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present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Economically Optimal Reserve Marg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AWG WebEx was May 2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Real-Time co-optimiz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cope being develop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ext SAWG is June 9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89DB8-A7AD-4AA7-89D8-636A236D7A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Kee, David  E .</cp:lastModifiedBy>
  <cp:lastPrinted>2016-09-28T13:51:23Z</cp:lastPrinted>
  <dcterms:modified xsi:type="dcterms:W3CDTF">2017-05-12T17:03:52Z</dcterms:modified>
  <cp:revision>90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