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47"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13FA-CC56-4897-8459-355BC34B3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66760" y="692280"/>
            <a:ext cx="4616640" cy="3463920"/>
          </a:xfrm>
          <a:prstGeom prst="rect">
            <a:avLst/>
          </a:prstGeom>
          <a:ln w="0">
            <a:noFill/>
          </a:ln>
        </p:spPr>
      </p:sp>
      <p:sp>
        <p:nvSpPr>
          <p:cNvPr id="27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FFAA-9CFC-4B91-9790-B844068E4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6760" y="692280"/>
            <a:ext cx="4616640" cy="3463920"/>
          </a:xfrm>
          <a:prstGeom prst="rect">
            <a:avLst/>
          </a:prstGeom>
          <a:ln w="0">
            <a:noFill/>
          </a:ln>
        </p:spPr>
      </p:sp>
      <p:sp>
        <p:nvSpPr>
          <p:cNvPr id="27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A07F-A2E3-4EBE-AFFE-556D0C271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66760" y="692280"/>
            <a:ext cx="4616640" cy="3463920"/>
          </a:xfrm>
          <a:prstGeom prst="rect">
            <a:avLst/>
          </a:prstGeom>
          <a:ln w="0">
            <a:noFill/>
          </a:ln>
        </p:spPr>
      </p:sp>
      <p:sp>
        <p:nvSpPr>
          <p:cNvPr id="278"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136B-8D3A-447C-9C0B-9F1A1D044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6760" y="692280"/>
            <a:ext cx="4616640" cy="3463920"/>
          </a:xfrm>
          <a:prstGeom prst="rect">
            <a:avLst/>
          </a:prstGeom>
          <a:ln w="0">
            <a:noFill/>
          </a:ln>
        </p:spPr>
      </p:sp>
      <p:sp>
        <p:nvSpPr>
          <p:cNvPr id="28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B7C0-D89D-41EB-A323-3A43F1EC2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66760" y="692280"/>
            <a:ext cx="4616640" cy="3463920"/>
          </a:xfrm>
          <a:prstGeom prst="rect">
            <a:avLst/>
          </a:prstGeom>
          <a:ln w="0">
            <a:noFill/>
          </a:ln>
        </p:spPr>
      </p:sp>
      <p:sp>
        <p:nvSpPr>
          <p:cNvPr id="28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5951-409C-4517-8BCB-DB303F2A1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6760" y="692280"/>
            <a:ext cx="4616640" cy="3463920"/>
          </a:xfrm>
          <a:prstGeom prst="rect">
            <a:avLst/>
          </a:prstGeom>
          <a:ln w="0">
            <a:noFill/>
          </a:ln>
        </p:spPr>
      </p:sp>
      <p:sp>
        <p:nvSpPr>
          <p:cNvPr id="28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FD93-68A3-45CD-A351-E6A9E94FA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6760" y="692280"/>
            <a:ext cx="4616640" cy="3463920"/>
          </a:xfrm>
          <a:prstGeom prst="rect">
            <a:avLst/>
          </a:prstGeom>
          <a:ln w="0">
            <a:noFill/>
          </a:ln>
        </p:spPr>
      </p:sp>
      <p:sp>
        <p:nvSpPr>
          <p:cNvPr id="29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DF35-8572-4B09-8724-C1B6A4E98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6760" y="692280"/>
            <a:ext cx="4616640" cy="3463920"/>
          </a:xfrm>
          <a:prstGeom prst="rect">
            <a:avLst/>
          </a:prstGeom>
          <a:ln w="0">
            <a:noFill/>
          </a:ln>
        </p:spPr>
      </p:sp>
      <p:sp>
        <p:nvSpPr>
          <p:cNvPr id="29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645D-DEBB-4D12-A769-8B33695B6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2C7CA61-F57F-4095-96CC-BD0B69778C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08C4276-419E-49EC-BD2F-E232C8B97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DFF84D2-428A-4B7B-9EF2-4D88FA0899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D362203-72EA-40C0-92AA-4F8B8963FF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D79CC-A518-487E-A1A1-2C88F4C43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1BE2B-8D95-42AC-AC41-A8998089E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FACCB-591F-426C-8ED7-D827700CD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4088D-34A2-4AE1-82B4-01E2C94AD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3509D-D288-4DE9-AA68-A54380D2A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951A6-DE0F-48B1-8961-5EB58A8CE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390C6-6470-446A-AE13-E650CD031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8445989-C4BC-4F5D-9272-49C5FE51C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292EC-276C-4920-8817-B65BC73A7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9C20C-A429-41DB-8933-BE4C52FCF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A19EA-5A5B-40C9-B454-B1B3E708B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CCF60-0473-4CA0-889D-968AB0A50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6584F-D48C-41A6-88E8-014449AF0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1C1B4B-E08E-4514-9BD4-709FE9F3C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157E10E-1523-45FC-A232-87565D580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A35130-0CED-43A4-82F5-15BD43F53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ADB84E-FC7E-41B5-A103-C04D62119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135FE5-F071-4CAD-9489-7E0B98DB3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89FE9B-CD67-4826-B1FF-7EA6F8A74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8FC177D-FD6F-40C8-9C02-2C48BE64A4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145B-6832-4C6D-830D-148531D95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48CE-FE99-4140-94FE-0B9FA01A5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C6E5F-2C59-4CE5-A254-73B84364079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3A892-841C-440A-B4EB-F34A8D6FE5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26"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Picture 11" descr=""/>
          <p:cNvPicPr/>
          <p:nvPr/>
        </p:nvPicPr>
        <p:blipFill>
          <a:blip r:embed="rId2"/>
          <a:stretch/>
        </p:blipFill>
        <p:spPr>
          <a:xfrm>
            <a:off x="212760" y="0"/>
            <a:ext cx="8718480" cy="13716000"/>
          </a:xfrm>
          <a:prstGeom prst="rect">
            <a:avLst/>
          </a:prstGeom>
          <a:ln w="0">
            <a:noFill/>
          </a:ln>
        </p:spPr>
      </p:pic>
      <p:sp>
        <p:nvSpPr>
          <p:cNvPr id="166"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1" descr=""/>
          <p:cNvPicPr/>
          <p:nvPr/>
        </p:nvPicPr>
        <p:blipFill>
          <a:blip r:embed="rId2"/>
          <a:stretch/>
        </p:blipFill>
        <p:spPr>
          <a:xfrm>
            <a:off x="212760" y="0"/>
            <a:ext cx="8718480" cy="13716000"/>
          </a:xfrm>
          <a:prstGeom prst="rect">
            <a:avLst/>
          </a:prstGeom>
          <a:ln w="0">
            <a:noFill/>
          </a:ln>
        </p:spPr>
      </p:pic>
      <p:sp>
        <p:nvSpPr>
          <p:cNvPr id="20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C926A-6FE2-4C8F-8E35-04A21CFC8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Michelle Trenary</a:t>
            </a:r>
            <a:br>
              <a:rPr sz="2800"/>
            </a:br>
            <a:r>
              <a:rPr b="0" lang="en-US" sz="2800" spc="-1" strike="noStrike">
                <a:solidFill>
                  <a:srgbClr val="000000"/>
                </a:solidFill>
                <a:latin typeface="Arial Black"/>
              </a:rPr>
              <a:t>5/25/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69" name=""/>
          <p:cNvSpPr txBox="1"/>
          <p:nvPr/>
        </p:nvSpPr>
        <p:spPr>
          <a:xfrm>
            <a:off x="533520" y="685440"/>
            <a:ext cx="8076960" cy="2590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June 14, 2017 (WebEx Only)</a:t>
            </a:r>
            <a:endParaRPr b="1"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AC Voting Items</a:t>
            </a:r>
            <a:endParaRPr b="0" lang="en-US" sz="2400" spc="-1" strike="noStrike">
              <a:solidFill>
                <a:srgbClr val="000000"/>
              </a:solidFill>
              <a:latin typeface="Arial Black"/>
            </a:endParaRPr>
          </a:p>
        </p:txBody>
      </p:sp>
      <p:sp>
        <p:nvSpPr>
          <p:cNvPr id="252" name=""/>
          <p:cNvSpPr txBox="1"/>
          <p:nvPr/>
        </p:nvSpPr>
        <p:spPr>
          <a:xfrm>
            <a:off x="266760" y="685800"/>
            <a:ext cx="8686800" cy="548640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62, Load Profiling Guide Revision Request Process, and</a:t>
            </a:r>
            <a:endParaRPr b="1"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MGRR046, Commercial Operations Market Guide Revision Request Process</a:t>
            </a:r>
            <a:endParaRPr b="1" lang="en-US" sz="2400" spc="-1" strike="noStrike">
              <a:solidFill>
                <a:srgbClr val="000000"/>
              </a:solidFill>
              <a:latin typeface="Arial"/>
            </a:endParaRPr>
          </a:p>
          <a:p>
            <a:pPr lvl="1" marL="743040" indent="-343080">
              <a:spcBef>
                <a:spcPts val="5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posed Effective Date: June 1, 2017</a:t>
            </a:r>
            <a:endParaRPr b="0" lang="en-US" sz="2300" spc="-1" strike="noStrike">
              <a:solidFill>
                <a:srgbClr val="000000"/>
              </a:solidFill>
              <a:latin typeface="Arial"/>
            </a:endParaRPr>
          </a:p>
          <a:p>
            <a:pPr lvl="1" marL="743040" indent="-343080">
              <a:spcBef>
                <a:spcPts val="5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ines the process for revising the Load Profiling Guide and the Commercial Operations Market Guide so that RRs are originally considered at the voting Subcommittee level, and expands the list of LPGRRs requiring ERCOT Board approval</a:t>
            </a:r>
            <a:endParaRPr b="0" lang="en-US" sz="2300" spc="-1" strike="noStrike">
              <a:solidFill>
                <a:srgbClr val="000000"/>
              </a:solidFill>
              <a:latin typeface="Arial"/>
            </a:endParaRPr>
          </a:p>
          <a:p>
            <a:pPr lvl="1" marL="743040" indent="-343080">
              <a:spcBef>
                <a:spcPts val="5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igns with TAC 2017 Goal #14, Work with ERCOT Staff to develop Protocols and market improvements that support increased data transparency and data availability to the market</a:t>
            </a:r>
            <a:endParaRPr b="0" lang="en-US" sz="2300" spc="-1" strike="noStrike">
              <a:solidFill>
                <a:srgbClr val="000000"/>
              </a:solidFill>
              <a:latin typeface="Arial"/>
            </a:endParaRPr>
          </a:p>
          <a:p>
            <a:pPr lvl="2" marL="1143000" indent="-22860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4"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le Working Group </a:t>
            </a:r>
            <a:r>
              <a:rPr b="1" lang="en-US" sz="2400" spc="-1" strike="noStrike" u="sng">
                <a:solidFill>
                  <a:srgbClr val="000000"/>
                </a:solidFill>
                <a:uFillTx/>
                <a:latin typeface="Arial"/>
              </a:rPr>
              <a:t>Scope</a:t>
            </a:r>
            <a:r>
              <a:rPr b="1" lang="en-US" sz="2400" spc="-1" strike="noStrike">
                <a:solidFill>
                  <a:srgbClr val="000000"/>
                </a:solidFill>
                <a:latin typeface="Arial"/>
              </a:rPr>
              <a:t> Update</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Needed to align with updated roles from the LPGRR “overhaul”</a:t>
            </a:r>
            <a:endParaRPr b="0" lang="en-US" sz="2000" spc="-1" strike="noStrike">
              <a:solidFill>
                <a:srgbClr val="000000"/>
              </a:solidFill>
              <a:latin typeface="Arial"/>
            </a:endParaRPr>
          </a:p>
        </p:txBody>
      </p:sp>
      <p:pic>
        <p:nvPicPr>
          <p:cNvPr id="255" name="Picture 1" descr=""/>
          <p:cNvPicPr/>
          <p:nvPr/>
        </p:nvPicPr>
        <p:blipFill>
          <a:blip r:embed="rId1"/>
          <a:stretch/>
        </p:blipFill>
        <p:spPr>
          <a:xfrm>
            <a:off x="417600" y="1963800"/>
            <a:ext cx="8126280" cy="321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7"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SCR, Correction of 60-day SCED GRD Disclosure Report </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Approved draft SCR for submission to ERCOT</a:t>
            </a:r>
            <a:endParaRPr b="0" lang="en-US" sz="2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ed by the MDWG</a:t>
            </a:r>
            <a:endParaRPr b="0" lang="en-US" sz="2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es unused MW and price values in SCED Generation Resource Data (GRD) Energy Offer Curves with null values rather than zeroes</a:t>
            </a:r>
            <a:endParaRPr b="0" lang="en-US" sz="2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R831, Inclusion of Private Use Networks in Load Zone Price Calculations</a:t>
            </a:r>
            <a:endParaRPr b="0" lang="en-US" sz="24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Approved submission of Comments</a:t>
            </a:r>
            <a:endParaRPr b="0" lang="en-US" sz="2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reviewed NPRR831</a:t>
            </a:r>
            <a:endParaRPr b="0" lang="en-US" sz="2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ded that NPRR831 does not have any impacts to Settlement systems requiring further review</a:t>
            </a:r>
            <a:endParaRPr b="0" lang="en-US" sz="2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59" name=""/>
          <p:cNvSpPr txBox="1"/>
          <p:nvPr/>
        </p:nvSpPr>
        <p:spPr>
          <a:xfrm>
            <a:off x="266760" y="685440"/>
            <a:ext cx="86868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ort – April 2017</a:t>
            </a:r>
            <a:endParaRPr b="1" lang="en-US" sz="2400" spc="-1" strike="noStrike">
              <a:solidFill>
                <a:srgbClr val="000000"/>
              </a:solidFill>
              <a:latin typeface="Arial"/>
            </a:endParaRPr>
          </a:p>
          <a:p>
            <a:pPr marL="34308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1" lang="en-US" sz="2000" spc="-1" strike="noStrike">
              <a:solidFill>
                <a:srgbClr val="000000"/>
              </a:solidFill>
              <a:latin typeface="Arial"/>
            </a:endParaRPr>
          </a:p>
          <a:p>
            <a:pPr marL="34308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s &amp; Maintenance</a:t>
            </a:r>
            <a:endParaRPr b="1"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02/17 – ERCOT experienced an outage of the following services between 12:35 AM – 5:05 AM:</a:t>
            </a:r>
            <a:endParaRPr b="0" lang="en-US" sz="16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ing of extracts and reports from the MIS and External Web Services (EWS)</a:t>
            </a:r>
            <a:endParaRPr b="0" lang="en-US" sz="14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15/17 – ERCOT experienced an outage to the Market Information System (MIS) between 11:17 AM – 12:00 PM</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2/17 – ERCOT experienced an outage of the following services between 9:51 AM – 11:11 AM:</a:t>
            </a:r>
            <a:endParaRPr b="0" lang="en-US" sz="16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ing of extracts and reports from the MIS and External Web Services (EWS)</a:t>
            </a:r>
            <a:endParaRPr b="0" lang="en-US" sz="14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5/17 – Planned Maintenance (Site Failover – MPIM, Retail AP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6/17 – Planned Maintenance (Site Failover – External Web Servi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7/17 – Planned Maintenance (Site Failover – MI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7/17 – The Supplemental AMS Interval Data Extract (COMS-456, Report ID 1040) posted late at 11:30 AM on 04/28/2017</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9/17 – The Supplemental AMS Interval Data Extract (COMS-456, Report ID 1040) posted late at 12:17 AM on 04/30/2017</a:t>
            </a:r>
            <a:endParaRPr b="0" lang="en-US" sz="1600" spc="-1" strike="noStrike">
              <a:solidFill>
                <a:srgbClr val="000000"/>
              </a:solidFill>
              <a:latin typeface="Arial"/>
            </a:endParaRPr>
          </a:p>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1" name=""/>
          <p:cNvSpPr txBox="1"/>
          <p:nvPr/>
        </p:nvSpPr>
        <p:spPr>
          <a:xfrm>
            <a:off x="266760" y="761760"/>
            <a:ext cx="8686800" cy="5638680"/>
          </a:xfrm>
          <a:prstGeom prst="rect">
            <a:avLst/>
          </a:prstGeom>
          <a:noFill/>
          <a:ln w="0">
            <a:noFill/>
          </a:ln>
        </p:spPr>
        <p:txBody>
          <a:bodyPr anchor="t">
            <a:normAutofit/>
          </a:bodyPr>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 Neutrality Update by Aaron Townsend</a:t>
            </a:r>
            <a:endParaRPr b="0" lang="en-US" sz="24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Increase in Revenue Neutrality; Jan – Mar 2017 $42 million</a:t>
            </a:r>
            <a:endParaRPr b="0" lang="en-US" sz="2000" spc="-1" strike="noStrike">
              <a:solidFill>
                <a:srgbClr val="000000"/>
              </a:solidFill>
              <a:latin typeface="Arial"/>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cause is PTP obligation paymen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near PUNs caused High Settlement Point Prices without increasing the Load Zone pric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P’s sinking at the PUN Node can result in PTP payments without offsetting Load imbalance charg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831, Inclusion of PUN Networks in Load Zone Pricing Status submitted by ERCOT</a:t>
            </a:r>
            <a:endParaRPr b="0" lang="en-US" sz="1800" spc="-1" strike="noStrike">
              <a:solidFill>
                <a:srgbClr val="000000"/>
              </a:solidFill>
              <a:latin typeface="Arial"/>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selling of PTP’s that occur when a Node is islanded under a contingency in the DAM</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P modeling can result in overselling when source or sink settlement point are disconnected due to a contingency</a:t>
            </a:r>
            <a:endParaRPr b="0" lang="en-US" sz="1800" spc="-1" strike="noStrike">
              <a:solidFill>
                <a:srgbClr val="000000"/>
              </a:solidFill>
              <a:latin typeface="Arial"/>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Distribution Factors in DAM Model may not accurately represent load patterns in RT</a:t>
            </a:r>
            <a:endParaRPr b="0" lang="en-US" sz="1800" spc="-1" strike="noStrike">
              <a:solidFill>
                <a:srgbClr val="000000"/>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Update</a:t>
            </a:r>
            <a:endParaRPr b="0" lang="en-US" sz="2400" spc="-1" strike="noStrike">
              <a:solidFill>
                <a:srgbClr val="000000"/>
              </a:solidFill>
              <a:latin typeface="Arial Black"/>
            </a:endParaRPr>
          </a:p>
        </p:txBody>
      </p:sp>
      <p:sp>
        <p:nvSpPr>
          <p:cNvPr id="263" name=""/>
          <p:cNvSpPr txBox="1"/>
          <p:nvPr/>
        </p:nvSpPr>
        <p:spPr>
          <a:xfrm>
            <a:off x="266760" y="685440"/>
            <a:ext cx="8686800" cy="563868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Resettlement Rule (Protocol Sections 9.2.5 (2) and 9.5.6 (2))</a:t>
            </a:r>
            <a:endParaRPr b="1" lang="en-US" sz="2400" spc="-1" strike="noStrike">
              <a:solidFill>
                <a:srgbClr val="000000"/>
              </a:solidFill>
              <a:latin typeface="Arial"/>
            </a:endParaRPr>
          </a:p>
          <a:p>
            <a:pPr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submit Comments to NPRR819, Resettlement Clean-ups, with language to replace the current 2% Resettlement Rule</a:t>
            </a:r>
            <a:endParaRPr b="1" lang="en-US" sz="2000" spc="-1" strike="noStrike">
              <a:solidFill>
                <a:srgbClr val="000000"/>
              </a:solidFill>
              <a:latin typeface="Arial"/>
            </a:endParaRPr>
          </a:p>
          <a:p>
            <a:pPr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 Objectives:</a:t>
            </a:r>
            <a:endParaRPr b="1" lang="en-US" sz="20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lement a resettlement threshold that is fair to large and small MPs, replacing the existing 2% resettlement rule</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se the resettlement threshold on the DAM and RTM median settlement statement amounts</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the issue of small errors that cumulatively create an impact which exceeds a threshold that is fair to large and small MPs</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pose actual daily resettlements, as opposed to alternative settlement resolution, to provide for automation and systematic historical reference</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an error other than a pricing error that has a cumulative impact, designate a cutoff for the number of days the market will go back and resettle</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he cutoff for DAM resettlements due to the cumulative impact of an error other than a pricing error prior to the RTM True-up Resettlement, so its results are included in the resettlement of the RTM </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 the number of resettlements due to errors other than pricing errors to the Settlement Stability Report for visibility into and review of the impact of NPRR819</a:t>
            </a:r>
            <a:endParaRPr b="1" lang="en-US" sz="1500" spc="-1" strike="noStrike">
              <a:solidFill>
                <a:srgbClr val="000000"/>
              </a:solidFill>
              <a:latin typeface="Arial"/>
            </a:endParaRPr>
          </a:p>
          <a:p>
            <a:pPr lvl="3" marL="1371600" indent="-457200">
              <a:spcBef>
                <a:spcPts val="2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MDWG Update</a:t>
            </a:r>
            <a:endParaRPr b="0" lang="en-US" sz="2400" spc="-1" strike="noStrike">
              <a:solidFill>
                <a:srgbClr val="000000"/>
              </a:solidFill>
              <a:latin typeface="Arial Black"/>
            </a:endParaRPr>
          </a:p>
        </p:txBody>
      </p:sp>
      <p:sp>
        <p:nvSpPr>
          <p:cNvPr id="265" name=""/>
          <p:cNvSpPr txBox="1"/>
          <p:nvPr/>
        </p:nvSpPr>
        <p:spPr>
          <a:xfrm>
            <a:off x="266760" y="685440"/>
            <a:ext cx="8686800" cy="5638680"/>
          </a:xfrm>
          <a:prstGeom prst="rect">
            <a:avLst/>
          </a:prstGeom>
          <a:noFill/>
          <a:ln w="0">
            <a:noFill/>
          </a:ln>
        </p:spPr>
        <p:txBody>
          <a:bodyPr anchor="t">
            <a:normAutofit/>
          </a:bodyPr>
          <a:p>
            <a:pPr lvl="1"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7 Priorities</a:t>
            </a:r>
            <a:endParaRPr b="0" lang="en-US" sz="24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 Change Visibility/Change Management</a:t>
            </a:r>
            <a:endParaRPr b="0" lang="en-US" sz="20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ising awareness of issues related to down-stream impacts of data product changes</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ibuting to process improvements</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DWG is preparing a whitepaper for review</a:t>
            </a:r>
            <a:endParaRPr b="0" lang="en-US" sz="19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WS Modifications</a:t>
            </a:r>
            <a:endParaRPr b="0" lang="en-US" sz="20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inuing solution proposals</a:t>
            </a:r>
            <a:endParaRPr b="0" lang="en-US" sz="19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Quick-Start Guide</a:t>
            </a:r>
            <a:endParaRPr b="0" lang="en-US" sz="20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rted process of evaluating and test driving the guide ERCOT created for Market Participants</a:t>
            </a:r>
            <a:endParaRPr b="0" lang="en-US" sz="1900" spc="-1" strike="noStrike">
              <a:solidFill>
                <a:srgbClr val="000000"/>
              </a:solidFill>
              <a:latin typeface="Arial"/>
            </a:endParaRPr>
          </a:p>
          <a:p>
            <a:pPr lvl="1"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Release 6 Changes; Go-live 12/6/17 – 12/8/17</a:t>
            </a:r>
            <a:endParaRPr b="0" lang="en-US" sz="24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o Load Forecast Distribution Factors report publishing frequency</a:t>
            </a:r>
            <a:endParaRPr b="0" lang="en-US" sz="20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s in ERCOT Region report automated and published in MIS</a:t>
            </a:r>
            <a:endParaRPr b="0" lang="en-US" sz="20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PWG Update</a:t>
            </a:r>
            <a:endParaRPr b="0" lang="en-US" sz="2400" spc="-1" strike="noStrike">
              <a:solidFill>
                <a:srgbClr val="000000"/>
              </a:solidFill>
              <a:latin typeface="Arial Black"/>
            </a:endParaRPr>
          </a:p>
        </p:txBody>
      </p:sp>
      <p:sp>
        <p:nvSpPr>
          <p:cNvPr id="267"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Process</a:t>
            </a:r>
            <a:endParaRPr b="1"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validations are in progress</a:t>
            </a:r>
            <a:endParaRPr b="0"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observed spikes for required changes, e.g., RESHIWR to RESLOWR</a:t>
            </a:r>
            <a:endParaRPr b="0"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methodologies used</a:t>
            </a:r>
            <a:endParaRPr b="0"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the process and determining if it is still necessary</a:t>
            </a:r>
            <a:endParaRPr b="0"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ing the Impact Analysis for LPGRR063, Modification of Oil &amp; Gas Profile Requests</a:t>
            </a:r>
            <a:endParaRPr b="1"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G will review the Annual UFE Report on May 31, 2017 </a:t>
            </a:r>
            <a:endParaRPr b="1" lang="en-US" sz="2400" spc="-1" strike="noStrike">
              <a:solidFill>
                <a:srgbClr val="000000"/>
              </a:solidFill>
              <a:latin typeface="Arial"/>
            </a:endParaRPr>
          </a:p>
          <a:p>
            <a:pPr lvl="1" marL="85716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05-22T19:44:49Z</dcterms:modified>
  <cp:revision>1851</cp:revision>
  <dc:subject/>
  <dc:title>Instructions</dc:title>
</cp:coreProperties>
</file>