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3BC13-4568-49A0-8868-524B9653D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249A5-1B01-48A3-A9C4-7B1DEE9AC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58465-6520-4168-A2C8-303CE0D9D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BF1A3-7F8D-4680-A2ED-FDE5880F4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1BB77-7AE3-4B37-83A2-EA95F54FC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90A-224D-45C2-9A2D-413022DD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F75-85B9-4F39-8232-DE0A6C79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B580C9-0220-4840-A8A3-E6DF4E48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EE1F7D-FA35-4B6F-A273-7FACE769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203DB7-66D2-4852-8E32-DDDD1B2D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ED356-9787-4D5C-B394-4AD7C45C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0AF3FC-B065-49FE-94BF-ED2CAD02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59CAA6-3516-4A61-9C57-5A88ACAF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744B72-C5BD-458E-A4C2-7FB3EE87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88FE7B-A326-4D3B-8CF4-A4AA37C2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5671A4-97C7-470B-A16A-9A19FCD2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765856-C17F-4B59-B469-07276051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D78-0D25-451D-9934-EB3C73CF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867527-6FE1-4D2B-8C42-66354AE7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114C26-7C61-424C-9AC1-E75CEEF6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7E9D32-BCC3-4E3F-9CCF-1C421209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1BE8C2-2937-4DE8-BA9A-907A6D86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CD8C32-F454-4D11-BEAF-B7B44402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B5C237-9464-4464-9C0D-7A61062F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D45575-728B-47AB-AD27-2A1A002C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B6EEC2-22CF-434C-B37E-9123E537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68636A-B8A2-43E5-A74F-8BD07F3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D66239-0DB1-4650-B94D-0A0BF2D8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1B3-26F0-4DD9-B12C-30842B3A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1E903B-B183-4F6B-9304-C358B6D3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A39C-A321-46D5-8C70-F70E7D2D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5658-108A-428F-9FB9-C8548895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E435-527F-47C8-B32A-6ECA64E0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71E4-3C27-49DC-AEE0-1E9C9B58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80F5-2E9F-4C59-917F-D9333B6D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1A18-7309-429F-8100-A74C0517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744A-521D-4026-B8CC-65544C0B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838-3455-4B5D-83EA-53A02F66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BEA0-D50D-4D10-8552-740C9A6D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447B-1886-4A18-B2DD-4D43C0D9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5D37-CFD3-46F0-A6AF-9D0F713B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9974-86D3-40BF-9663-322A56BD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8CF3-EEEA-417C-B8B9-5B0D0624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23A-BD67-4A23-AD89-2C42FC51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A77-B821-4CD7-A347-0B563BA6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0D804-8639-40C0-A80C-67E653E3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FBD-78F1-499D-B6D9-42082A37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476C9-A760-470B-A06C-F30CE82A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038E7-216C-4293-8154-0614445C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19AAB9-EC05-4557-A794-1CAD5755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3A3F4-CE91-4FC0-B3FB-24F6A6D4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E0228-6BFA-47CF-A929-F2EE948A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6CD9D-4ADB-4874-9E6F-BF5E7B35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53131-7B6A-4D76-A247-1A8EA5B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241EC-F867-4767-BA97-0835241C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DF255D-BECF-4FDC-9EA8-5CA618C3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E1601-4EE3-428E-8BC8-708C5FFF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C12-699A-4582-BBFF-12B65864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726BB-9DC6-4B58-8636-114F2887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AB81C-0205-404D-9043-E8FC4027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EFFA6-7B46-4E88-BE50-C1D56ABB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A30EB-224B-4770-9838-B2A9A0B9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DCA0DE-19AA-4A8D-9973-81734310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20234-EDCD-48B7-8BCB-4738D705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3F411-B3E2-452C-8594-CA8292EF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89E51-2176-4C24-9030-13AFB06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F7778-D1E3-4124-8827-EED406D2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A0F68-9318-4D9B-A31E-4D6D1C57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591-FA03-45AC-9DCE-ADBCD85A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D0C98-8E5D-4690-8133-2FE81522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1B5CE-9035-44DD-9344-4A61D160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91CA6-023F-49B4-9FF6-A6C54A5B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6CECB-BD55-4A0B-8C77-7814446E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07787-D170-44F4-8900-A44DB1B2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85032-5661-4592-8C4F-2FF302ED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4606B-2CC6-4580-B07D-4BF3D759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23BAE-C7C9-43B1-9834-3186C766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93E30-BE59-40B7-8221-A8C1F780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5BEC9-E571-4872-A697-9CFB2A31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B1F-A9F8-4F6B-9049-6378C985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83E11-622B-425E-BB4C-A7E5583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1C11D-E90C-49AE-B3BD-85DF57A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3A70E-5738-4B25-A86E-9A7D4764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0B00C8-09F2-4543-81E8-F13CDE75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890F3-CE4B-4B1C-98A6-0CEF0282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40A93-3DBE-431B-989C-EE1E471F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5CD4D5-3B5B-4D73-B2F5-B1B08020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4E4A50-9D1E-4C73-A0EC-A70FBC4F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6FCE8-C6A8-4A77-B924-D8BED497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17A9E-DEBA-448B-94E8-D050C4A7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220-B43E-4E6F-B8BA-C7423BA5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F7485-E7DA-49CB-99B1-0DA89DF4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DB080-7785-4DC0-9953-DD32A977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CD250C-4A0A-415B-BFEE-AAF9894C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FD18C-504A-4E91-9274-55BCEBD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345E1-902A-4FA5-AF30-0EA1815A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106F7-55F9-4EF7-9FA9-3CA97EE2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A56DF-4579-462A-99FC-E8FAD561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9E0700-80FB-49DB-814A-FE35FB3B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1D8DD1-02B1-44AC-909C-1DB3013C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7F8D05-37BA-48D9-8917-D78CF99C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D72C9-4F2D-4241-A247-91A5B01ECCA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C1424-A4BA-4D72-B061-B1CB19051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1FF12-ADBC-4C21-B189-127D8B472C2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332AA-5D78-4528-9876-15CE56B5E9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939B7-981D-4616-B416-CC84E3DA5AA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6DC37-6725-488D-8807-01C3BEAB9B3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95C38-8ECF-45ED-8EEC-AF44396EB2A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0BAD2-604E-4FAC-BD49-CAC0A3E1B19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F90F4-7553-4E4A-A3E8-7645DF46040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88E74-6643-4DF7-8FF6-423C9F29C0A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C83EA-773D-401A-9042-FE285D5270D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186A2-739B-4771-9D50-47AC6371E2A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8CC5C-1956-4F34-A72F-1B14454E411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28D8E-00C7-4F1C-8E86-D6655EB064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071F0-CF11-4329-BB54-8C5BF2982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5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7F497-46BA-4810-AA5C-D12151870E5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7EFB2-947D-49B4-BF57-B9D42B93EF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582CA-9883-41A4-AD16-55927D3FE73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AE4D3-835E-45D9-BF5E-D733EA31F3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D0877-9260-4B43-90FD-EC66938C9C3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E8D1C-A86B-4480-A5D3-FF1D534F0F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4BEAC-FCDA-4757-A894-B19F382F554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92C70-83EE-4BB0-A7FB-013EFC132B81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870CF-714D-4FF9-BB1A-3CDD8A6741F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F41AC-D944-44DB-A927-F07F1003A4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vid K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7 WMS Vice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72F90-6369-46C4-B084-7AABB08EFC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y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June 7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CF2E2-F5EB-4DE2-A22E-7C4120F1E2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VCMRR018, Verifiable Cost Manual Revision Request Proces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MOGRR021, Settlement Metering Operating Guide Revision Request Proces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WMS Procedur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66522-A3E4-48CB-97CF-964ECD08C5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Other Discussion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witchable Generation Resources updat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to take up white paper next mon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ries Capacitor Updat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RCOT present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Economically Optimal Reserve Marg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AWG WebEx was May 2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Real-Time co-optimiz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cope being develop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ext SAWG is June 9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15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5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8A8D7-92F7-4242-9EFE-4665B08CC5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Kee, David  E .</cp:lastModifiedBy>
  <cp:lastPrinted>2016-09-28T13:51:23Z</cp:lastPrinted>
  <dcterms:modified xsi:type="dcterms:W3CDTF">2017-05-12T17:03:52Z</dcterms:modified>
  <cp:revision>909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