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DD8D-1D70-4C2C-BB3B-898E1DECF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8302-F06F-49FF-8FC2-A8F484DB1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5201E-EB77-4645-B7B7-EDE7225E5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218A8-6A33-4EB3-B34B-07934963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406FA-2010-4270-B4DA-BA1050D1A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3D0CE-3C66-44B2-98DC-AF49516F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0C58-10A6-43D5-B4D0-0EF451C17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A6CA-1009-4C9D-9EFD-04D74107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BD3D-1619-416D-94FB-63A31B00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52C4-437D-4CDE-9551-99C740A9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21DE-4319-433B-BA7D-A04A6AB1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9DE4-1BD1-46F6-B516-D14B2DEE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2524-C055-4D1E-9899-0B210CA9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5F93D-82B1-40B3-ACAD-6CE81351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D2DD-517D-4863-B8C2-4DC587F7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5A76-89E8-4F3E-BAC7-CD123977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57D5-8354-4ABA-B959-C564C77F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1291-210A-4988-9515-5CE75B2F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FC11-7B2E-4956-BEC2-ED105C85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F1A49-7995-4C33-9F2C-716ED18E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ACDCF-A6E0-490D-B349-62993A11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CF572-46EC-423E-9B08-E7BCD985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0A135-8617-4123-A334-FFBF2789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167A6-9547-42DA-BAD4-AE1895A3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DFE2A-8FD9-4B4D-8E2B-EB06DEA2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87D9C-8A56-471D-BCD5-2B164C39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65091-8B3C-4B67-BB40-47C2F2EB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7D773-166D-4298-9327-29E8CDA4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8A362-74FD-405E-A208-77485102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9DFC3-4FC8-4065-BABD-07C29A1B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08C7C-2294-4C24-8FB5-D0B0945C6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EB61A-B4DD-4C62-A062-6BD6518F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16210-61CF-452B-8616-0702C94E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9ED01-CC42-4639-88DD-EA9228A9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0FF04-40CA-4A9A-A239-471CD71B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26078-3E8F-47BA-9BF9-DDC97C2E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6EDB2-C4CC-4CEF-AB40-F40AFB64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35E7D-367F-4CBF-AFAE-A7A397D4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406C-BC5A-4F49-95E7-0CFC02925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10CF-5CEE-4BE1-B78A-33D0976D9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732E-EAF6-4842-A734-93B1A24ED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3FDF-C055-4B3A-8EC9-965B5E627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95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s/board/tac/cops/pwg/" TargetMode="Externa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C26B-5FC1-4840-B996-D59F6478E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Times New Roman"/>
              </a:rPr>
              <a:t>Profiling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Update to C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May 10th,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Sheri Wiegand (TXU) –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Sam Pak (Oncor) – Vice-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7220-EE23-4C75-A8D2-D7093CCF5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1112760" y="1249200"/>
            <a:ext cx="6918480" cy="23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buClr>
                <a:srgbClr val="3c8c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3c8c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PWG proposed to revise the </a:t>
            </a:r>
            <a:r>
              <a:rPr b="1" lang="en-US" sz="2000" spc="-1" strike="noStrike">
                <a:solidFill>
                  <a:srgbClr val="3c8c93"/>
                </a:solidFill>
                <a:latin typeface="Arial"/>
              </a:rPr>
              <a:t>main meeting page </a:t>
            </a: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to align with updated roles from the LPGRR “overhaul”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3c8c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152280" y="22536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PWG Voting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" descr=""/>
          <p:cNvPicPr/>
          <p:nvPr/>
        </p:nvPicPr>
        <p:blipFill>
          <a:blip r:embed="rId1"/>
          <a:stretch/>
        </p:blipFill>
        <p:spPr>
          <a:xfrm>
            <a:off x="838080" y="2611440"/>
            <a:ext cx="7591680" cy="3005280"/>
          </a:xfrm>
          <a:prstGeom prst="rect">
            <a:avLst/>
          </a:prstGeom>
          <a:ln w="0">
            <a:noFill/>
          </a:ln>
        </p:spPr>
      </p:pic>
      <p:sp>
        <p:nvSpPr>
          <p:cNvPr id="188" name="TextBox 1"/>
          <p:cNvSpPr/>
          <p:nvPr/>
        </p:nvSpPr>
        <p:spPr>
          <a:xfrm>
            <a:off x="4048200" y="55306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6563-B0B4-4D2C-AFE6-5986A4AAA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1112760" y="1031760"/>
            <a:ext cx="6918480" cy="3623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buClr>
                <a:srgbClr val="3c8c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3c8c9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PWG reviewed and endorsed the </a:t>
            </a:r>
            <a:r>
              <a:rPr b="0" i="1" lang="en-US" sz="2000" spc="-1" strike="noStrike">
                <a:solidFill>
                  <a:srgbClr val="3c8c93"/>
                </a:solidFill>
                <a:latin typeface="Arial"/>
              </a:rPr>
              <a:t>Impact Analysis </a:t>
            </a: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for </a:t>
            </a:r>
            <a:r>
              <a:rPr b="1" lang="en-US" sz="2000" spc="-1" strike="noStrike">
                <a:solidFill>
                  <a:srgbClr val="3c8c93"/>
                </a:solidFill>
                <a:latin typeface="Arial"/>
              </a:rPr>
              <a:t>LPGRR062 – Load Profiling Guide Revision Reques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3c8c9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3c8c9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3c8c9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152280" y="22536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PWG Voting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"/>
          <p:cNvSpPr/>
          <p:nvPr/>
        </p:nvSpPr>
        <p:spPr>
          <a:xfrm>
            <a:off x="3962520" y="58482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7205760" cy="2367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2"/>
          <a:stretch/>
        </p:blipFill>
        <p:spPr>
          <a:xfrm>
            <a:off x="325440" y="2438280"/>
            <a:ext cx="1376280" cy="1285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"/>
          <p:cNvPicPr/>
          <p:nvPr/>
        </p:nvPicPr>
        <p:blipFill>
          <a:blip r:embed="rId3"/>
          <a:stretch/>
        </p:blipFill>
        <p:spPr>
          <a:xfrm>
            <a:off x="1658880" y="4230720"/>
            <a:ext cx="7147080" cy="2490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"/>
          <p:cNvPicPr/>
          <p:nvPr/>
        </p:nvPicPr>
        <p:blipFill>
          <a:blip r:embed="rId4"/>
          <a:stretch/>
        </p:blipFill>
        <p:spPr>
          <a:xfrm>
            <a:off x="1012680" y="4718160"/>
            <a:ext cx="151308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69720" y="297000"/>
            <a:ext cx="70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Annual Validation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DFE6-8931-4DCA-9B78-B83292E40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1"/>
          <a:stretch/>
        </p:blipFill>
        <p:spPr>
          <a:xfrm>
            <a:off x="133200" y="1120680"/>
            <a:ext cx="878220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69720" y="297000"/>
            <a:ext cx="70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Annual Validation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C739-FBDB-41EE-880A-86A8D5EA5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200160" y="1066680"/>
            <a:ext cx="84866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69720" y="297000"/>
            <a:ext cx="70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Annual Validation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28C9-4091-481B-838F-2C5145A18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" descr=""/>
          <p:cNvPicPr/>
          <p:nvPr/>
        </p:nvPicPr>
        <p:blipFill>
          <a:blip r:embed="rId1"/>
          <a:stretch/>
        </p:blipFill>
        <p:spPr>
          <a:xfrm>
            <a:off x="1676520" y="987480"/>
            <a:ext cx="579096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8DF9-62BA-4682-8AA4-16CC15240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571680" y="1028880"/>
            <a:ext cx="8001000" cy="494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PWG meeting da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31, 201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Ex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:30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c8c93"/>
                </a:solidFill>
                <a:uFillTx/>
                <a:latin typeface="Arial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Review Impact Analysis for LPGRR063 - Modification of Oil &amp; Gas Profile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Annual Validation update &amp;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spcBef>
                <a:spcPts val="876"/>
              </a:spcBef>
              <a:buClr>
                <a:srgbClr val="3c8c9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c8c93"/>
                </a:solidFill>
                <a:latin typeface="Arial"/>
              </a:rPr>
              <a:t>Spikes on revi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spcBef>
                <a:spcPts val="876"/>
              </a:spcBef>
              <a:buClr>
                <a:srgbClr val="3c8c9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c8c93"/>
                </a:solidFill>
                <a:latin typeface="Arial"/>
              </a:rPr>
              <a:t>Method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>
              <a:spcBef>
                <a:spcPts val="876"/>
              </a:spcBef>
              <a:buClr>
                <a:srgbClr val="3c8c9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c8c93"/>
                </a:solidFill>
                <a:latin typeface="Arial"/>
              </a:rPr>
              <a:t>Is the process necessa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Annual 2016 UFE Report 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1"/>
          <p:cNvSpPr/>
          <p:nvPr/>
        </p:nvSpPr>
        <p:spPr>
          <a:xfrm>
            <a:off x="519120" y="139716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s/board/tac/cops/pwg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1844-CFA4-4022-8814-87E10D334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1" descr=""/>
          <p:cNvPicPr/>
          <p:nvPr/>
        </p:nvPicPr>
        <p:blipFill>
          <a:blip r:embed="rId1"/>
          <a:stretch/>
        </p:blipFill>
        <p:spPr>
          <a:xfrm>
            <a:off x="2363760" y="1219320"/>
            <a:ext cx="441648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Wiegand, Sheri</cp:lastModifiedBy>
  <dcterms:modified xsi:type="dcterms:W3CDTF">2017-05-05T14:34:56Z</dcterms:modified>
  <cp:revision>1205</cp:revision>
  <dc:subject/>
  <dc:title>Instructions</dc:title>
</cp:coreProperties>
</file>