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E164-3729-4480-A46B-0712982E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877F-578F-4794-8D31-190A544D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57D96-A21A-46D8-B2C0-B5E28414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CF686-947F-4595-8853-72AEBF01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BC550-2C70-41CF-843B-03B4858A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1DD1E-91A2-43DB-A461-CE6E26F6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F8401-E56A-4505-8489-A14FA846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CDA29-02A1-4983-9E12-6B2D61BD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9B04A-6E85-4519-9FE1-26278E88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EF3DE-D533-455C-B12A-E23271CD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CB87C-85E8-4E10-A5FB-0C221B20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8466B-4E21-497A-A108-1C18734B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7AB-E400-4357-AD15-EE58FEBB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678EE-E2B7-4EC5-A2F6-D58C1D7F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A8913-280A-4BAF-A646-02C86E99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E8468-AB92-485F-8AC5-F7807423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BE205-4813-4C28-B38F-B0F907EC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EC42D-B9DA-4286-852D-6E391C6A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518DB-7245-488A-BC3C-86C12CEE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E43F2-E9DF-41AD-9D06-E60D9F93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6582D-6D45-457E-9111-74F2434F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62D28-C83C-44CD-AB8B-DDED535B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54BE4-2CD9-4510-AA78-6AAFA1A0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B32B-6EDB-4062-9B28-456A9C42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D9CA6-F1E2-4B7F-B292-6FF6B850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D4769-562C-4094-BEF8-73A051A4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4322A-DE23-4019-8BD3-30E94867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B3518-6D13-4B56-983A-1D935135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FBA07-74BD-4D05-897D-B9B32911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25046-24F7-43BC-80B3-7BFCC9B6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41102-FBF8-4F9F-8A18-3C29BCC4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F66A8-4120-4769-A2EF-80E4CF79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65B96-E1C5-4316-B262-81BD96FE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105D2-0752-42AD-99C6-3A98609C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D223-83B0-4598-A329-689E22BE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ABD57-405E-4E71-B68D-45BDA18C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D72DE-10A7-4420-AA34-F9FF1152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959D7-6D61-4B03-B838-F2B19B7C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32AC0-CB3F-49C3-BFE9-5AB7C076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AEB74-72D9-4D78-8B62-6C6ACAAE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F1C63-8E84-43ED-9956-DDB56CF2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05872-36EF-4E64-9EA8-5032FFE6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91C68-15B1-4BC7-83C5-0AE18DD2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B3A90-8E29-40B2-AC55-E41F9361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DC4EF-E61B-4B2B-BF65-9E01F3FB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6CE5-3BE7-45C6-BFE8-8B2A1A7E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C1315-870A-40EC-B573-D6193AA7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B91F3-EAC9-4535-975C-A4857D5F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D23CE-5E5F-4145-9727-A034CC8C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08FAF-2416-4A56-8320-7618714D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950A6-C4C1-40F9-AA77-DEA8FD49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076F-6947-4F91-8C10-B44DD014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F740-0AFB-4FA1-BE48-4F1D734E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28C6-2CEF-49AA-9F57-459263B5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6E57-3AF5-4ACF-B9ED-2E80E1E6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D113-5E1E-43D6-AA80-71B385B0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F4F2-8DDC-4C34-8B98-EE9A073B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DA7E-DF0C-49A4-9B47-2FCC1494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F71F-2F19-4AD3-A377-E5A7FB9D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0AF9-10CB-4D3F-BF96-B8CE15ED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4465-08C9-47B9-947D-4681A6FD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59B4-B4D8-49CA-B9B0-DE24E86B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E4802-82C9-4AB0-94E3-77F4CE57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42EB5-83F3-453D-935E-C6FE3117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C5B58-2F7E-4519-9A47-773A6BFC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594FC-2E20-4E52-9C01-3970BC49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2F602-AC84-433B-80A4-A00E8ACF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ACB-913E-4D83-B2D9-61FB62AE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065EC-4659-41B0-B5C3-2D4BECC3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EFCE8-CE95-4DCF-B3D6-C29D6DC6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AE858-1A8B-4BC7-93B9-D87DF764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0B926-9E37-4191-AE48-11F4AE98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C348E-F96B-4019-8786-61D159F9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62750-BC87-4A2F-B23E-3E25B005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012B0-3C4F-4D6C-9E64-0B2FFF50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3EF92-BFF7-4679-8A13-B74EE839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54068-50C1-44EC-BFCF-669FA2CA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2C731-AAC0-4972-8AA3-DC7B4A48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D92-72B2-480A-A73A-C546378D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C7C0C-690C-4A89-AF27-AC858545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E5A74-C64A-47C0-A1AF-C8F9F6FA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BCDDB-8690-4F03-93CB-003F9950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86AA3-44D0-426E-AD66-40785C87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98492-D364-4825-9906-79036A51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987FD-0DA0-450B-A55F-94C37B85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06137-0A3B-4625-A07E-C637281B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2AD96-848B-48A3-99C2-44B88DAE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71898-9277-42E2-8CFC-2FFDE97C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450B3-5B76-4F47-A647-E25AF918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B920-14BA-41AA-8859-A94C24B7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602E7-4364-48B7-AB07-453D5859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11E37-CF49-4250-AD68-C6053A86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9066A-B6B4-4D25-83A6-29748807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670E8-E53E-49E4-9CE7-A2F9830E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E0FF0-4D95-47E4-93E9-63D015F9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C5789-BB27-4BAC-91A7-D08C73E0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CBA2C-499A-44AE-8551-39B4A602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A460E-4448-4D85-A349-94AF1F5C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F7EF2-3B30-4168-9C51-E2AB35BC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8463D-741D-473B-B943-14903506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698-96AC-454A-90F4-AFAC8CD6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FB432-4466-4160-8465-D09A9B4D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E72C3-96E7-4FE4-B16C-018F5026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6739D-FAC8-443D-900C-6E4B83B3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013CB-9924-41B1-8AC6-672D11C8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9BEED-F9DE-4365-8450-08B993E0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B1B87-9CC9-4801-BA19-23DC5E57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E5311-FDE0-4847-84AF-814BE7FD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D6A5C-5744-4934-9956-CA1F6CBE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D0C45-CE97-42E8-9D58-CCA040AD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90170-9637-42B7-AE53-2DC9E8B5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908-6250-4C7D-819B-ECF8951D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0BFF7-1454-4C14-9864-7DB4D7AC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131E4-7244-43F2-AAFE-B61C0C9F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F3F80-21CD-4D4D-B7B4-9D6A8700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898C2-5C4E-461A-B218-B3EBC1FC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BB47A-48DC-491A-A6E6-03617ECB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478AC-5924-4456-B0FB-944FB80F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0DCEC-3B5C-4D39-8AAF-F4224BA5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C40B2-454F-46C2-AAA8-1C230B65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CF798-2189-49A0-A977-41B4AE8E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9E277-6BFD-428A-9DD5-7C2B1B27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787-CCDD-4D2A-9C0E-6558E8F7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6F1C6-67BE-4F41-BF86-97FDC659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3B34D-3A71-4655-9E5B-B545E55D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6CB9F-79E8-4425-89BF-568982F9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6B4D5-7B86-41C8-962D-1895E1B3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0BA66-8A8C-4817-8A1E-87A70BB7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58B3B-F5D9-4C48-A2EB-8A797122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5EB05-1CA2-4BCF-8D62-B15B6866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57C3E-C1E3-423C-9418-69934D04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7B212-D919-4A28-B7C8-48381E96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54818-AFEC-416C-BBAC-1F9CF72D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74E-DDD0-487E-B25B-70082D71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9F9AF-7D1C-4C01-93C0-6285B5EA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BB2B1-3F93-45E6-A646-DE5A5E90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68181-783E-49B2-8FA7-B74D6753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CE043-1439-49B7-8703-F259A1CA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28176-65FF-4B32-9074-02A09F10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175B3-760F-4D8F-97A7-1AABBF6D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616CC-4BA5-470C-BEB3-8C6678EE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D8854-BBDB-47F0-9758-7CF1780B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FCAF5-D975-46B9-856E-0913C079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8BFBC-4FDF-444C-A818-24B676E3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AD5F-1357-48BD-AF60-ADDD3741CE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       </a:t>
            </a:r>
            <a:fld id="{075FF1C9-1A55-4A30-82E7-F0A668EC5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C7D2-EE49-4DC5-839E-B69DC3FCB1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083A-948B-4D03-90CA-381C75DCE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A11B-006A-48CB-9DCA-DA95E849A0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A6EF-036F-4CA0-9268-B3FD761B4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D130-486C-4F85-835C-2EF7C84008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8D99-A8B3-4375-80D0-5536EF637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480A-E324-4BF6-A1B9-927E1DDCE8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386B-6D04-4F70-B8FE-A8A37637A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4F14-962B-4D34-9705-062BB7A1EA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24FF-C746-4569-8C11-411774B33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7A74-CFBD-4533-943D-436ED1C2D3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D0A6-45F4-4E38-B2D1-D03BC85A5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D3C0-AE2F-4D05-86AA-3CBCD4BDD1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0CB6-6E81-4C1E-A6EC-AD05DB1AE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5E66-CC9C-4E81-BF36-E17D0A37DA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2E17-631E-4CEB-A2C4-DB42A399D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4E3C-A868-4316-8162-5FC4A0B061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B8F0-B198-4915-9188-433929736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4928-3380-40E9-AC8A-C614836753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BFBC-59ED-4829-8BD2-00AF3AF30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9D99-B14A-44AF-B161-63F35C0DA7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BA86-B7E5-4D0C-B7C5-C87492201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lanning Geomagnetic Disturbance Task Force (PGDTF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Update to the R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ay 4, 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mar Urquide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GDTF Chair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14A4-7855-4CDA-9F39-01E6C05CF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4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ies of the PGDTF in Apr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6840" y="14479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S voted to approve 057PGRR, PRS endorsed the recommended priority and rank, next to May TAC mee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 on April 26, 201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iscussed </a:t>
            </a: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GIC System Model Data Workshop, Wednesday May 10t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pdated GIC System Model Building Schedu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lanned In-person GIC System Model reviews set for July &amp; Augu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cided direction for Vulnerability Assessment Scope/Criteria (TPL-007-1 R3/R4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GDTF recommends the criteria to be included in Section 4 of the Planning Guid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GDTF recommends creation of a Vulnerability Assessment scope document to be approved by RO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raft language for both the scope and criteria will be discussed at June mee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iscussed National and State Activities Related to GM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GDTF will meet next on June 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Omar Urquidez – 5/4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A504-B1D2-456D-90ED-9DF874535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C System Model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6840" y="14479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at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GDTF will sponsor a Workshop to walk through the GIC System Model Procedure Manual and share experiences with gathering GIC System Model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dnesday, May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9:30 am – 12:00 p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re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ning session of the May PDCWG Mee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Session (morning only), Rm 206A &amp; Web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gend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IC System Model Procedure Manual Walkthroug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0 m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ansformer Data Presentatio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0-45 m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bstation Grounding Resistance Presentatio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0-45 m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IC System Model Supplemental Guidan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0 m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Omar Urquidez – 5/4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958C-A8EA-4966-86E2-611B755D0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/31/2016 – TSP Data for 345 kV System Based on 2021 Summer Peak Case Released on 10/15/2016 Provided to ERCOT.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/31/2017 – TSP Data for 138 kV and 69 kV Systems and Update to 345 kV System Data Based on 2021 Summer Peak Case Released on 10/15/2016 Due to ERCOT.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6/30/2017 – REs’ Updated RARF with GIC System Model Data Due to ERCOT.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Updated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9/1/2017 – ERCOT Provides First Pass of GIC System Model for Review to TSPs and REs.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In-person meetings for review of model. Updated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10/1/2017 – TSPs and REs Provide GIC Model Changes/Updates to ERCOT.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Updated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equent Model Review Passes Will be Scheduled as Nee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/1/2018 – Complete 2021 Summer Peak and 2021 Minimum GIC System Models Using July 2017 SSWG 2021 Summer Peak and 2021 Minimum Base Cases.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NERC Enforceable from 7/1/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155E-4767-4385-8BB5-520BA3474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pdated Schedule for GIC System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Omar Urquidez – 5/4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2" descr="question-mark3a.jpg"/>
          <p:cNvPicPr/>
          <p:nvPr/>
        </p:nvPicPr>
        <p:blipFill>
          <a:blip r:embed="rId1"/>
          <a:stretch/>
        </p:blipFill>
        <p:spPr>
          <a:xfrm>
            <a:off x="3236760" y="2206800"/>
            <a:ext cx="2670480" cy="3315960"/>
          </a:xfrm>
          <a:prstGeom prst="rect">
            <a:avLst/>
          </a:prstGeom>
          <a:ln w="0">
            <a:noFill/>
          </a:ln>
        </p:spPr>
      </p:pic>
      <p:sp>
        <p:nvSpPr>
          <p:cNvPr id="5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EF66-CC33-4126-9946-18B0EB024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Omar Urquidez – 5/4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Urquidez, Omar A</cp:lastModifiedBy>
  <dcterms:modified xsi:type="dcterms:W3CDTF">2017-05-01T16:16:38Z</dcterms:modified>
  <cp:revision>232</cp:revision>
  <dc:subject/>
  <dc:title>PGDTF Update to ROS</dc:title>
</cp:coreProperties>
</file>