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8846-4D87-4F44-9A5A-481701E53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01E7-FAC1-419A-B04A-3C13A8A941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484F4-FFDE-4B6E-80EF-C91EC095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986F-87F7-493A-A366-7684AF66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1A9508-EBF4-483F-85B1-0BD997A7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698274-279D-4F50-998C-F18FB640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D2DFD6-1F25-4AD7-8F44-BEE447A0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67CEAA-8EBB-47A7-8120-327E5715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9E8083-F9D6-4845-9267-20429DE2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7231B6-3B23-47AA-BB27-380DFAE8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1B701C-8F27-4363-9C15-A35BB605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0FBF8F-5D57-4825-AD2D-2F47FE87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40F9A8-9C10-4652-A7EE-BD2664DA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9EFC-B8EF-41A2-AB76-A955BA34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B5E3-F01F-44E7-B682-D7C22200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3F64-1CE6-406E-8B37-84EEFF0E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872A-5C6A-456A-892B-A14E0D70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E7B4-21CC-4AC7-9B78-BA93E2AC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68A7-2E14-4E14-BB48-3F5136CC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63F5-086E-43B8-A496-A47111DE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3145-9B6C-4AEB-A3C3-3750390A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2AEC-D6D9-4434-BD32-C90C5884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59466-9FCA-4506-886E-13C79B89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50BB-6FB8-4A4F-B6F7-4346B04D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7B4C-9275-4E36-A1A3-28799B18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0DC2-59C8-4A30-9F71-99BBB1B1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AE00-7FFC-4795-A29F-F2A6C640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E7C8-DE36-4512-8AC2-E48ACE3C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F0A8-14EF-4A62-8308-22DB4B8A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E3D15B-2655-4F77-8019-42F4E9A6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6D9A05-B8D7-4EC9-AE2B-BA2AE84C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53F774-5B36-402D-B019-D2F0A2D9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CFCF-5573-4BE0-A92F-143204B8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0EE8C0-91DA-4177-A22F-42B40A08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596AA7-F87D-43FD-9060-8200DAC3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A7EE82-3584-44FB-BB6D-73176A52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5DFF5A-F214-4423-A3E2-FA2E8D0D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250B9-3C64-4D33-BC37-7BAA7517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619CFC-217A-4804-81C8-CD20FC68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2BBF23-1A9B-42F4-83FE-BB8F9FF4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BECA2-0B2B-46CA-A2A6-2AEBE85B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10B728-269D-4A94-A335-4DB926F0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01124-9042-458A-950E-D0A081FC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D21F-E751-421F-8A9E-26AF4E55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2F678-A778-4474-8786-3CA30A4A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EDC7E3-EDC2-45FD-AB47-CD986185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52BF5C-BACB-4143-973C-941BFE99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12795F-2383-41A6-8B9D-71173136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9058E-8B1E-4030-9453-AF67F94D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ECBF03-2409-4900-A71A-CCAC54F3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C88617-C0BA-4155-B282-85B065EA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D2B5BC-FA7E-44E6-BCBD-9FE0D91A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E39CA9-2B67-481C-9988-EDC29B17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393E3F-E008-4CCF-9F9C-60CCF907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037B-4E4C-4339-B19A-B9271CF9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0D3AB-F26C-497D-8363-4183BD8B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06F52F-6E1E-4FEE-B007-43A7EF97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715E82-5073-4750-8A64-A6FD78D4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D593C0-F23D-43AB-9299-A5211D0E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09CC49-46FB-4D4F-A10F-DAF12743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8E5760-6969-453C-B899-32D931BF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9C913E-EBEB-40E5-A8CD-E59B62E6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634D1D-E302-4E1A-BDC2-EA62D681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947B9C-50BC-42D5-8DE2-0A91E6BB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AEFB53-FDB0-4CDD-82EC-6679D996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C2F72-844D-4AA0-BC01-FA09A10B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A8569B-7055-4AC1-9AF1-21CFD9C2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612478-5A23-4AC7-A97D-796DC53C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DA046F-3345-4318-950E-7B379D01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7695A5-7CFD-42AD-914A-78B1BB7D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5DAF54-3A6E-4CEE-ACA3-0F6E9AEC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0A7CE7-19CF-4BCD-B7BB-A1DB59D7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00F967-B886-4C36-97F1-6A889157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3A5150-E8B1-444A-9E29-9A4C8F30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2D8436-E251-4AA2-89C2-76D49A00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6FEAD4-7BE7-4B9B-A98A-85D39B33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2D05-7176-43FF-A1AE-063EA079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C590AE-0B97-458B-B48F-1B7EB8B2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BB8011-1B79-469E-9686-D8AD4AAF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B081E9-67A5-43D6-8C19-E3025919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93A5CA-A39A-491B-954C-713D5A81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0EF323-A727-4349-9063-33E98BF1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C7B73E-6F0B-4513-92D7-EE347F96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C8A9E0-4E7C-48A7-B5A6-82E1765E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F7CE76-5E4D-4AF2-84F0-16243C5F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708C2F-614F-47ED-83E2-0E7DE850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38399C-FE8B-4DD6-92E2-E3A536E1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543A-34CB-4942-A791-C0C2C541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94AB78-2419-49FF-AA57-19DFA829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5E2950-C97B-4562-BA85-A09F002D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14E9F6-9FA4-4C6E-83EC-94063C61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CCAEE9-73C2-474C-B317-E8377F0D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742314-FDF6-4BB8-AE51-BDC1FF3A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6D37F6-BDBF-4CF7-90A2-EBBD06C1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371A69-78A6-46D6-8AEB-D7EED1CA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C682D0-A344-4FE6-A0A2-3DCA73D5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13931E-D439-44D4-B221-80D4FA53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9C41B5-16A2-4A4F-80B6-8F834A14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B78C-7348-475E-9A46-C657FEFEC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C9C1-E45D-4CF2-8449-D14810E43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8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3501-07E7-4D26-8763-16DFAA50099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uary 3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40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Oval 15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48" name="Oval 15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99B2-E6C4-4EB3-A576-C583E1A6108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Oval 1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96" name="Oval 1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2F2C-0973-4854-A72B-B7F41CA6BAB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5AB1-787B-4D52-AEFF-72690A3AB1E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DF58-E83E-49E5-96E2-1DD7B9AE10D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9C27-0D15-4A10-963C-BA543A40AB9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Rectangle 15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66" name="Rectangle 15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Flowchart: 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lowchart: 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A61F-F8C2-44FD-BE35-E32CB035E57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rcot.com/content/wcm/key_documents_lists/123094/2017_TAC_Ballot.20170427.NOGRR167.xls" TargetMode="External"/><Relationship Id="rId2" Type="http://schemas.openxmlformats.org/officeDocument/2006/relationships/hyperlink" Target="http://ercot.com/content/wcm/key_documents_lists/123094/2017_TAC_Ballot.20170427.NOGRR167.xls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0" y="2114280"/>
            <a:ext cx="66578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April 26, 2017 Email Votes by 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Technical Advisory Committee (TAC) Update to RMS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2361960" y="32000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20e04"/>
                </a:solidFill>
                <a:latin typeface="Gill Sans MT"/>
              </a:rPr>
              <a:t>Kathy Scot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3581280" y="6400800"/>
            <a:ext cx="2210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y 2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5F5B-F2EA-46B3-99D8-1A4D9924B5C8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TAC’s Voting Results: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38080" y="3049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lvl="1" marL="415800" indent="-1537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183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OGRR167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Alignment with NPRR776, Voltage Set Point Communication –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575640" indent="-14832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3/23/17:  TAC Tabled NOGRR167 pending Board’s Approval of NPRR776 on April 4</a:t>
            </a:r>
            <a:r>
              <a:rPr b="1" lang="en-US" sz="2400" spc="-1" strike="noStrike" baseline="30000">
                <a:solidFill>
                  <a:srgbClr val="c00000"/>
                </a:solidFill>
                <a:latin typeface="Gill Sans MT"/>
              </a:rPr>
              <a:t>th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575640" indent="-14832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4/26/17:  Email Motion to Approve NOGRR167 as Recommended by the 3/2/17 ROS Report was Unanimo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575640" indent="-14832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ercot.com/content/wcm/key_documents_lists/123094/2017_TAC_Ballot.20170427.NOGRR167.xls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183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CRR Activity Calendar Updates: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575640" indent="-14832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4/26/17:  Email Motion to Approve updates as Recommended by ERCOT was Unanimous 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http://ercot.com/content/wcm/key_documents_lists/123094/2017_TAC_Ballot.20170427.CRR_Activity_Calendar.x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575640" indent="-14832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-1537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-153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-1537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-1537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183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-1537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2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12AB-C49E-49F0-AE55-0ED38861BB7D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71600" y="-76680"/>
            <a:ext cx="749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ions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914B-DCEE-411E-AE26-DE4A544C3213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2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C:\Users\00015621\AppData\Local\Microsoft\Windows\Temporary Internet Files\Content.IE5\M2YDF2H6\passe-compose-ou-imparfait-grammaire-bdf-19[1].jpg"/>
          <p:cNvPicPr/>
          <p:nvPr/>
        </p:nvPicPr>
        <p:blipFill>
          <a:blip r:embed="rId1"/>
          <a:stretch/>
        </p:blipFill>
        <p:spPr>
          <a:xfrm>
            <a:off x="1854360" y="990720"/>
            <a:ext cx="59180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evill, Rob</dc:creator>
  <dc:description/>
  <dc:language>en-US</dc:language>
  <cp:lastModifiedBy>Scott, Kathy D.</cp:lastModifiedBy>
  <dcterms:modified xsi:type="dcterms:W3CDTF">2017-04-27T04:28:21Z</dcterms:modified>
  <cp:revision>1360</cp:revision>
  <dc:subject/>
  <dc:title>Instructions</dc:title>
</cp:coreProperties>
</file>