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5F3C-7D9F-4649-A816-E074C327D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3AFC-B7CE-4661-B9FA-56466D12F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7E20-E828-428D-86C9-1B7920F0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F878-4853-40AE-87F8-C758EFF6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7F5E-267C-4FDE-B5DA-49E1B8E0D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21D9-CD79-4A80-A4D8-EDC23ABDD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8E31-423A-4131-98E0-04DD2DB5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3BD10-4284-44D7-90DF-4F706D66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9A02-F911-45A2-84A4-1F425488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C24C-B605-4042-B3E5-6CD877C0E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A228-A97D-4CF9-97E5-32A6547D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47CE-57A6-4706-8E93-22ED3C0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6220-90F3-4D37-969C-CF0E361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32E69-E8EE-4754-A4CF-4C369177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2BDD-11CC-43C4-8FBE-65057E37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EFD11-D904-4442-A24C-339963C2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D77D-71CE-4B5B-A539-CEF085E8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FDAE-D747-4F81-B177-D9CF0E4C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A0D-07AB-4AD6-90A1-51C361C3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8AD9E-CB91-4A0C-B431-26C2A41B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C51C8-2643-4A5B-AF9D-F0051754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1EBBB-5D80-4F63-989E-A166F03E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76C94-9D70-46A6-AC57-F3485D3F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05BD3-B059-49AF-B94E-829DCA74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A7030-D18B-41CD-A50E-A3F378AB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2661-2EA7-432D-A8D0-04FEBDFD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4DB45-1D77-4318-9AEF-67540A5E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412F-B981-4D7E-82AA-4FB6922D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0B3E7-A4EA-4669-A868-797AD14E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4267B-BDF9-4975-A305-1A57016A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9876C-B515-4DC9-BA6A-49BCAA763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0A83-2120-4D08-8BD3-92CFA1F3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D0E0-FA89-45B4-B753-CE032B26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D83BB-F04C-4099-9641-0C3AACDC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F109-4CD7-43B4-AB27-6A24528FC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2B74-8636-437D-AB05-8A242DCB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AAE4-9972-4B7C-8A99-859059C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DD35-013A-4BA6-A883-CB3EF0AF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4425-CEB3-46D0-9951-DE5A1B8EE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ECCA-747F-4145-BD7D-E44B0DBA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ABFB-F34D-46C1-BD74-0F0A7B401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101D-8116-4D41-95F1-EAA97AD96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0387-8770-4D7D-A93C-A6870318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April 12th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8AD-3E63-4DF9-8442-E585126A3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112760" y="1165320"/>
            <a:ext cx="6918480" cy="4232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PWG reviewed and updated our </a:t>
            </a: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main meeting page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to align with updated roles from the LPGRR “overhaul”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Weather Sensitivity Report Update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– information was from March 2</a:t>
            </a:r>
            <a:r>
              <a:rPr b="0" lang="en-US" sz="2000" spc="-1" strike="noStrike" baseline="30000">
                <a:solidFill>
                  <a:srgbClr val="3c8c93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.  Anticipate this will be complete next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Annual Validation Timeline Matrix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review – updated the AV timeline to reflect LPGRR61 re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March 29</a:t>
            </a:r>
            <a:r>
              <a:rPr b="1" lang="en-US" sz="2800" spc="-1" strike="noStrike" baseline="30000">
                <a:solidFill>
                  <a:srgbClr val="3c8c93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 Meeting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Tim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DE76-B1EB-4471-A06B-78C701971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DCE-E442-4E74-8796-DB287BDB9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557280" y="1219320"/>
            <a:ext cx="8001000" cy="48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ril 26, 201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language - Draft LPGRR Modification of Oil &amp; Gas Profil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Impact Analysis for LPGRR062 – LPGRR Process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Weather Sensitivity Chang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F6B16-7300-4006-82D0-7E7B0DAA4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7-04-04T18:59:56Z</dcterms:modified>
  <cp:revision>1200</cp:revision>
  <dc:subject/>
  <dc:title>Instructions</dc:title>
</cp:coreProperties>
</file>