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973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0"/>
          </p:nvPr>
        </p:nvSpPr>
        <p:spPr>
          <a:xfrm>
            <a:off x="3949200" y="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407600" y="1153800"/>
            <a:ext cx="4157640" cy="311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1"/>
          </p:nvPr>
        </p:nvSpPr>
        <p:spPr>
          <a:xfrm>
            <a:off x="0" y="877248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2"/>
          </p:nvPr>
        </p:nvSpPr>
        <p:spPr>
          <a:xfrm>
            <a:off x="394920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268-EA54-47A4-87ED-64FAA5ECA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4956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6190-77C0-4E32-A11B-2C108702E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407960" y="115416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407960" y="115416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4956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E649-BF55-41AA-B81C-96C200215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479-9423-4C1C-98F1-3D42A27A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D8C-2F79-4400-A7BC-E4199A73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2F5-9EF0-4D02-9517-E27CD977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693-A928-4E89-8EF1-74280528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267-0996-4E82-AE81-EE78C8AF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F8A-67D8-494D-B5CA-3AC5303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901D-83A1-4AE4-B1DB-337A5A889F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032CB-CF15-4855-A02B-6D6FE4745A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78051-9E37-448C-BF58-617B3F3C9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95A-4A30-42A7-93FC-D2304D5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F1132-6049-46CB-AC29-EBAE207B0A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8FC2E-E912-495F-AE80-B314A0260B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7FDCA-388A-4AD5-9857-779920B14B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57F9-E66F-4885-8EF4-8DA662317B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93125-C41C-4CF7-A4BA-3060DDED3F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7BC23-01C8-45B5-AC27-C76263F6BF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8C185-09BC-497F-AFFF-D004F10031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0814A-4CA4-42CB-82C3-71C8343906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A8620-A8CA-40AD-AE7C-EC2830593A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98C4B-2ACE-452B-BB7B-396A74C4E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E9C-E8A6-4500-A4E6-16F90DEE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28FEA-78B3-412B-8DFF-141469384A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DCE53-1AA1-45F2-8F4C-272E732CA5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13EEC-8B24-4D4F-AD1F-A29ADF181A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AAA85-5CC2-4776-98DC-87ABE8F86A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1EA35-46F5-4141-8052-B38E6EB88F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4A7C4-1821-4AC6-A64F-396BECBC05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EFC80-E03F-47F7-B2A2-CD30916CB2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689F7-90D5-449A-AD0E-A23636543F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9B272-115C-4FCE-859A-FFFD348571E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5ADA5-1460-4748-9296-77DD423EC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D88-3016-4954-890B-CA4BBF5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278AF-F6C7-490F-AA45-E161B0387F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C774-22E1-459F-9910-4096E3321D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0A14-0767-45D6-B2D0-EF00BB7A08D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13B0-D32F-4BA9-8794-6026F68A0E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486B-6849-47D5-A96D-8421D40447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9D48-19CA-46E2-AB3F-84098DC5A7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F4C4-A28D-418A-90DE-7FE31B5C07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F4A8-F5CD-40B4-8539-5EDA65D805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4300-7563-4936-A7EF-713D33158F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85A9-FCE5-4747-AFA8-93677FE44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07A-D7B5-462F-8ED7-4233B74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4E23-9E96-43AD-BF56-F1601189AD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3B8C-3A8B-4E32-BC8D-E31CC9FA66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C9B4-E0E4-4AEA-83EC-996C107B6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2A3-AFEA-4D6F-A061-07711304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5F8-6EF5-4590-9902-5318F66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44E1-A304-4BA2-B0E9-C542BEFB4C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349C-E798-4C69-8FF2-E8FAC9210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ftr" idx="4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5"/>
          </p:nvPr>
        </p:nvSpPr>
        <p:spPr>
          <a:xfrm>
            <a:off x="8610480" y="656064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D8F8-9828-4926-99B1-0663CC74A2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ftr" idx="6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ldNum" idx="7"/>
          </p:nvPr>
        </p:nvSpPr>
        <p:spPr>
          <a:xfrm>
            <a:off x="8610480" y="656064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6C0-3826-490C-ABCC-53061DB7B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44440"/>
            <a:ext cx="75960" cy="517680"/>
          </a:xfrm>
          <a:prstGeom prst="rect">
            <a:avLst/>
          </a:prstGeom>
          <a:solidFill>
            <a:srgbClr val="5b6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>
            <a:off x="304920" y="244440"/>
            <a:ext cx="99036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ftr" idx="8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Num" idx="9"/>
          </p:nvPr>
        </p:nvSpPr>
        <p:spPr>
          <a:xfrm>
            <a:off x="8610480" y="656064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AD01-EBC3-4E03-BA16-0817045F3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April 5, 20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2E9E-8357-4878-927A-A846047AC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82EF-2470-4C11-B754-F4D0C34906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cc8"/>
                </a:solidFill>
                <a:latin typeface="Arial"/>
              </a:rPr>
              <a:t>Exceptional Fuel Costs in Real-Time Mitigated Offer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395280" y="858960"/>
            <a:ext cx="8429760" cy="47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osal for modifying the Mitigated Offer Ca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tigated Offer Cap (MOC) can be modified such that it incorporates exceptional fuel costs to ensure LMPs reflect the incremental cost of intraday fuel (if included in EOC)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C can be modified as fol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er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eneric Heat Rate * FIP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HR * Max [(FIP + FA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F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+ O&amp;M} * Multiplier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F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/MMBtu) = For the affected period, fuel cost based on the actual exceptional fuel prices, weighted by applicable volum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8610480" y="656100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8CC-C001-4FE4-98AF-6B85B37FE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al-Time Mitigation Dur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al Fuel Ev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19040" y="166176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certain days in February and March 2014 (Polar Vortex), some Resources were mitigated in real-time to below their actual cost due to large differences between FIP and their actual gas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664 implemented a manual Real-Time Make-Whole Payment process for exceptional fuel events that expired May 1,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so provided for a resource-specific Fuel Index Price (FIPR) of HSC, Waha or weighted-a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714 extended the manual process for Make-Whole with a sunset dat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6/1/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5C15-2379-49A9-8025-9438B5404D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al-Time Mitigation Dur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al Fuel Ev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ckground (continued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 assignment to investigate alternatives to NPRR6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er exceptional fuel costs in LMPs to avoid make-whole and uplift, but also concerned with incorrect L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/WMS have discussed several options without reaching cons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on 1: Continue with existing Real-Time Make-Whole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on 2: Pursue “Exceptional Fuel Cost flag” concep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on 3: Increase MOC’s during Cold Weather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has proposed a new revised 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CE0E-FB1E-40C2-8287-681F576D65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al-Time Mitigation Dur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al Fuel Ev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proposed new 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an exceptional fuel event, QSEs could submit a weighted average intraday fuel price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F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to ERCOT, similar to TPO submit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ould us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F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MOC calcul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the event, QSEs would provide documentation of the WAFP to ERCOT for verification, including attestation by an offi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developing NPRR and will submit to P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expects to review the NPRR when assigned by W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0DB-76B7-489F-A673-0001B9E6DB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87440" y="1515960"/>
            <a:ext cx="815328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ssu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C assignment to WMS to RC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 appropriate treatment of fixed costs such as pipeline capacity charges and penalties in the Fuel Ad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el Adder is used in calculation of Mitigated Offer Caps and RUC Make-whole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ault is $0.50/MMBtu, but a Resource can elect to submit an “actual” fuel adder, subject to verification by ERC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el costs can include a number of non-commodity components, such as costs for transportation, storag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9005-CCC9-409E-97A2-04998D8A7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tle 1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el Cost Components in the Fuel Ad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7440" y="1515960"/>
            <a:ext cx="815328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CWG has thoroughly discussed the issue and did not reach consensus on a recommendation for changes to the Fuel Add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hough there were concerns expressed with the potential for fixed-costs in the Fuel Adder, there were also concerns with broader market design iss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no market participant has put forth an NPRR or VCMRR proposing changes to fuel cost components in the Fuel Adder at this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considers this action ite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ubject to WMS agre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965-D570-4BEA-A7ED-0B272A7CC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el Cost Components in the Fuel Ad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ng-Term Solution to Coal Index Pr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31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MRR014 provided an interim sol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10 fuel adder for coal and lignite resources that is added to the $1.50 Solid Fuel 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nsets 6/1/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reviewed ERCOT’s revised draft NPRR for Coal Fuel Index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IP”  Coal Fuel Index Price: “Delivered to ERCOT” index price based on PRB 8400 coal plus rail transpor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0/MMBtu fuel adder for coal and lign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planning to submit the NPRR to P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42AD-C4B1-424D-8447-174588C0C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PRR 816 Clarification of Defini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FIP and F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1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PRR 816 modifies FIP and FOP definitions to support procurement of FIP and FOP indices from more than one vend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CWG discussed the NPRR and determined that the existing protocol language appears suffici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considering withdrawing the NP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4137-D9E0-45BB-8A49-9D82173FE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MS Open Action Items for RCW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04E-7D3B-49E3-9AA5-548406D80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3080" y="1270080"/>
          <a:ext cx="8458200" cy="5068800"/>
        </p:xfrm>
        <a:graphic>
          <a:graphicData uri="http://schemas.openxmlformats.org/drawingml/2006/table">
            <a:tbl>
              <a:tblPr/>
              <a:tblGrid>
                <a:gridCol w="3047760"/>
                <a:gridCol w="1143000"/>
                <a:gridCol w="4267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moval of PPA applied in Verifiable Cost from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 existing PPA language until NPRR664 is final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5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C Assignment: Alternative to NPRR664 Fuel Index Price for Resource Definition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714 extended make-whole process for exceptional fuel events to 6/1/17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preparing to submit NPRR to P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S Assignment: Aging Projects-NPRR664, Index Fue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ed recent ERCOT proposal. ERCOT preparing NPRR to submit to P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C Assignment: Fixed Cost Issues – Pipeline Capacity and Penal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CWG thoroughly discussed the issue, but unable to reach consensu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al Index – Long Term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preparing to submit NPRR to P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Continuity Workshop: How verifiable costs for renewables are addre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working on revised market continuity  guidelines and assign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MR Issue: Contract length – “significant investment”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ing on draft NPRR based on WMS guidance. On-hold pending PUCT RMR rulema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7-03-29T19:57:42Z</cp:lastPrinted>
  <dcterms:modified xsi:type="dcterms:W3CDTF">2017-03-29T19:58:02Z</dcterms:modified>
  <cp:revision>368</cp:revision>
  <dc:subject/>
  <dc:title>PowerPoint Presentation</dc:title>
</cp:coreProperties>
</file>