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14DE-13B3-48B0-8471-E6F7B8367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B16-26E2-4495-89F0-A720492437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9639-D813-41C2-A4F5-DB23E181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AE0B-1CCB-412E-A93A-DBB1BCE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82A49-3800-459A-960F-C04D9A5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096DD-C664-411E-ACD0-2C6FE00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151C6-5B00-458C-80E1-B9680415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DF3A0-F7CC-41F7-A92A-30A5F225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7F1990-E2F2-49E8-98A9-83B5AB8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0D4C0-4B27-4545-9BCF-4BCA7414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DC943-1FFE-429A-8F28-28E90ABA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DFEA5-AA61-4BAD-A443-84914CDF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6374A3-AA32-418D-B925-05ED24C2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18E1-C4CB-4C57-B3FE-6331E037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9896-1634-4AE8-9BD7-6B72F341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B448-62A3-433C-9D07-2D254AAF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C405-1E6E-46F8-9CDB-1CFF22DD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9B6D-EC6D-43EC-B25F-A21E15FA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F07-BE83-4F72-817E-566B9E6E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A8FA-CA78-45FF-BD79-C621BC5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FC35-332C-42C6-8FA2-E1D32F68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A38-2436-49BC-A8F7-4E38C60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635A-AF21-4F33-98AF-9108E095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C76-AB27-417F-BDE2-BB3F7F0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365-0EE7-45DD-AD58-24479E2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F91-3F7D-4032-933A-2C1488F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2B0-190B-41B9-9141-6B9EE862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1BA-7F95-482D-96C2-06F233DE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DF53-CF41-49D1-B5B9-AC46B08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CA911-2264-4F9B-B50D-64D74419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999B8-57F6-4DF8-9472-FEF5BBF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F9553-91D6-4E70-8208-FBC81B2A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A4A9-B71F-4E21-8AE7-5BCA90C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3D505-0AF8-4462-8D1C-9DCC7CB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56088-F6E4-44D4-8DB7-CD264F9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6A835-8254-484D-880F-3E3B038A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401C4-C4B0-48AF-BE14-1107379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BAFB7-FFD9-4A00-9655-70618C40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C2BC7-8B38-4C24-B25C-DBE5034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093AA-8342-4F90-BFE5-20E4B83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6C4C5-EC18-4B03-9900-B7BC3DE6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973B2-5031-4223-AFCE-643E028B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22FB6-6C72-436A-99D8-C1EFC9F8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13B7-7430-42B9-B119-315D603A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F7B58-D3F2-409D-9B7C-90AA1A69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486B7-B57B-4F0B-BBE4-31818CA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B2E96-4318-412A-BE57-65DCA69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C77FF-D743-4765-B16B-8DE9F840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999B9-ED60-4DEB-B4B8-C584E79A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480E7-21AB-4B1B-AB4D-E0F95AC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29208-4E0D-4030-BCA5-74D7707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AA6AF-5B1D-4C42-90CA-0E354ED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180E4-30E3-48EB-90AE-6CABCA64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9CB8C-6B35-48EA-9767-30FFB713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D40D-1A14-4272-ABD1-CEA8B3D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FD844-DD42-41F6-8D5A-36C9F62C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E54BC-14D8-4514-A04D-377E7EA2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E960A-2C28-4E48-9E29-E58E80A2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66110-24D6-4E94-BF3F-9CD0B02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FF254-C902-4C22-BEDE-13C02485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51D9B0-9410-4CAC-B550-034E967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CCB4C-DADA-4EFA-8F86-235F451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218AE-5C4E-4012-9ED2-91D73A4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E4697-6BD0-4AF0-B399-50B3AD53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98BB2-A0E0-4AFD-B2FE-922EFA5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B40B-D5BF-4D1D-9203-F82D8BB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4479B-2BEB-467D-B87B-79ECAA4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1D127-D301-4D16-8150-1335CCFC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56D3E-D205-4EEC-9B07-5DFE48E4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A25E6-8986-4493-90C2-62BECF19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DF2B0-0675-4620-930E-87BDC27F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2C2C8-4D51-4079-838E-97DC6B6F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7FA2C-A29E-4FDB-BBCD-E048AD0C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C7598-AE35-4A85-92E9-5616B024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0E376-5F61-4070-B774-6CCB0BC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110EF-E881-4A8F-A37A-A7E6FCE0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0639-4ED0-407B-BF0F-7152A38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EBC1E-32E2-4A2C-A19E-0314384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0E91E-9F2E-4346-A4CF-EEB7EDE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3D738-3587-4899-8387-BEB94AAD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F4B84-4C43-44D5-90FD-5A8CDC20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5D64F-4E8E-484B-BB05-504C935B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C88D5-C35A-433A-A6E0-3C06AB58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0CCCF4-BD47-41FA-9F0F-9EEFC8D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8028F-E564-44DB-BED9-D436049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8753C1-521C-4861-BADB-D07F5FF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0F7C4-13CA-45DD-9B2A-BDEB926E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B6A1-8B28-4824-A0C8-A36C5EE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5A00C-2B66-4618-AB69-0EE0485A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CD30F-5295-4859-922C-B8A10C5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3BA3D-68BF-4806-8A47-62C8391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089883-D39B-4F14-BB84-BD18A57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430CE-BA26-4B05-84BB-48C1BAA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43FDD-23C4-454B-97E7-0925244F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743E0-FC13-43FE-9948-F5F32C1D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FE27A-A05B-401A-9697-E1EB882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3C309-3510-4F5B-A64C-DB959BBE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B977F-8B86-428B-B455-C44D8A0D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0F0-931B-4F02-9405-AD90CFD47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280-FA18-4C44-B40C-764737902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BBE-7317-4CE7-82D6-91AE771620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uary 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836A-4AAB-4D94-9E0D-B5CF2B6F4F8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1CB1-1C9C-44F4-8D87-BD611B70643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C9E-6F69-4AF6-BCE1-77978E4206F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2E3A-2190-4621-B107-C99600D97E2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A52-7627-4176-8B13-203EC2B9DFF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January 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Technical Advisory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452-0897-49DA-AEEF-508A139F1A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4._TAC_Goals_and_Strategic_Initiatives.zip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5._PRS_Report.zip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5._PRS_Report.zip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5._PRS_Report.zip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20149/044COPMGRR-07_TAC_Email_Vote_022317.xls" TargetMode="External"/><Relationship Id="rId2" Type="http://schemas.openxmlformats.org/officeDocument/2006/relationships/hyperlink" Target="http://ercot.com/content/wcm/key_documents_lists/120149/044COPMGRR-07_TAC_Email_Vote_022317.xls" TargetMode="External"/><Relationship Id="rId3" Type="http://schemas.openxmlformats.org/officeDocument/2006/relationships/hyperlink" Target="http://ercot.com/content/wcm/key_documents_lists/107856/06._RRs_Tabled_by_TAC.zip" TargetMode="External"/><Relationship Id="rId4" Type="http://schemas.openxmlformats.org/officeDocument/2006/relationships/hyperlink" Target="http://ercot.com/content/wcm/key_documents_lists/107856/06._RRs_Tabled_by_TAC.zip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7._ROS_Report.zip" TargetMode="External"/><Relationship Id="rId2" Type="http://schemas.openxmlformats.org/officeDocument/2006/relationships/hyperlink" Target="http://ercot.com/content/wcm/key_documents_lists/107856/07._ROS_Report.zip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7._ROS_Report.zip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7856/08._RMS_Report.zip" TargetMode="External"/><Relationship Id="rId2" Type="http://schemas.openxmlformats.org/officeDocument/2006/relationships/hyperlink" Target="http://ercot.com/content/wcm/key_documents_lists/107856/09._COPS_Report.zip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March 28,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Technical Advisory Committee (TAC) Update to RM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000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400800"/>
            <a:ext cx="2210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24E-56BB-4720-9C86-AAE584A5376D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holesale Market Subcommittee (W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MS Goals (Vote)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ulti-Interval Real-Time Market Feasibility Study (Vote)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WMS Action Item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 the scope of work that should be included into a Real Time Co-Optimization Project and report recommendations to TAC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witchable Generation Resources Up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ercot.com/content/wcm/key_documents_lists/107856/10._WMS_Report.zi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E09C-30E2-4F91-BC6B-294645D4DA6C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10.   WMS Initiatives and Vot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1"/>
          <p:cNvGraphicFramePr/>
          <p:nvPr/>
        </p:nvGraphicFramePr>
        <p:xfrm>
          <a:off x="7848720" y="1676520"/>
          <a:ext cx="914400" cy="79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76520"/>
                    <a:ext cx="914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91440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irtual Weather Zone Discus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ction Item: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remanded to WMS and ROS to review proposed Option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ercot.com/content/wcm/key_documents_lists/107856/COPS_Virtual_Weather_Zone_Update.ppt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017 Seasonal Adjustment Fa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rket Continuity Frame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reens Bayou RMR Updat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view of Transmission Loss Fa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ction Item: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remanded to WMS and ROS for recommend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nnual ERS Report to TAC (Q&amp;A Only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://ercot.com/content/wcm/key_documents_lists/107856/11._ERCOT_Reports.zi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27440" indent="-98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83760" indent="-6048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223560" indent="-82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309960" indent="-799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0E8-8AF2-484C-A3A1-FEEEBB72E78B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itle 1"/>
          <p:cNvSpPr/>
          <p:nvPr/>
        </p:nvSpPr>
        <p:spPr>
          <a:xfrm>
            <a:off x="990720" y="-76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  <a:ea typeface="Arial"/>
              </a:rPr>
              <a:t>11. ERCOT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Object 1"/>
          <p:cNvGraphicFramePr/>
          <p:nvPr/>
        </p:nvGraphicFramePr>
        <p:xfrm>
          <a:off x="5715000" y="2895480"/>
          <a:ext cx="91440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95480"/>
                    <a:ext cx="9144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14400" y="7617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FLS Workshop Up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shop held, but going forward ERCOT feels these responsibilities should be referred to ROS—There were no concerns with that direction voiced at TAC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R Whitepaper Up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led this discussion by reporting their Whitepaper will be communicated to the ROS listserv.  TAC members requested review time before TAC assigns this document to any subcommittee.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6649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RC Load Shedding Standards Chang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C remanded to ROS for discussion and recommendations –Operating Guides may need to be revised to include the change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933840" indent="-131400">
              <a:spcBef>
                <a:spcPts val="2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66492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637560" indent="-16452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933840" indent="-13140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0440" indent="-1702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83CD-F6FA-4412-BD9B-73AF74A54DEF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12.  Other Busi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"/>
          <p:cNvGraphicFramePr/>
          <p:nvPr/>
        </p:nvGraphicFramePr>
        <p:xfrm>
          <a:off x="7848720" y="4038480"/>
          <a:ext cx="91440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038480"/>
                    <a:ext cx="9144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BBC-CAB9-49DC-A4DD-9819CF2F4748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4.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2017 Goals and Strategic Initiative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402840" indent="-148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9680" indent="-17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017 TAC Goals &amp; Strategic Initiatives (Vote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4._TAC_Goals_and_Strategic_Initiatives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17 TAC Goals – Accepted Austin Energy’s addition of Item #3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017 TAC Strategic Initiatives - Modified by removing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16840" indent="-11484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-Interval Real Time Market – WMS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16840" indent="-11484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ture Ancillary Services– TAC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816840" indent="-11484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ation of Outage Scheduler Revisions (NPRR219 and SCR783) – ERCO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Vote:  Goals Approved with 1 Abstention and the modified list of Initiatives received Unanimous Approval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623880" indent="-216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623880" indent="-216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623880" indent="-2160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968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02840" indent="-1486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26B-4D27-4F53-AA7E-92F4FDB1D3DD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5. PRS Initiatives and Vo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Nodal Protocol Revision Requests (NPRR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5._PRS_Report.z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Gill Sans MT"/>
              </a:rPr>
              <a:t>NPRR77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Voltage Set Point Communication –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799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Updates to Outages of Transmission Facilities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with 2 Absten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0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ettlements Clean-up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w/2 Ab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0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Remove Posting Requirement for Private Use Network Diagrams -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following TAC’s ed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Gill Sans MT"/>
              </a:rPr>
              <a:t>NPRR808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ee Year CRR Auction -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Gill Sans MT"/>
              </a:rPr>
              <a:t>NPRR809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GTC or GTL for New Generation Interconnection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with ERCOT com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90F-7639-4CED-BB2C-B840106577EE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5. PRS Initiatives and Vo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522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Nodal Protocol Revision Requests (NPRR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5._PRS_Report.z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1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pplicability of RMR Incentive Factor on Reservation and Transportation Costs Associated with Firm Fuel Supplies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1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lignment of Currently Published Reports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13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Updated Terminology Related to Annual Market Settlement Operations Audits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PRR818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llow Curtailment of Certain DC Tie Load Prior to Declaring Emergency Condition – URGENT -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Approved with 5 Absten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15E-2BD8-4B73-A34B-D30ACBD03A44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5. PRS Initiatives and Vo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2286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2017 Goals, OBD List and Notice of Rejec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5._PRS_Report.zi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017 PRS Goal: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723960" indent="-11412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ther Binding Document List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tice of Revision Requests Rej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584640" indent="-1508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PRR798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Additional CRR Accounts Request –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No A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0840" indent="-18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21920" indent="-155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638-10F2-4514-9FD5-C12ED4A5ADEB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4419720" y="2362320"/>
          <a:ext cx="914400" cy="79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362320"/>
                    <a:ext cx="914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5"/>
          <p:cNvGraphicFramePr/>
          <p:nvPr/>
        </p:nvGraphicFramePr>
        <p:xfrm>
          <a:off x="4495680" y="3505320"/>
          <a:ext cx="914400" cy="792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4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3505320"/>
                    <a:ext cx="914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-15264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6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. 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vision Request Previously Tabled at TAC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4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PMGRR04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 Alignment with NPRR794, Relocation of Unregistered DG Reporting Requirements (Vote)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pproved by TAC through email voting to allow its implementation to stay in sync with NPRR794 that was Approved by the BOD on February 14</a:t>
            </a:r>
            <a:r>
              <a:rPr b="1" lang="en-US" sz="20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ercot.com/content/wcm/key_documents_lists/120149/044COPMGRR-07_TAC_Email_Vote_022317.xls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GRR05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tability Assessment for Interconnecting Generation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 with ERCOT comm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://ercot.com/content/wcm/key_documents_lists/107856/06._RRs_Tabled_by_TAC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664200" indent="-1713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79520" indent="-177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36EB-B9B3-4166-B892-804DD77B2405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GRR05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tability Limits in the Full Interconnection Study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GRR05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lanning Guide Revision Request Process –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GRR16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Removal of the Daily Grid Operations Summary Reports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OGRR16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lignment with NPRR776, Voltage Set Point Communication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Tabled pending Board action on NPRR776 on April 4</a:t>
            </a:r>
            <a:r>
              <a:rPr b="1" lang="en-US" sz="24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://ercot.com/content/wcm/key_documents_lists/107856/07._ROS_Report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910-32C6-452B-A073-551005B5ED6C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7.   ROS Initiatives and Vot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liability Operations Subcommittee (R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OS Procedures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OS Goals: 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7._ROS_Report.zip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5F8-F971-4CC4-B441-A4FC3ABD3D85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  <a:ea typeface="Arial"/>
              </a:rPr>
              <a:t>7.   ROS Initiatives and Vot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1"/>
          <p:cNvGraphicFramePr/>
          <p:nvPr/>
        </p:nvGraphicFramePr>
        <p:xfrm>
          <a:off x="7620120" y="2057400"/>
          <a:ext cx="914400" cy="79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057400"/>
                    <a:ext cx="914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2"/>
          <p:cNvGraphicFramePr/>
          <p:nvPr/>
        </p:nvGraphicFramePr>
        <p:xfrm>
          <a:off x="6934320" y="3352680"/>
          <a:ext cx="914400" cy="79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6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3352680"/>
                    <a:ext cx="9144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6858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Subcommittee (RMS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MGRR14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limination of REP-Specific Switch Hold Li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–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Note:  This revision request will become effective on 4/1/1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7856/08._RMS_Report.zip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ercial Operations Subcommittee (COPS)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PGRR060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Load Profiling Guide Clean Up Related to LPGRR057 -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PGRR06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Modifications to Annual Validation Timelines -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PS Goals:  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Unanimous Approval</a:t>
            </a:r>
            <a:r>
              <a:rPr b="1" lang="en-US" sz="2400" spc="-1" strike="noStrike">
                <a:solidFill>
                  <a:srgbClr val="71320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ercot.com/content/wcm/key_documents_lists/107856/09._COPS_Report.zip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3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31920" indent="-1731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23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TAC Update to 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B83-59DD-4528-A952-C13E9BC1D462}" type="slidenum">
              <a:rPr b="0" lang="en-US" sz="1200" spc="-1" strike="noStrike">
                <a:solidFill>
                  <a:srgbClr val="b5a788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1"/>
          <p:cNvSpPr/>
          <p:nvPr/>
        </p:nvSpPr>
        <p:spPr>
          <a:xfrm>
            <a:off x="99072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72314"/>
                </a:solidFill>
                <a:latin typeface="Gill Sans MT"/>
                <a:ea typeface="Arial"/>
              </a:rPr>
              <a:t>8-9. RMS and COPS Initiatives/Votes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Object 1"/>
          <p:cNvGraphicFramePr/>
          <p:nvPr/>
        </p:nvGraphicFramePr>
        <p:xfrm>
          <a:off x="7086600" y="4876920"/>
          <a:ext cx="7621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4876920"/>
                    <a:ext cx="7621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03-27T05:37:00Z</dcterms:modified>
  <cp:revision>1354</cp:revision>
  <dc:subject/>
  <dc:title>Instructions</dc:title>
</cp:coreProperties>
</file>