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</p:sldIdLst>
  <p:sldSz cx="9144000" cy="6858000"/>
  <p:notesSz cx="7027863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/>
          <p:nvPr/>
        </p:nvSpPr>
        <p:spPr>
          <a:xfrm>
            <a:off x="0" y="0"/>
            <a:ext cx="7027200" cy="9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44880" cy="46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dt" idx="35"/>
          </p:nvPr>
        </p:nvSpPr>
        <p:spPr>
          <a:xfrm>
            <a:off x="3979800" y="0"/>
            <a:ext cx="3044880" cy="46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 type="sldImg"/>
          </p:nvPr>
        </p:nvSpPr>
        <p:spPr>
          <a:xfrm>
            <a:off x="1185480" y="698040"/>
            <a:ext cx="4654440" cy="349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move the slid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 type="body"/>
          </p:nvPr>
        </p:nvSpPr>
        <p:spPr>
          <a:xfrm>
            <a:off x="703440" y="4424040"/>
            <a:ext cx="5619600" cy="41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 type="ftr" idx="36"/>
          </p:nvPr>
        </p:nvSpPr>
        <p:spPr>
          <a:xfrm>
            <a:off x="0" y="8844120"/>
            <a:ext cx="3044880" cy="46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6"/>
          <p:cNvSpPr>
            <a:spLocks noGrp="1"/>
          </p:cNvSpPr>
          <p:nvPr>
            <p:ph type="sldNum" idx="37"/>
          </p:nvPr>
        </p:nvSpPr>
        <p:spPr>
          <a:xfrm>
            <a:off x="3979800" y="8844120"/>
            <a:ext cx="3044880" cy="46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3D63E6-90BD-4F9E-88C4-AD2877A8B9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703440" y="4424040"/>
            <a:ext cx="561960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979800" y="8844120"/>
            <a:ext cx="30448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E1C7CA-9D64-4023-8E91-125872B76F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703440" y="4424040"/>
            <a:ext cx="561960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Slide Number Placeholder 3"/>
          <p:cNvSpPr/>
          <p:nvPr/>
        </p:nvSpPr>
        <p:spPr>
          <a:xfrm>
            <a:off x="3979800" y="8844120"/>
            <a:ext cx="30448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D5655D-4428-4301-8CA0-A55925E741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703440" y="4424040"/>
            <a:ext cx="561960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Slide Number Placeholder 3"/>
          <p:cNvSpPr/>
          <p:nvPr/>
        </p:nvSpPr>
        <p:spPr>
          <a:xfrm>
            <a:off x="3979800" y="8844120"/>
            <a:ext cx="30448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6C0B9A-786D-4F0A-8F61-F0CE9615B0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703440" y="4424040"/>
            <a:ext cx="561960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Slide Number Placeholder 3"/>
          <p:cNvSpPr/>
          <p:nvPr/>
        </p:nvSpPr>
        <p:spPr>
          <a:xfrm>
            <a:off x="3979800" y="8844120"/>
            <a:ext cx="30448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D19710-5C64-48A7-B497-2EDB63C81C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703440" y="4424040"/>
            <a:ext cx="561960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Slide Number Placeholder 3"/>
          <p:cNvSpPr/>
          <p:nvPr/>
        </p:nvSpPr>
        <p:spPr>
          <a:xfrm>
            <a:off x="3979800" y="8844120"/>
            <a:ext cx="30448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D8B9FE-79CC-4F7B-8B8D-F940FDFC6D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703440" y="4424040"/>
            <a:ext cx="561960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Slide Number Placeholder 3"/>
          <p:cNvSpPr/>
          <p:nvPr/>
        </p:nvSpPr>
        <p:spPr>
          <a:xfrm>
            <a:off x="3979800" y="8844120"/>
            <a:ext cx="30448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BF2171-93AF-4704-9171-F56732E5A0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703440" y="4424040"/>
            <a:ext cx="561960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Slide Number Placeholder 3"/>
          <p:cNvSpPr/>
          <p:nvPr/>
        </p:nvSpPr>
        <p:spPr>
          <a:xfrm>
            <a:off x="3979800" y="8844120"/>
            <a:ext cx="30448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443D35-D032-40B1-97D1-29EA095AF7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EA9D-CAB2-4DAF-B308-1FA71298E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77C6-3CF1-424E-BDEA-2446697C9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12E10D-7B4C-4B30-8148-BCB0B1768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0BA942E-C811-412C-A23C-CEE24DF1A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C44820C-F83D-44AD-B5A8-60720E5A2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7E5822D-582B-4ACC-A46D-89D9C3F06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8B791A0-5B8E-4AF7-9A35-43C3BDAF7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DB0718-EDD8-4E88-A6D2-4DE510E9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340739E-FA02-4905-A340-5A24034C7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58959FA-01CB-4C62-87D1-61C25E8E4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906FA6-C28A-4EB0-8407-0EE464CF4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4BFA19-2E3C-400C-AEE3-6C8ECB7CE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C36F-97D1-47F1-9B97-79435D8E4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230E571-5B61-43A8-9325-B7B33FD0C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8FE0E0F-3123-4B74-8A02-1936ED47B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86A0E77-CF6D-456F-BC87-79E0BC0C4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A23A83F-9C50-460B-91B7-12742B4A5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F216090-1D3A-407B-92B4-8DC30B0D1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525DB03-34D7-4B24-92A4-45F8B8BE1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FC7DBF1-ED55-42F8-B879-C7988237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9EE6D50-DFA7-4954-90CA-20F363CC1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C091BBF-6C7E-4470-AE05-F31A1E272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8D3A025-4535-4318-B367-A8E3B9768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9A5C-FE70-4B61-A297-7E1C0AD83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00F3D07-CCD0-4795-81D3-0CEA06819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DA0AC-05AC-4A88-8486-B621164BD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775AA-FF3C-4E12-B856-E744DEC4A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D23B0-F948-477F-986D-F8E9507E3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66900-DFF2-489B-9E64-9CE95F391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97E33-7AAF-4698-839A-FF17DF1C3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42FBE-FBB3-4F17-AD3F-11C962769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A2168-CCF9-432D-938E-A0F417A1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E485-CE22-4D45-B71C-CE2F74EE2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BF3E7-C42C-40B0-B023-F719C2AC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26F8D-DB15-407D-86EB-09E078CE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4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5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E9806-5B67-4D1D-B2E5-F09B7E901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F5706-45F2-4138-930E-00A454990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7DE19-D46E-4B64-90C9-D060AE43D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2CE9-9AD2-4FBA-AA57-4359A1404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8832-F055-403E-A452-3FCA7AD1B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5987F3-CF65-4AC6-82CC-4796B2721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951D-16FD-4508-8C92-98C25E14B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90299F-31EF-40F4-98BB-85EBEB6B3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F43564-C4DA-4B9D-A8CC-6BFFF896E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3F6A7C-F10B-4703-9EB4-A08FBC05C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EDF8AD-B520-442D-9967-64E852B61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5B084C-45F4-4544-95F2-2946D22E0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4DAA29-E8F4-4016-AB32-979CF3D02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C824C6-84DC-421D-A6CA-4F98705B2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C1C674-CE87-4345-B166-E42DA3CB6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E33B71-3F27-4DD4-9209-715F882A8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F42CE1-DCC6-4932-A0E8-5ABD25B7E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382B-EFE0-477B-9287-27AFDD8CE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2C5B94-BF22-4FBD-8CF2-A30F47622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EE890D-9AEF-49F5-83EC-CC911AC16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E0BFD0-A21A-4CDF-AA45-CA0F232F1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CAB2B9-821E-491A-BC08-DF13FA3AD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EA621A-547B-4519-9843-0B36FD7B9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2B594E-BFAD-4639-A413-10FD6038F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5BF0EE-DE01-45EF-B671-F7E3AB466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625F70-8830-4484-9DFE-709F4C2D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58E712-D43D-4612-BEA3-2F4CD7A6D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0F929C-53EE-4A29-9533-074184E6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39AF-6875-4FC3-8E23-494C0159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03668E-21BF-4435-9943-626A7BA00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9C6826-6A58-4CF8-8701-51377E170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CE1093-EA01-481D-91DE-BC05ECBCE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5DCEEF-5AEB-458D-8C13-DBACD9305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A9E2F9-201A-4AD9-94EA-41512F5F3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DE5CEE-6665-40F9-9261-350B19966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F01BD1-249B-4D6A-BE89-0A1DD2BD6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2FB630-37C0-4038-8649-8933F8687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4B14FD-62A9-4D86-A5DB-16834D84C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1B6E91-8E6D-46D0-B286-B46B98DE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848B-0A62-4DE5-A73E-24F925054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400E10-4248-42A5-8213-907F4D8E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A4FEE4-3ED9-4307-979C-63ADA1F43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0C39BB-4A1B-4B4C-9ADD-AEC25BC34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26080D-03C1-4A2C-A8AD-A7DE59D45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E0CD61-598F-4862-9136-7F5D81E2D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F1C45C-CD50-411C-A152-AFACEC7C0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015ED9-D2BF-45EE-9BCF-3910DDCE5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2A2C83-7B79-4334-BBB4-2A429D114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6D3450-703A-44CB-BEAE-697303D9E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4254A8-C569-465C-A36A-7B38948AA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6891-A345-433D-AF10-4FCD2A4D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4C9533-E6C0-43AB-887C-B60F38A16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BB0A30-1DA1-4374-9907-3B872960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7BD2CF-9906-4512-B3DE-0EE47D694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041C77-6557-4EDF-86E8-EB0319E1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1A3F64-9843-40F3-B1DF-074B06E8B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7486AB-05EC-418C-AE41-6419AA776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FAA25B-2D3D-48CD-B2C4-6B0D5EBD1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55A18E-EB27-4D40-8E6E-C8E643D12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BD5AB4-611E-4097-850B-3490B6A97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72D4EC-BFDE-499C-844E-6AAB1508E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CFCB6A-48F2-41F3-BE90-2F3F5B59608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59752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arch 23rd , 2017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B562F8-93E9-45A6-A298-3BB306DC95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43A0A9-A278-4F2B-88D6-EAC1C374D0CE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MARCH 23RD , 2017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B08AEC-8345-48CB-A9BB-4D9018513FA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A89F60-547F-4AAE-A58E-C5282DE4AE5D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ftr" idx="27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RCH 23RD , 2017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304406-6536-471E-A73F-1DE4740C631A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28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RCH 23RD , 2017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254D97-4C68-4C61-AA4B-CCD6B233D757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ftr" idx="29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RCH 23RD , 2017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BC9289-F542-4C5A-8699-2FC9BE52E910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ftr" idx="30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RCH 23RD , 2017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87A325-0BC8-4B14-9187-1C6C1B1FC8E1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ftr" idx="31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RCH 23RD , 2017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7A9D34-4FD4-48C6-9FF5-D877BE36E870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 type="ftr" idx="32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RCH 23RD , 2017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11B15E-78D4-4A9A-8B66-F5756FB7115C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 type="ftr" idx="33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RCH 23RD , 2017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A0E832-C1F1-4895-9966-9B44A3CFC525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ftr" idx="34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RCH 23RD , 2017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82C14A-4C35-4560-A6A4-9FB459D944FD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MARCH 23RD , 2017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93F893-5EE6-44AB-B614-8549A72ED8B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ftr" idx="7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arch 23rd , 2017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126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84E824-3DA0-4CC2-AF47-61CC3020D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ftr" idx="8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arch 23rd , 2017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12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7431DC-D482-426B-882A-13F04512B737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MARCH 23RD , 2017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A03D24-67C6-4D0E-AEBB-68EC20341C5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12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2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57D598-3715-499C-9FC3-0F4742373FA8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3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MARCH 23RD , 2017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4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CFB7B6-47DF-4910-8D1C-66D1CE0F48C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5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AE6F24-DE2F-46BB-B6D5-D6327898643A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6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MARCH 23RD , 2017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7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E0CF12-7BD2-4A26-AA45-3526E4792B0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10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1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18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74D2B4-9A25-4A26-9B7B-2E72E89FBDE5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19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34406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44068"/>
                </a:solidFill>
                <a:latin typeface="Times New Roman"/>
              </a:rPr>
              <a:t>MARCH 23RD , 2017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0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34406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E8AF3E-FE62-40EB-8E8B-14B2491C2D20}" type="slidenum">
              <a:rPr b="0" lang="en-US" sz="1000" spc="-1" strike="noStrike">
                <a:solidFill>
                  <a:srgbClr val="34406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10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1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2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E5DEBC-305B-4094-909A-8C2B3A2AA149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2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MARCH 23RD , 2017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2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7EC600-BA82-4CCA-9694-C51454B8FCB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3" name="Group 13"/>
          <p:cNvGrpSpPr/>
          <p:nvPr/>
        </p:nvGrpSpPr>
        <p:grpSpPr>
          <a:xfrm>
            <a:off x="787320" y="2804760"/>
            <a:ext cx="7543800" cy="2871720"/>
            <a:chOff x="787320" y="2804760"/>
            <a:chExt cx="7543800" cy="2871720"/>
          </a:xfrm>
        </p:grpSpPr>
        <p:sp>
          <p:nvSpPr>
            <p:cNvPr id="784" name="TextBox 9"/>
            <p:cNvSpPr/>
            <p:nvPr/>
          </p:nvSpPr>
          <p:spPr>
            <a:xfrm>
              <a:off x="787320" y="3082680"/>
              <a:ext cx="7543800" cy="25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holesale Market Subcommittee (WMS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Jeremy Carpe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017 WMS Ch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chnical Advisory Committee (TAC) Meeting Repor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RCOT Publ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Straight Connector 12"/>
            <p:cNvSpPr/>
            <p:nvPr/>
          </p:nvSpPr>
          <p:spPr>
            <a:xfrm flipV="1">
              <a:off x="787320" y="2804760"/>
              <a:ext cx="6286680" cy="12600"/>
            </a:xfrm>
            <a:prstGeom prst="line">
              <a:avLst/>
            </a:prstGeom>
            <a:ln w="15840">
              <a:solidFill>
                <a:srgbClr val="003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6" name="Footer Placeholder 4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RCH 23RD , 2017 TAC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30C3E4-75A2-4D49-AE86-7D5157D56C8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libri Light"/>
              </a:rPr>
              <a:t>Meeting Schedule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Last WMS meet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March 1</a:t>
            </a:r>
            <a:r>
              <a:rPr b="0" lang="en-US" sz="1800" spc="-1" strike="noStrike" baseline="30000">
                <a:solidFill>
                  <a:srgbClr val="404040"/>
                </a:solidFill>
                <a:latin typeface="Calibri"/>
              </a:rPr>
              <a:t>st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, 2017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Next WMS meet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April 5</a:t>
            </a:r>
            <a:r>
              <a:rPr b="0" lang="en-US" sz="1800" spc="-1" strike="noStrike" baseline="30000">
                <a:solidFill>
                  <a:srgbClr val="404040"/>
                </a:solidFill>
                <a:latin typeface="Calibri"/>
              </a:rPr>
              <a:t>th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, 2017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0" name="Footer Placeholder 4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RCH 23RD , 2017 TAC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Slide Number Placeholder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5FDE12-C84F-4E7A-AEC5-43AAD77A02F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libri Light"/>
              </a:rPr>
              <a:t>TAC WMS Voting Items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4000"/>
          </a:bodyPr>
          <a:p>
            <a:pPr lvl="1" marL="1879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2017 WMS Goal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1879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404040"/>
                </a:solidFill>
                <a:latin typeface="Calibri"/>
              </a:rPr>
              <a:t>Assist in the development of appropriate Resource Adequacy related market changes.</a:t>
            </a:r>
            <a:endParaRPr b="0" lang="en-US" sz="1100" spc="-1" strike="noStrike">
              <a:solidFill>
                <a:srgbClr val="404040"/>
              </a:solidFill>
              <a:latin typeface="Calibri"/>
            </a:endParaRPr>
          </a:p>
          <a:p>
            <a:pPr lvl="2" marL="532440" indent="-1713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Calibri"/>
              </a:rPr>
              <a:t>Process TAC Resource Adequacy directives</a:t>
            </a:r>
            <a:endParaRPr b="0" lang="en-US" sz="1000" spc="-1" strike="noStrike">
              <a:solidFill>
                <a:srgbClr val="404040"/>
              </a:solidFill>
              <a:latin typeface="Calibri"/>
            </a:endParaRPr>
          </a:p>
          <a:p>
            <a:pPr lvl="2" marL="532440" indent="-1713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Calibri"/>
              </a:rPr>
              <a:t>Evaluate market enhancement performance and propose changes where appropriate</a:t>
            </a:r>
            <a:endParaRPr b="0" lang="en-US" sz="1000" spc="-1" strike="noStrike">
              <a:solidFill>
                <a:srgbClr val="404040"/>
              </a:solidFill>
              <a:latin typeface="Calibri"/>
            </a:endParaRPr>
          </a:p>
          <a:p>
            <a:pPr lvl="1" marL="1879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404040"/>
                </a:solidFill>
                <a:latin typeface="Calibri"/>
              </a:rPr>
              <a:t>Explore market design enhancements and monitor ongoing market improvements which are cost effective</a:t>
            </a:r>
            <a:endParaRPr b="0" lang="en-US" sz="1100" spc="-1" strike="noStrike">
              <a:solidFill>
                <a:srgbClr val="404040"/>
              </a:solidFill>
              <a:latin typeface="Calibri"/>
            </a:endParaRPr>
          </a:p>
          <a:p>
            <a:pPr lvl="1" marL="1879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404040"/>
                </a:solidFill>
                <a:latin typeface="Calibri"/>
              </a:rPr>
              <a:t>Review market performance to ensure outcomes are consistent with design and implement changes as necessary.</a:t>
            </a:r>
            <a:endParaRPr b="0" lang="en-US" sz="1100" spc="-1" strike="noStrike">
              <a:solidFill>
                <a:srgbClr val="404040"/>
              </a:solidFill>
              <a:latin typeface="Calibri"/>
            </a:endParaRPr>
          </a:p>
          <a:p>
            <a:pPr lvl="2" marL="532440" indent="-1713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Calibri"/>
              </a:rPr>
              <a:t>Out-of-market actions, RMR, RUC, HDL Overrides, etc.</a:t>
            </a:r>
            <a:endParaRPr b="0" lang="en-US" sz="1000" spc="-1" strike="noStrike">
              <a:solidFill>
                <a:srgbClr val="404040"/>
              </a:solidFill>
              <a:latin typeface="Calibri"/>
            </a:endParaRPr>
          </a:p>
          <a:p>
            <a:pPr lvl="2" marL="532440" indent="-1713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Calibri"/>
              </a:rPr>
              <a:t>Competitive vs. non-competitive solutions</a:t>
            </a:r>
            <a:endParaRPr b="0" lang="en-US" sz="1000" spc="-1" strike="noStrike">
              <a:solidFill>
                <a:srgbClr val="404040"/>
              </a:solidFill>
              <a:latin typeface="Calibri"/>
            </a:endParaRPr>
          </a:p>
          <a:p>
            <a:pPr lvl="1" marL="1879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404040"/>
                </a:solidFill>
                <a:latin typeface="Calibri"/>
              </a:rPr>
              <a:t>Accommodate the expansion of demand response and emerging technologies.</a:t>
            </a:r>
            <a:endParaRPr b="0" lang="en-US" sz="1100" spc="-1" strike="noStrike">
              <a:solidFill>
                <a:srgbClr val="404040"/>
              </a:solidFill>
              <a:latin typeface="Calibri"/>
            </a:endParaRPr>
          </a:p>
          <a:p>
            <a:pPr lvl="2" marL="532440" indent="-1713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Calibri"/>
              </a:rPr>
              <a:t>Review the price impact of DG.</a:t>
            </a:r>
            <a:endParaRPr b="0" lang="en-US" sz="1000" spc="-1" strike="noStrike">
              <a:solidFill>
                <a:srgbClr val="404040"/>
              </a:solidFill>
              <a:latin typeface="Calibri"/>
            </a:endParaRPr>
          </a:p>
          <a:p>
            <a:pPr lvl="2" marL="532440" indent="-1713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Calibri"/>
              </a:rPr>
              <a:t>Consider improvements to utilization rate of ERS.</a:t>
            </a:r>
            <a:endParaRPr b="0" lang="en-US" sz="1000" spc="-1" strike="noStrike">
              <a:solidFill>
                <a:srgbClr val="404040"/>
              </a:solidFill>
              <a:latin typeface="Calibri"/>
            </a:endParaRPr>
          </a:p>
          <a:p>
            <a:pPr lvl="1" marL="1879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404040"/>
                </a:solidFill>
                <a:latin typeface="Calibri"/>
              </a:rPr>
              <a:t>Explore ways to improve credit practices. </a:t>
            </a:r>
            <a:endParaRPr b="0" lang="en-US" sz="1100" spc="-1" strike="noStrike">
              <a:solidFill>
                <a:srgbClr val="404040"/>
              </a:solidFill>
              <a:latin typeface="Calibri"/>
            </a:endParaRPr>
          </a:p>
          <a:p>
            <a:pPr lvl="1" marL="1879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404040"/>
                </a:solidFill>
                <a:latin typeface="Calibri"/>
              </a:rPr>
              <a:t>Promote access to ERCOT markets through evaluation of potential barriers to entry.</a:t>
            </a:r>
            <a:endParaRPr b="0" lang="en-US" sz="1100" spc="-1" strike="noStrike">
              <a:solidFill>
                <a:srgbClr val="404040"/>
              </a:solidFill>
              <a:latin typeface="Calibri"/>
            </a:endParaRPr>
          </a:p>
          <a:p>
            <a:pPr lvl="1" marL="1879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404040"/>
                </a:solidFill>
                <a:latin typeface="Calibri"/>
              </a:rPr>
              <a:t>Assist the PLWG in reviewing the market impacts of transmission planning.</a:t>
            </a:r>
            <a:endParaRPr b="0" lang="en-US" sz="1100" spc="-1" strike="noStrike">
              <a:solidFill>
                <a:srgbClr val="404040"/>
              </a:solidFill>
              <a:latin typeface="Calibri"/>
            </a:endParaRPr>
          </a:p>
          <a:p>
            <a:pPr lvl="1" marL="1879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404040"/>
                </a:solidFill>
                <a:latin typeface="Calibri"/>
              </a:rPr>
              <a:t>Review State of the Market Report and consider necessary recommendations.</a:t>
            </a:r>
            <a:endParaRPr b="0" lang="en-US" sz="1100" spc="-1" strike="noStrike">
              <a:solidFill>
                <a:srgbClr val="404040"/>
              </a:solidFill>
              <a:latin typeface="Calibri"/>
            </a:endParaRPr>
          </a:p>
          <a:p>
            <a:pPr lvl="1" marL="1879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404040"/>
                </a:solidFill>
                <a:latin typeface="Calibri"/>
              </a:rPr>
              <a:t>Collaborate with ERCOT Staff on the review of ancillary service needs and implement changes as necessary.</a:t>
            </a:r>
            <a:endParaRPr b="0" lang="en-US" sz="1100" spc="-1" strike="noStrike">
              <a:solidFill>
                <a:srgbClr val="404040"/>
              </a:solidFill>
              <a:latin typeface="Calibri"/>
            </a:endParaRPr>
          </a:p>
          <a:p>
            <a:pPr lvl="1" marL="1879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404040"/>
                </a:solidFill>
                <a:latin typeface="Calibri"/>
              </a:rPr>
              <a:t>Work with ERCOT Staff to develop Protocols and market improvements that support increased data transparency and data availability to the market.</a:t>
            </a:r>
            <a:endParaRPr b="0" lang="en-US" sz="1100" spc="-1" strike="noStrike">
              <a:solidFill>
                <a:srgbClr val="404040"/>
              </a:solidFill>
              <a:latin typeface="Calibri"/>
            </a:endParaRPr>
          </a:p>
          <a:p>
            <a:pPr lvl="1" marL="1879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404040"/>
                </a:solidFill>
                <a:latin typeface="Calibri"/>
              </a:rPr>
              <a:t>Consolidate and combine working groups as necessary.</a:t>
            </a:r>
            <a:endParaRPr b="0" lang="en-US" sz="1100" spc="-1" strike="noStrike">
              <a:solidFill>
                <a:srgbClr val="404040"/>
              </a:solidFill>
              <a:latin typeface="Calibri"/>
            </a:endParaRPr>
          </a:p>
          <a:p>
            <a:pPr lvl="1" marL="1879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1879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4" name="Footer Placeholder 2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RCH 23RD , 2017 TAC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Slide Number Placeholder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A3E484-F057-4E1C-8923-6EDA0E9B3B8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libri Light"/>
              </a:rPr>
              <a:t>TAC WMS Voting Items Cont’d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Multi-Interval Real-Time Market Feasibility Study (MIRTM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Endorsed by WMS as recommended by SAWG and as revised by WM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8" name="Footer Placeholder 2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RCH 23RD , 2017 TAC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Slide Number Placeholder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36D8F7-DAC3-4AFB-BFEE-90874584B0A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libri Light"/>
              </a:rPr>
              <a:t>WMS Voting Items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5000"/>
          </a:bodyPr>
          <a:p>
            <a:pPr lvl="1" marL="1900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NPRR 799 – Updates to Outages of Transmission Facilitie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1900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WMS voted to endorse with 1/19/17 Morgan Stanley comment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1900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NPRR 776 – Voltage Set Point Communicatio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1900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WMS voted to endorse with 1/23/17 ERCOT comment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1900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NPRR 809 – GTC or GTL for New Generation Interconnectio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1900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WMS voted to recommend approval as amended by the 1/24/17 ERCOT comment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1900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NPRR 815 – Revise the Limitation of Load Resources Providing Responsive Reserve Service (RRS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1900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WMS voted to endors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1900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NPRR 818 – Allow Curtailment of DC Tie Load Prior to Declaring Emergency Condition – Urgent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1900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WMS voted to endorse with 2/24/17 REMC comments and request QMWG to address the related issues of curtailments during Watch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1900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1900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1900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2" name="Footer Placeholder 2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RCH 23RD , 2017 TAC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Slide Number Placeholder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BC6EDA-EF2C-42BB-8AD9-941465A4B67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libri Light"/>
              </a:rPr>
              <a:t>WMS Voting Items Cont’d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NPRR 798 – Additional CRR Accounts Request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WMS voted to recommend PRS reject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NOGRR 166 – Daily Grid Operations Summary Report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WMS voted to recommend ROS approve NOGRR 166 as edited by WM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6" name="Footer Placeholder 2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RCH 23RD , 2017 TAC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Slide Number Placeholder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309266-EB4A-4D45-982E-2E06EE60013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libri Light"/>
              </a:rPr>
              <a:t>Other Discussion Items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Switchable Generation Resources updat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Bill Blevins presented a progress updat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WMS plans to vote on white paper next month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Greens Bayou RMR contract cancelled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Requested ERCOT present updated estimated costs at September WMS meeting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Possible combining of QMWG and CMWG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Trial of coordinated meeting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0" name="Footer Placeholder 2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RCH 23RD , 2017 TAC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Slide Number Placeholder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4A4276-F1C1-4243-8725-E524E1275DA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23:12:02Z</dcterms:created>
  <dc:creator>Diana</dc:creator>
  <dc:description/>
  <dc:language>en-US</dc:language>
  <cp:lastModifiedBy>Carpenter, Jeremy</cp:lastModifiedBy>
  <cp:lastPrinted>2016-09-28T13:51:23Z</cp:lastPrinted>
  <dcterms:modified xsi:type="dcterms:W3CDTF">2017-03-10T19:17:30Z</dcterms:modified>
  <cp:revision>908</cp:revision>
  <dc:subject/>
  <dc:title>FileNew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14C4FFC4A894504CB30DBFB7150C9A36</vt:lpwstr>
  </property>
  <property fmtid="{D5CDD505-2E9C-101B-9397-08002B2CF9AE}" pid="3" name="Information Classification">
    <vt:lpwstr/>
  </property>
  <property fmtid="{D5CDD505-2E9C-101B-9397-08002B2CF9AE}" pid="4" name="Vault">
    <vt:lpwstr>0</vt:lpwstr>
  </property>
</Properties>
</file>