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47"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124D-8A1C-41E6-A783-A4335053D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6760" y="692280"/>
            <a:ext cx="4616640" cy="3463920"/>
          </a:xfrm>
          <a:prstGeom prst="rect">
            <a:avLst/>
          </a:prstGeom>
          <a:ln w="0">
            <a:noFill/>
          </a:ln>
        </p:spPr>
      </p:sp>
      <p:sp>
        <p:nvSpPr>
          <p:cNvPr id="30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9C63-0440-4D21-A0AF-3921B865B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6760" y="692280"/>
            <a:ext cx="4616640" cy="3463920"/>
          </a:xfrm>
          <a:prstGeom prst="rect">
            <a:avLst/>
          </a:prstGeom>
          <a:ln w="0">
            <a:noFill/>
          </a:ln>
        </p:spPr>
      </p:sp>
      <p:sp>
        <p:nvSpPr>
          <p:cNvPr id="31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E98E-D594-4ED8-8887-0A7494107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6760" y="692280"/>
            <a:ext cx="4616640" cy="3463920"/>
          </a:xfrm>
          <a:prstGeom prst="rect">
            <a:avLst/>
          </a:prstGeom>
          <a:ln w="0">
            <a:noFill/>
          </a:ln>
        </p:spPr>
      </p:sp>
      <p:sp>
        <p:nvSpPr>
          <p:cNvPr id="31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9A76-C9E2-4971-A4FE-C086BE5EB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66760" y="692280"/>
            <a:ext cx="4616640" cy="3463920"/>
          </a:xfrm>
          <a:prstGeom prst="rect">
            <a:avLst/>
          </a:prstGeom>
          <a:ln w="0">
            <a:noFill/>
          </a:ln>
        </p:spPr>
      </p:sp>
      <p:sp>
        <p:nvSpPr>
          <p:cNvPr id="28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1459-C8F0-4D74-AAAD-30FD18973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6760" y="692280"/>
            <a:ext cx="4616640" cy="3463920"/>
          </a:xfrm>
          <a:prstGeom prst="rect">
            <a:avLst/>
          </a:prstGeom>
          <a:ln w="0">
            <a:noFill/>
          </a:ln>
        </p:spPr>
      </p:sp>
      <p:sp>
        <p:nvSpPr>
          <p:cNvPr id="28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17BB-9A58-4DEC-9207-D48269721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6760" y="692280"/>
            <a:ext cx="4616640" cy="3463920"/>
          </a:xfrm>
          <a:prstGeom prst="rect">
            <a:avLst/>
          </a:prstGeom>
          <a:ln w="0">
            <a:noFill/>
          </a:ln>
        </p:spPr>
      </p:sp>
      <p:sp>
        <p:nvSpPr>
          <p:cNvPr id="29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2ED0-E972-439D-812C-B989AD699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6760" y="692280"/>
            <a:ext cx="4616640" cy="3463920"/>
          </a:xfrm>
          <a:prstGeom prst="rect">
            <a:avLst/>
          </a:prstGeom>
          <a:ln w="0">
            <a:noFill/>
          </a:ln>
        </p:spPr>
      </p:sp>
      <p:sp>
        <p:nvSpPr>
          <p:cNvPr id="2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786F-D70C-431E-9B12-7921C0210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66760" y="692280"/>
            <a:ext cx="4616640" cy="3463920"/>
          </a:xfrm>
          <a:prstGeom prst="rect">
            <a:avLst/>
          </a:prstGeom>
          <a:ln w="0">
            <a:noFill/>
          </a:ln>
        </p:spPr>
      </p:sp>
      <p:sp>
        <p:nvSpPr>
          <p:cNvPr id="29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2B86-F561-4CF6-8DDF-9FBB46179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6760" y="692280"/>
            <a:ext cx="4616640" cy="3463920"/>
          </a:xfrm>
          <a:prstGeom prst="rect">
            <a:avLst/>
          </a:prstGeom>
          <a:ln w="0">
            <a:noFill/>
          </a:ln>
        </p:spPr>
      </p:sp>
      <p:sp>
        <p:nvSpPr>
          <p:cNvPr id="29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0B8E-7EAF-4E02-A976-D2CD7085D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66760" y="692280"/>
            <a:ext cx="4616640" cy="3463920"/>
          </a:xfrm>
          <a:prstGeom prst="rect">
            <a:avLst/>
          </a:prstGeom>
          <a:ln w="0">
            <a:noFill/>
          </a:ln>
        </p:spPr>
      </p:sp>
      <p:sp>
        <p:nvSpPr>
          <p:cNvPr id="30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8325-C5EB-431E-8B52-C0ABF00EA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6760" y="692280"/>
            <a:ext cx="4616640" cy="3463920"/>
          </a:xfrm>
          <a:prstGeom prst="rect">
            <a:avLst/>
          </a:prstGeom>
          <a:ln w="0">
            <a:noFill/>
          </a:ln>
        </p:spPr>
      </p:sp>
      <p:sp>
        <p:nvSpPr>
          <p:cNvPr id="3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8F4C-8940-4D55-8183-841B9FA74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7438A27-0DFE-4034-9F50-D37704834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265B04-5DCE-4708-8279-F28D5A328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598782C-C671-4214-8FDB-32BD70A086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B2F16B6-2FA8-4BBE-A25B-4E909DFF5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87232-AEB8-41DD-8D43-BD9C575E9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A4A39-F8FE-4DA6-BE82-B8ECA18E9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A2807-EB21-47C6-85A3-FD3AF721E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79C22-CD2D-495C-8D7D-ED4AA2E46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85C2A-8FC5-495E-B27C-716A3B130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56E3D-2401-44CA-90CA-9A1B2F835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1FB61-762D-4D33-AAD3-924EC22D9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8419CDD-5302-46C0-964F-CBC8ADF30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82F3A-A006-4326-8DAC-6E95247B1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7D914-1DF6-483D-80FD-5E948ADE3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87B23-9A2E-4096-AC04-6AAF3B603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D4714-C12C-47E0-A176-9971E1285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B2584-8FBD-428E-9CA8-F6EAE6E9D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52550C-475D-4D90-99CC-10CD116EA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D03E09-D6E5-4B94-AFAA-A7B9BB158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E17E00-6A94-41F6-9E5F-670E1129E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FC7E09A-B6CC-4B5C-9967-CE423281F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23B453-8B71-4B08-AB15-CD76A2969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D69AA5-6F12-4AD6-AF6F-FB79915E3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A9722B-968D-44B4-8E64-8D6C03D62D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4A5B-3ED4-41EE-8A45-610C34FE9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346C-DF5D-4E1E-92BE-55E530470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924C4-96E6-4D78-8C70-5433E21AAB4E}"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8E934-62F7-4C48-B9DF-24CAB5D8ED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2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Picture 11" descr=""/>
          <p:cNvPicPr/>
          <p:nvPr/>
        </p:nvPicPr>
        <p:blipFill>
          <a:blip r:embed="rId2"/>
          <a:stretch/>
        </p:blipFill>
        <p:spPr>
          <a:xfrm>
            <a:off x="212760" y="0"/>
            <a:ext cx="8718480" cy="13716000"/>
          </a:xfrm>
          <a:prstGeom prst="rect">
            <a:avLst/>
          </a:prstGeom>
          <a:ln w="0">
            <a:noFill/>
          </a:ln>
        </p:spPr>
      </p:pic>
      <p:sp>
        <p:nvSpPr>
          <p:cNvPr id="166"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1" descr=""/>
          <p:cNvPicPr/>
          <p:nvPr/>
        </p:nvPicPr>
        <p:blipFill>
          <a:blip r:embed="rId2"/>
          <a:stretch/>
        </p:blipFill>
        <p:spPr>
          <a:xfrm>
            <a:off x="212760" y="0"/>
            <a:ext cx="8718480" cy="13716000"/>
          </a:xfrm>
          <a:prstGeom prst="rect">
            <a:avLst/>
          </a:prstGeom>
          <a:ln w="0">
            <a:noFill/>
          </a:ln>
        </p:spPr>
      </p:pic>
      <p:sp>
        <p:nvSpPr>
          <p:cNvPr id="20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586CE-0078-427E-8412-F16FEF6EA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Michelle Trenary</a:t>
            </a:r>
            <a:br>
              <a:rPr sz="2800"/>
            </a:br>
            <a:r>
              <a:rPr b="0" lang="en-US" sz="2800" spc="-1" strike="noStrike">
                <a:solidFill>
                  <a:srgbClr val="000000"/>
                </a:solidFill>
                <a:latin typeface="Arial Black"/>
              </a:rPr>
              <a:t>3/23/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Update</a:t>
            </a:r>
            <a:endParaRPr b="0" lang="en-US" sz="2400" spc="-1" strike="noStrike">
              <a:solidFill>
                <a:srgbClr val="000000"/>
              </a:solidFill>
              <a:latin typeface="Arial Black"/>
            </a:endParaRPr>
          </a:p>
        </p:txBody>
      </p:sp>
      <p:sp>
        <p:nvSpPr>
          <p:cNvPr id="274" name=""/>
          <p:cNvSpPr txBox="1"/>
          <p:nvPr/>
        </p:nvSpPr>
        <p:spPr>
          <a:xfrm>
            <a:off x="266760" y="685440"/>
            <a:ext cx="8686800" cy="5638680"/>
          </a:xfrm>
          <a:prstGeom prst="rect">
            <a:avLst/>
          </a:prstGeom>
          <a:noFill/>
          <a:ln w="0">
            <a:noFill/>
          </a:ln>
        </p:spPr>
        <p:txBody>
          <a:bodyPr anchor="t">
            <a:normAutofit/>
          </a:bodyPr>
          <a:p>
            <a:pPr lvl="1"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the following NPRRs prior to implementation,  March 7-9, 2017</a:t>
            </a:r>
            <a:endParaRPr b="0" lang="en-US" sz="2400" spc="-1" strike="noStrike">
              <a:solidFill>
                <a:srgbClr val="000000"/>
              </a:solidFill>
              <a:latin typeface="Arial"/>
            </a:endParaRPr>
          </a:p>
          <a:p>
            <a:pPr lvl="1" marL="3999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272, Definition and Participation of Quick Start Generation Resources</a:t>
            </a:r>
            <a:endParaRPr b="0" lang="en-US" sz="24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QSEs with Quick Start Units to telemeter OFFQS status</a:t>
            </a:r>
            <a:endParaRPr b="0" lang="en-US" sz="1800" spc="-1" strike="noStrike">
              <a:solidFill>
                <a:srgbClr val="000000"/>
              </a:solidFill>
              <a:latin typeface="Arial"/>
            </a:endParaRPr>
          </a:p>
          <a:p>
            <a:pPr lvl="1" marL="3999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649, Addressing Issues Surrounding High Dispatch Limit (HDL) Override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High Dispatch Limit Override Payment and Charge via a dispute filing</a:t>
            </a:r>
            <a:endParaRPr b="0" lang="en-US" sz="2000" spc="-1" strike="noStrike">
              <a:solidFill>
                <a:srgbClr val="000000"/>
              </a:solidFill>
              <a:latin typeface="Arial"/>
            </a:endParaRPr>
          </a:p>
          <a:p>
            <a:pPr lvl="1" marL="3999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764, QSE Capacity Short Calculations Based on an 80% Probability of Exceedance (P80)</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language to account for 80% Probability of Exceedance (P80) instead of P50 for PVGR/Settlement</a:t>
            </a:r>
            <a:endParaRPr b="0" lang="en-US" sz="20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PWG Update</a:t>
            </a:r>
            <a:endParaRPr b="0" lang="en-US" sz="2400" spc="-1" strike="noStrike">
              <a:solidFill>
                <a:srgbClr val="000000"/>
              </a:solidFill>
              <a:latin typeface="Arial Black"/>
            </a:endParaRPr>
          </a:p>
        </p:txBody>
      </p:sp>
      <p:sp>
        <p:nvSpPr>
          <p:cNvPr id="276"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Proposed Changes (LPGRR061) </a:t>
            </a:r>
            <a:endParaRPr b="1"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7" name="Picture 6" descr=""/>
          <p:cNvPicPr/>
          <p:nvPr/>
        </p:nvPicPr>
        <p:blipFill>
          <a:blip r:embed="rId1"/>
          <a:stretch/>
        </p:blipFill>
        <p:spPr>
          <a:xfrm>
            <a:off x="380880" y="1274760"/>
            <a:ext cx="8458200" cy="44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PWG Update</a:t>
            </a:r>
            <a:endParaRPr b="0" lang="en-US" sz="2400" spc="-1" strike="noStrike">
              <a:solidFill>
                <a:srgbClr val="000000"/>
              </a:solidFill>
              <a:latin typeface="Arial Black"/>
            </a:endParaRPr>
          </a:p>
        </p:txBody>
      </p:sp>
      <p:sp>
        <p:nvSpPr>
          <p:cNvPr id="279"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7 PWG Goals </a:t>
            </a:r>
            <a:endParaRPr b="1"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issues and facilitate improvements to market rules pertaining to load profiling</a:t>
            </a:r>
            <a:endParaRPr b="1" lang="en-US" sz="24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7 Profile ID Annual Validation Residential &amp; Business</a:t>
            </a:r>
            <a:endParaRPr b="1" lang="en-US" sz="24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UFE report for 2016</a:t>
            </a:r>
            <a:endParaRPr b="1" lang="en-US" sz="24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7 Weather Sensitivity Change Report</a:t>
            </a:r>
            <a:endParaRPr b="1" lang="en-US" sz="2400" spc="-1" strike="noStrike">
              <a:solidFill>
                <a:srgbClr val="000000"/>
              </a:solidFill>
              <a:latin typeface="Arial"/>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81" name=""/>
          <p:cNvSpPr txBox="1"/>
          <p:nvPr/>
        </p:nvSpPr>
        <p:spPr>
          <a:xfrm>
            <a:off x="533520" y="6854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pril 12, 2017</a:t>
            </a:r>
            <a:endParaRPr b="1"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AC Voting Items</a:t>
            </a:r>
            <a:endParaRPr b="0" lang="en-US" sz="2400" spc="-1" strike="noStrike">
              <a:solidFill>
                <a:srgbClr val="000000"/>
              </a:solidFill>
              <a:latin typeface="Arial Black"/>
            </a:endParaRPr>
          </a:p>
        </p:txBody>
      </p:sp>
      <p:sp>
        <p:nvSpPr>
          <p:cNvPr id="252" name=""/>
          <p:cNvSpPr txBox="1"/>
          <p:nvPr/>
        </p:nvSpPr>
        <p:spPr>
          <a:xfrm>
            <a:off x="266760" y="685800"/>
            <a:ext cx="8686800" cy="5486400"/>
          </a:xfrm>
          <a:prstGeom prst="rect">
            <a:avLst/>
          </a:prstGeom>
          <a:noFill/>
          <a:ln w="0">
            <a:noFill/>
          </a:ln>
        </p:spPr>
        <p:txBody>
          <a:bodyPr anchor="t">
            <a:normAutofit fontScale="99000"/>
          </a:bodyPr>
          <a:p>
            <a:pPr marL="395640" indent="-339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60, Load Profiling Guide Clean Up Related to LPGRR057</a:t>
            </a:r>
            <a:endParaRPr b="1" lang="en-US" sz="24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Effective Date: April 1, 2017</a:t>
            </a:r>
            <a:endParaRPr b="0" lang="en-US" sz="18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dditional clarification to the LPG by removing orphaned language that was not captured in LPGRR057, Alignment with NPRR781, Updates to Nodal Protocol Section 18, Load Profiling, to Align with Current Market Processes, which was approved by TAC on October 27, 2016</a:t>
            </a:r>
            <a:endParaRPr b="0" lang="en-US" sz="18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s with TAC 2016 Goal #8, Implement Retail Market improvements and requirements</a:t>
            </a:r>
            <a:endParaRPr b="0" lang="en-US" sz="1800" spc="-1" strike="noStrike">
              <a:solidFill>
                <a:srgbClr val="000000"/>
              </a:solidFill>
              <a:latin typeface="Arial"/>
            </a:endParaRPr>
          </a:p>
          <a:p>
            <a:pPr marL="395640" indent="-339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61, Modifications to Annual Validation Timelines</a:t>
            </a:r>
            <a:endParaRPr b="1" lang="en-US" sz="24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Effective Date: April 1, 2017</a:t>
            </a:r>
            <a:endParaRPr b="0" lang="en-US" sz="18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s the Annual Validation timelines for Residential (RES) and Business (BUS) ESI IDs by starting the Annual Validation process on March 30 and concluding on September 30 of each calendar year</a:t>
            </a:r>
            <a:endParaRPr b="0" lang="en-US" sz="18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s with TAC 2016 Goal #8, Implement Retail Market improvements and requirements</a:t>
            </a:r>
            <a:endParaRPr b="0" lang="en-US" sz="18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AC Voting Items (Cont.)</a:t>
            </a:r>
            <a:endParaRPr b="0" lang="en-US" sz="2400" spc="-1" strike="noStrike">
              <a:solidFill>
                <a:srgbClr val="000000"/>
              </a:solidFill>
              <a:latin typeface="Arial Black"/>
            </a:endParaRPr>
          </a:p>
        </p:txBody>
      </p:sp>
      <p:sp>
        <p:nvSpPr>
          <p:cNvPr id="254" name=""/>
          <p:cNvSpPr txBox="1"/>
          <p:nvPr/>
        </p:nvSpPr>
        <p:spPr>
          <a:xfrm>
            <a:off x="266760" y="762120"/>
            <a:ext cx="8686800" cy="548640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7 COPS Goals</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settlements stability in alignment with Protocol Section 8.2, ERCOT Performance Monitoring (2) Paragraphs (c), Settlement Stability and (g) Load Uplift Amounts</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Commercial Operations processes to accommodate changes in the ERCOT Market design</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develop Market improvements and Protocols that support increased Commercial Operations data transparency and data availability</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nd update the Commercial Operations Market Guide and the Nodal Settlements Handbook</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and Transmission and Distribution Service Provider staff to address issues and facilitate improvements to market rules pertaining to load profiling as reflected in the ERCOT Protocols and the Load Profiling Guide</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Retail Load Profiling Annual Validation</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review Market Communications/Notifications and identify process improvements</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implement improvements to the Market Information System (MIS) and External Web Services (EWS), data access points for market participants, information security classifications, data extracts and Commercial Operations reports</a:t>
            </a:r>
            <a:endParaRPr b="1" lang="en-US" sz="16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6"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rmed COPS 2017 Working Group Leadership</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Communications and Settlements Working Group (CSWG)</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Heddie Lookadoo, Reliant Energy Retail Services</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Chair: John Moschos, Tenaska</a:t>
            </a:r>
            <a:endParaRPr b="0" lang="en-US" sz="2000" spc="-1" strike="noStrike">
              <a:solidFill>
                <a:srgbClr val="000000"/>
              </a:solidFill>
              <a:latin typeface="Arial"/>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Market Data Working Group (MDWG)</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Julie Thomas, Vistra Energy</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Chair: Daniel Spence, Denton Municipal</a:t>
            </a:r>
            <a:endParaRPr b="0" lang="en-US" sz="2000" spc="-1" strike="noStrike">
              <a:solidFill>
                <a:srgbClr val="000000"/>
              </a:solidFill>
              <a:latin typeface="Arial"/>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Profiling Working Group (PWG)</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Sheri Wiegand, TXU Energy</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Chair: Sam Pak, Oncor</a:t>
            </a:r>
            <a:endParaRPr b="0" lang="en-US" sz="2000" spc="-1" strike="noStrike">
              <a:solidFill>
                <a:srgbClr val="000000"/>
              </a:solidFill>
              <a:latin typeface="Arial"/>
            </a:endParaRPr>
          </a:p>
          <a:p>
            <a:pPr lvl="1" marL="39996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Market Data Transparency Service Level Agreement (SLA)</a:t>
            </a:r>
            <a:endParaRPr b="1" lang="en-US" sz="24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Release Calendar and added Weekend/Retail Release Da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58" name=""/>
          <p:cNvSpPr txBox="1"/>
          <p:nvPr/>
        </p:nvSpPr>
        <p:spPr>
          <a:xfrm>
            <a:off x="266760" y="685440"/>
            <a:ext cx="86868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 – February 2017</a:t>
            </a:r>
            <a:endParaRPr b="1" lang="en-US" sz="24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0" lang="en-US" sz="20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s &amp; Maintenance</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07/17 – ercot.com experienced a 6 minute outage</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21/17 – Planned Maintenance (Site Failover – MPIM, Retail API)</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22/17 – Planned Maintenance (Site Failover – External Web Service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23/17 – Planned Maintenance (Site Failover – MIS)</a:t>
            </a:r>
            <a:endParaRPr b="0" lang="en-US" sz="2000" spc="-1" strike="noStrike">
              <a:solidFill>
                <a:srgbClr val="000000"/>
              </a:solidFill>
              <a:latin typeface="Arial"/>
            </a:endParaRPr>
          </a:p>
          <a:p>
            <a:pPr lvl="3" marL="1600200" indent="-228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 Information Service (MIS) was unavailable for an additional hour beyond the scheduled and communicated maintenance window</a:t>
            </a:r>
            <a:endParaRPr b="0" lang="en-US" sz="1800" spc="-1" strike="noStrike">
              <a:solidFill>
                <a:srgbClr val="000000"/>
              </a:solidFill>
              <a:latin typeface="Arial"/>
            </a:endParaRPr>
          </a:p>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0" name=""/>
          <p:cNvSpPr txBox="1"/>
          <p:nvPr/>
        </p:nvSpPr>
        <p:spPr>
          <a:xfrm>
            <a:off x="317520" y="838080"/>
            <a:ext cx="8686800" cy="5639040"/>
          </a:xfrm>
          <a:prstGeom prst="rect">
            <a:avLst/>
          </a:prstGeom>
          <a:noFill/>
          <a:ln w="0">
            <a:noFill/>
          </a:ln>
        </p:spPr>
        <p:txBody>
          <a:bodyPr anchor="t">
            <a:normAutofit/>
          </a:bodyPr>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Notice Archives Available on ERCOT.COM under MARKET INFORMATION &gt; View Notices and Bulletins</a:t>
            </a:r>
            <a:endParaRPr b="0" lang="en-US" sz="2400" spc="-1" strike="noStrike">
              <a:solidFill>
                <a:srgbClr val="000000"/>
              </a:solidFill>
              <a:latin typeface="Arial"/>
            </a:endParaRPr>
          </a:p>
          <a:p>
            <a:pPr lvl="1" marL="743040" indent="-28584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Notice M-B031017-01 General sent March 10, 2017</a:t>
            </a:r>
            <a:endParaRPr b="0" lang="en-US" sz="1600" spc="-1" strike="noStrike">
              <a:solidFill>
                <a:srgbClr val="000000"/>
              </a:solidFill>
              <a:latin typeface="Arial"/>
            </a:endParaRPr>
          </a:p>
        </p:txBody>
      </p:sp>
      <p:pic>
        <p:nvPicPr>
          <p:cNvPr id="261" name="Picture 3" descr=""/>
          <p:cNvPicPr/>
          <p:nvPr/>
        </p:nvPicPr>
        <p:blipFill>
          <a:blip r:embed="rId1"/>
          <a:srcRect l="27350" t="4413" r="28634" b="0"/>
          <a:stretch/>
        </p:blipFill>
        <p:spPr>
          <a:xfrm>
            <a:off x="812880" y="2436840"/>
            <a:ext cx="3492360" cy="3733920"/>
          </a:xfrm>
          <a:prstGeom prst="rect">
            <a:avLst/>
          </a:prstGeom>
          <a:ln w="0">
            <a:noFill/>
          </a:ln>
        </p:spPr>
      </p:pic>
      <p:pic>
        <p:nvPicPr>
          <p:cNvPr id="262" name="Picture 4" descr=""/>
          <p:cNvPicPr/>
          <p:nvPr/>
        </p:nvPicPr>
        <p:blipFill>
          <a:blip r:embed="rId2"/>
          <a:srcRect l="27350" t="8421" r="28421" b="0"/>
          <a:stretch/>
        </p:blipFill>
        <p:spPr>
          <a:xfrm>
            <a:off x="4672080" y="2560680"/>
            <a:ext cx="3303360" cy="3610080"/>
          </a:xfrm>
          <a:prstGeom prst="rect">
            <a:avLst/>
          </a:prstGeom>
          <a:ln w="0">
            <a:noFill/>
          </a:ln>
        </p:spPr>
      </p:pic>
      <p:cxnSp>
        <p:nvCxnSpPr>
          <p:cNvPr id="263" name="Straight Arrow Connector 5"/>
          <p:cNvCxnSpPr/>
          <p:nvPr/>
        </p:nvCxnSpPr>
        <p:spPr>
          <a:xfrm flipH="1">
            <a:off x="2971800" y="5410080"/>
            <a:ext cx="1117800" cy="457920"/>
          </a:xfrm>
          <a:prstGeom prst="straightConnector1">
            <a:avLst/>
          </a:prstGeom>
          <a:ln w="9360">
            <a:solidFill>
              <a:srgbClr val="292989"/>
            </a:solidFill>
            <a:miter/>
            <a:tailEnd len="med" type="triangle" w="med"/>
          </a:ln>
        </p:spPr>
      </p:cxnSp>
      <p:cxnSp>
        <p:nvCxnSpPr>
          <p:cNvPr id="264" name="Straight Arrow Connector 7"/>
          <p:cNvCxnSpPr/>
          <p:nvPr/>
        </p:nvCxnSpPr>
        <p:spPr>
          <a:xfrm flipH="1">
            <a:off x="7238160" y="3308400"/>
            <a:ext cx="864360" cy="496080"/>
          </a:xfrm>
          <a:prstGeom prst="straightConnector1">
            <a:avLst/>
          </a:prstGeom>
          <a:ln w="9360">
            <a:solidFill>
              <a:srgbClr val="292989"/>
            </a:solidFill>
            <a:miter/>
            <a:tailEnd len="med" type="triangle" w="med"/>
          </a:ln>
        </p:spPr>
      </p:cxnSp>
      <p:sp>
        <p:nvSpPr>
          <p:cNvPr id="265" name="Rectangle 6"/>
          <p:cNvSpPr/>
          <p:nvPr/>
        </p:nvSpPr>
        <p:spPr>
          <a:xfrm>
            <a:off x="836640" y="2131920"/>
            <a:ext cx="3492360" cy="47952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arket Notice Archive</a:t>
            </a:r>
            <a:endParaRPr b="0" lang="en-US" sz="1800" spc="-1" strike="noStrike">
              <a:solidFill>
                <a:srgbClr val="000000"/>
              </a:solidFill>
              <a:latin typeface="Arial"/>
            </a:endParaRPr>
          </a:p>
        </p:txBody>
      </p:sp>
      <p:sp>
        <p:nvSpPr>
          <p:cNvPr id="266" name="Rectangle 8"/>
          <p:cNvSpPr/>
          <p:nvPr/>
        </p:nvSpPr>
        <p:spPr>
          <a:xfrm>
            <a:off x="4672080" y="2131920"/>
            <a:ext cx="3303360" cy="41436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Query</a:t>
            </a:r>
            <a:r>
              <a:rPr b="0" lang="en-US" sz="1800" spc="-1" strike="noStrike">
                <a:solidFill>
                  <a:srgbClr val="c00000"/>
                </a:solidFill>
                <a:latin typeface="Arial"/>
              </a:rPr>
              <a:t> </a:t>
            </a:r>
            <a:r>
              <a:rPr b="1" lang="en-US" sz="1800" spc="-1" strike="noStrike">
                <a:solidFill>
                  <a:srgbClr val="c00000"/>
                </a:solidFill>
                <a:latin typeface="Arial"/>
              </a:rPr>
              <a:t>Cap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8" name=""/>
          <p:cNvSpPr txBox="1"/>
          <p:nvPr/>
        </p:nvSpPr>
        <p:spPr>
          <a:xfrm>
            <a:off x="266760" y="685800"/>
            <a:ext cx="86868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n Wholesale Storage Load Resource Settlements Provided by Austin Rosel</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Energy Storage Guiding Principles:</a:t>
            </a:r>
            <a:endParaRPr b="1"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nergy storage resource has the </a:t>
            </a:r>
            <a:r>
              <a:rPr b="0" i="1" lang="en-US" sz="1600" spc="-1" strike="noStrike">
                <a:solidFill>
                  <a:srgbClr val="ff0000"/>
                </a:solidFill>
                <a:latin typeface="Arial"/>
              </a:rPr>
              <a:t>option</a:t>
            </a:r>
            <a:r>
              <a:rPr b="0" lang="en-US" sz="1600" spc="-1" strike="noStrike">
                <a:solidFill>
                  <a:srgbClr val="000000"/>
                </a:solidFill>
                <a:latin typeface="Arial"/>
              </a:rPr>
              <a:t> of receiving wholesale storage load treatment</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Storage Load is defined in NPRR461 as – “Energy that is </a:t>
            </a:r>
            <a:r>
              <a:rPr b="0" i="1" lang="en-US" sz="1600" spc="-1" strike="noStrike">
                <a:solidFill>
                  <a:srgbClr val="ff0000"/>
                </a:solidFill>
                <a:latin typeface="Arial"/>
              </a:rPr>
              <a:t>separately metered </a:t>
            </a:r>
            <a:r>
              <a:rPr b="0" lang="en-US" sz="1600" spc="-1" strike="noStrike">
                <a:solidFill>
                  <a:srgbClr val="000000"/>
                </a:solidFill>
                <a:latin typeface="Arial"/>
              </a:rPr>
              <a:t>from all other Facilities to charge a technology that is capable of storing energy and releasing that energy at a later time to generate electric energy” </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for an energy storage Load Resource must be separately metered to be considered wholesale storage load </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facility energy that is re-generated is treated in the same manner as traditional generation; The re-generated energy can self-serve associated Load behind the same Point of Interconnect at the generation site and/or be valued as an injection to the ERCOT system</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storage load is </a:t>
            </a:r>
            <a:r>
              <a:rPr b="0" i="1" lang="en-US" sz="1600" spc="-1" strike="noStrike">
                <a:solidFill>
                  <a:srgbClr val="ff0000"/>
                </a:solidFill>
                <a:latin typeface="Arial"/>
              </a:rPr>
              <a:t>exempt</a:t>
            </a:r>
            <a:r>
              <a:rPr b="0" lang="en-US" sz="1600" spc="-1" strike="noStrike">
                <a:solidFill>
                  <a:srgbClr val="000000"/>
                </a:solidFill>
                <a:latin typeface="Arial"/>
              </a:rPr>
              <a:t> from charges and credits based on Load Ratio Share or per MWH basis</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storage load will not be included in the ERCOT 4CP calculations</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storage load pricing shall be based on the </a:t>
            </a:r>
            <a:r>
              <a:rPr b="0" i="1" lang="en-US" sz="1600" spc="-1" strike="noStrike">
                <a:solidFill>
                  <a:srgbClr val="ff0000"/>
                </a:solidFill>
                <a:latin typeface="Arial"/>
              </a:rPr>
              <a:t>LMP at the electrical bus</a:t>
            </a:r>
            <a:r>
              <a:rPr b="0" lang="en-US" sz="1600" spc="-1" strike="noStrike">
                <a:solidFill>
                  <a:srgbClr val="000000"/>
                </a:solidFill>
                <a:latin typeface="Arial"/>
              </a:rPr>
              <a:t>, not the LMP of the Load Zone</a:t>
            </a:r>
            <a:endParaRPr b="1" lang="en-US" sz="1600" spc="-1" strike="noStrike">
              <a:solidFill>
                <a:srgbClr val="000000"/>
              </a:solidFill>
              <a:latin typeface="Arial"/>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70" name=""/>
          <p:cNvSpPr txBox="1"/>
          <p:nvPr/>
        </p:nvSpPr>
        <p:spPr>
          <a:xfrm>
            <a:off x="266760" y="685440"/>
            <a:ext cx="86868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Virtual Weather Zones Provided by Calvin Opheim</a:t>
            </a:r>
            <a:endParaRPr b="1" lang="en-US" sz="24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staff determined a need for independent modeling of the Valley to facilitate more accurate load forecasting and address operational needs</a:t>
            </a:r>
            <a:endParaRPr b="0" lang="en-US" sz="19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upplemental Valley load forecast was created to meet immediate operational needs, e.g. Outage analysis</a:t>
            </a:r>
            <a:endParaRPr b="0" lang="en-US" sz="19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transparency, ERCOT staff is looking at providing the supplemental Valley load forecast data to Market Participants;  The initial thought was to add a new Valley Weather Zone, because load forecasts are created by Weather Zone, however there is an alternative</a:t>
            </a:r>
            <a:endParaRPr b="0" lang="en-US" sz="1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CP Report Update Provided by Mark Ruane</a:t>
            </a:r>
            <a:endParaRPr b="1" lang="en-US" sz="24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prepared two revised 4CP matrices for the PUCT, one incorporating the Golden Spread adjustments and one incorporating both the Golden Spread and the July 2016 anomaly adjustments</a:t>
            </a:r>
            <a:endParaRPr b="0" lang="en-US" sz="19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proposed order has been published by PUCT staff that doesn’t specify which option; Awaiting a final determination from the PUCT</a:t>
            </a:r>
            <a:endParaRPr b="0" lang="en-US" sz="1900" spc="-1" strike="noStrike">
              <a:solidFill>
                <a:srgbClr val="000000"/>
              </a:solidFill>
              <a:latin typeface="Arial"/>
            </a:endParaRPr>
          </a:p>
          <a:p>
            <a:pPr lvl="4" marL="2057400" indent="-228600">
              <a:spcBef>
                <a:spcPts val="476"/>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Update</a:t>
            </a:r>
            <a:endParaRPr b="0" lang="en-US" sz="2400" spc="-1" strike="noStrike">
              <a:solidFill>
                <a:srgbClr val="000000"/>
              </a:solidFill>
              <a:latin typeface="Arial Black"/>
            </a:endParaRPr>
          </a:p>
        </p:txBody>
      </p:sp>
      <p:sp>
        <p:nvSpPr>
          <p:cNvPr id="272" name=""/>
          <p:cNvSpPr txBox="1"/>
          <p:nvPr/>
        </p:nvSpPr>
        <p:spPr>
          <a:xfrm>
            <a:off x="266760" y="685440"/>
            <a:ext cx="8686800" cy="563868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settlement Rule (Protocol Sections 9.2.5 (2) and 9.5.6 (2))</a:t>
            </a:r>
            <a:endParaRPr b="1" lang="en-US" sz="24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review NPRR819, Resettlement Clean-ups, submitted by ERCOT</a:t>
            </a:r>
            <a:endParaRPr b="0" lang="en-US" sz="18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moves language referencing “data errors” for resettlement of the Day-Ahead Market (DAM) and the Real-Time Market (RTM); gives the ERCOT Board authority to direct a DAM resettlement parallel to its authority to direct RTM resettlement; removes references to undefined “declarations” of resettlements; and fixes a semantics error </a:t>
            </a:r>
            <a:endParaRPr b="0" lang="en-US" sz="19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a proposal submitted by Tenaska Power Services</a:t>
            </a:r>
            <a:endParaRPr b="0" lang="en-US" sz="18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eps the 2% rule for a single Operating Day event</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s a cumulative total for multiple Operating Day events and compares to the average total ERCOT charges for those same Operating Days</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staff will run some scenarios and bring back to CSWG their  March 27 meeting</a:t>
            </a:r>
            <a:endParaRPr b="0" lang="en-US" sz="19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03-15T20:53:51Z</dcterms:modified>
  <cp:revision>1830</cp:revision>
  <dc:subject/>
  <dc:title>Instructions</dc:title>
</cp:coreProperties>
</file>