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51B2-ED60-46FA-8485-EC17AC298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152A-A93B-42A2-AA5F-ADB444F02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4A8D-F65B-4513-9B6D-4D4E6940F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EF0C-8059-4970-BD17-BEC70E99A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65C2-7B5F-4278-87FB-ADEC0E1F6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0138-DF76-45D0-B0D5-D8C0327E8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9BC8-697E-4FC3-B924-000ACB6B1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DE4C-AA6A-4A9D-89DE-59A0D9D62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1387-EAF9-486D-AEA5-6CC57533F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817F-F755-4A27-A039-452857CB5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14E7-186D-486A-A646-E8652D33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6E7F-C5A8-4DE4-84DB-0966A62E3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6C99-5779-4143-8BA6-CBADD887E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D29C-F402-46CF-BE28-29B9D9481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436C-715B-4B19-A0D7-5160C84D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1DFE-7AD9-4C83-8F61-EE8DFFF8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F41E-B72C-4644-91E8-8EC75B79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E27A-FD7E-483E-ADF5-5B1B2414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B64B-7473-4604-A119-CC6FCB24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A52F-8BFD-4CCD-8F94-D5FDC1F3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3CF0-F3BB-49CE-AC07-24223B03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1444-74BF-4A36-97B4-4CC4BE86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F4FB-28CB-4192-AAF3-D6BA10D4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D6087-5339-42D5-94C5-1490CA2F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871D-D223-4D00-B8D8-5BA40633F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1327-EC1C-4D24-9027-93B6DF4FB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E889B-AFF7-4F92-9918-70DB3BE1A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6AC32-690D-4700-8DF1-8672840E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2E461-3003-42C0-BDB5-7E5F809D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6E1ED-0EDD-48D1-B67D-D6EB54D9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9403F-8140-4D6D-98C2-3878F95D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F22B-B5BF-4DB4-A73A-E294228C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8D51D-2A0C-47A5-851B-F437C051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2FF3E-3BEC-4747-AA92-0D78CD76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4215E-CBBB-45B0-8D28-FD334FF6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0FEEC-ED44-4AA0-97CA-9312202D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148C6-0E79-4699-98A4-B152B24B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D3BFA-BDDB-43BE-AE0F-AA67D1057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DCCBB-752B-466B-B5E0-03160DFE8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590AF-1B8E-4827-9AC1-B063FE3C4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BEABB-B57E-4433-9124-EBFD2AC8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EF5F2-75CA-4F13-9978-527D140F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1E78-547D-40D2-BF30-6FB8E95E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3B142-F04B-4FE6-8782-0239479C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42145-5C20-4CB5-9653-53577AB6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8195A-1A70-43B0-AF68-BB11E5AF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A76E9-6FE7-4672-84E5-630451FF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7A9E9-D28B-414D-BC9D-3CB09665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FC030-70CD-444E-96E1-810E0EEF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AAA21-521A-4372-98EE-9720A3E0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1639E-299B-4A0C-B0AE-9E8187EBA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F06AB-E244-4714-B42A-35AFCA604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7BB9A-0C33-4928-BD6D-F0230EF9B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6BAC-A3E5-4501-8234-1EF6B346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7C5DD-7CE8-4C2C-A448-0A129902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E1F7C-BDD4-4B6B-9400-0B10F7A7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B48CE-E8D2-489A-B2AC-89449416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E5C86-C8D4-41E9-AEF8-CF9E68A4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FF6A2-0B60-4AA0-BDE0-EA7799AC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A9803-36FD-42F5-A453-1C78D58A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D0362-A519-4A85-96DB-F538976A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83D85-44D2-4D05-BF5E-C987551B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AD9B5-7600-4AB4-BA0C-A763B2C8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B480A-BE1B-4DCD-A8CD-BD4D8754D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C4A3-FC32-40CC-8430-68507DCF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93E7D-5B45-461B-A470-1DA4D245D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7B701-D4BA-485F-8340-3BC9AC230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71E64-7B2C-402D-A4FA-150AD97E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65101-5D0F-46D1-B76D-F571A705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C3277-0FDE-4784-BD9D-9CF71334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FA313-D868-46C4-8E81-AC146569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7826B-1492-4081-9F27-CA9930E3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0749D-FD44-4FF7-A82B-B539C715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CF325-5EA5-45FC-9245-2F675962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97852-43EF-422D-9D9E-5E5E3605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C28D-4837-4B83-B643-17BF36E5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64836-BA4A-4FC9-9272-E20D995F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526ED-673B-4DB2-8B82-9C9ED1448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87548-A412-41B7-B794-BC38441CC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A1E26-3299-409E-B52B-A7D31B48E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6FEAC-C851-4DA8-83FD-262C5D48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88208-AC83-485C-82CB-63CD69FB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991CD-8D63-4D2C-AD99-5E5EBBB3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96B02-1465-454D-ADC5-1BCF31A7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17F72-45ED-4D8B-9D25-E5EEB67D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C0F4D-4E25-4DF2-AA3E-DBBD0566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7A11-511A-4987-9A2B-063F71E2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B7C8B-5AC2-44F6-81B3-2082C558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15A16-6C84-4D24-B33F-4475053E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91B75-213B-49E2-9F03-6ADFF2E2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0E32B-BD09-4F88-AB61-F223EAD5D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EA94C-ACFE-47FF-8AF6-A0FC87366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8546-A964-40E2-A72E-D029EE6A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746D-5709-4494-94DA-FEBF905E5FE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4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Oval 15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62" name="Oval 15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Oval 16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819D-9FE6-4A4D-8B39-F312A1AA6D7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5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17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10" name="Oval 17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Oval 1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A3DC-D6A6-4C9D-A482-4E0BCA01C39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9D2F-922A-41CF-85EE-ACB2785D919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5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6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2B47-3747-4F6C-AE2A-F8DCDB2FC4A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C9B9-08B1-4D47-9B46-CF358DB1001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Rectangle 15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80" name="Rectangle 15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Flowchart: Process 16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lowchart: Process 17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1B49-495E-48E9-972F-FF8A55230A0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86000" y="2114280"/>
            <a:ext cx="665784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1" lang="en-US" sz="2900" spc="-1" strike="noStrike">
                <a:solidFill>
                  <a:srgbClr val="572314"/>
                </a:solidFill>
                <a:latin typeface="Gill Sans MT"/>
              </a:rPr>
              <a:t>February 7,  2017</a:t>
            </a:r>
            <a:br>
              <a:rPr sz="2900"/>
            </a:br>
            <a:r>
              <a:rPr b="1" lang="en-US" sz="2900" spc="-1" strike="noStrike">
                <a:solidFill>
                  <a:srgbClr val="572314"/>
                </a:solidFill>
                <a:latin typeface="Gill Sans MT"/>
              </a:rPr>
              <a:t>Retail Market Subcommittee (RMS)</a:t>
            </a:r>
            <a:br>
              <a:rPr sz="2900"/>
            </a:br>
            <a:r>
              <a:rPr b="1" lang="en-US" sz="2900" spc="-1" strike="noStrike">
                <a:solidFill>
                  <a:srgbClr val="572314"/>
                </a:solidFill>
                <a:latin typeface="Gill Sans MT"/>
              </a:rPr>
              <a:t>Update to TAC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2361960" y="327636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20e04"/>
                </a:solidFill>
                <a:latin typeface="Gill Sans MT"/>
              </a:rPr>
              <a:t>Kathy Scott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Rectangle 10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ch 23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5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1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6C31-2DCD-4676-9D5B-1ADB834EA62A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71600" y="-76680"/>
            <a:ext cx="7499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Questions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Slide Number Placeholder 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E281-3C11-423E-B1B3-FF97F91D358F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rch 23, 201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7" descr="C:\Users\00015621\AppData\Local\Microsoft\Windows\Temporary Internet Files\Content.IE5\M2YDF2H6\passe-compose-ou-imparfait-grammaire-bdf-19[1].jpg"/>
          <p:cNvPicPr/>
          <p:nvPr/>
        </p:nvPicPr>
        <p:blipFill>
          <a:blip r:embed="rId1"/>
          <a:stretch/>
        </p:blipFill>
        <p:spPr>
          <a:xfrm>
            <a:off x="1854360" y="990720"/>
            <a:ext cx="59180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New Revision Request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9144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Gill Sans MT"/>
              </a:rPr>
              <a:t>RMGRR144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, Elimination of REP-Specific Switch Hold Lists </a:t>
            </a:r>
            <a:r>
              <a:rPr b="1" lang="en-US" sz="3200" spc="-1" strike="noStrike">
                <a:solidFill>
                  <a:srgbClr val="c00000"/>
                </a:solidFill>
                <a:latin typeface="Gill Sans MT"/>
              </a:rPr>
              <a:t>(Vote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s Retail Market Guide Revision Request (RMGRR) eliminates the requirement for Transmission and/or Distribution Service Providers (TDSPs) to maintain a secure list by Retail Electric Provider (REP) Data Universal Numbering Systems (DUNS) of all Electric Service Identifiers (ESI IDs) with switch hold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41840" indent="-164160"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2/07/17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:  </a:t>
            </a: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RMS Unanimously Approved RMGRR144 and I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41840" indent="-164160"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3/23/17:  </a:t>
            </a: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RMS recommends TAC’s  Approval of RMGRR144</a:t>
            </a:r>
            <a:r>
              <a:rPr b="0" lang="en-US" sz="2000" spc="-1" strike="noStrike">
                <a:solidFill>
                  <a:srgbClr val="c00000"/>
                </a:solidFill>
                <a:latin typeface="Gill Sans MT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31920" indent="-173160">
              <a:spcBef>
                <a:spcPts val="499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41840" indent="-164160">
              <a:spcBef>
                <a:spcPts val="45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NOTE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:  If  TAC approves RMGRR144 these changes would become effective on 4/1/17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rch 23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C5EA-11A3-4E3B-87AA-F13A57AC5EF7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New Revision Request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9144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Gill Sans MT"/>
              </a:rPr>
              <a:t>RMGRR145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, Appendix for a Mass Customer List (MCL)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s Retail Market Guide Revision Request (RMGRR) provides the format for a Mass Customer List to be used by a Transmission and/or Distribution Service Provider (TDSP) / Municipally Owned Utility (MOU)/Electric Cooperative (EC) TDSP to inform Market Participants of all customers in its service territories when entering competition or expanding its service territory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2/07/17:  </a:t>
            </a: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RMS Unanimously Approved RMGRR145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NOTE: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RMGRR145 will return to RMS for Impact Analysis Review during our March 2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meeting.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rch 23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5D0D-A3BD-444F-B1BE-8009BC01C334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1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Gill Sans MT"/>
              </a:rPr>
              <a:t>Approved RMS 2017 WG(s) and Taskforce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9144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Advanced Metering Working Group (AMWG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Co-Chair: Esther Kent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(CenterPoint Energy)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Co-Chair: John Schatz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(TXU Energy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Texas Data Transport and MarkeTrak Systems (TDTMS) W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Chair: Jim Lee –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(AEP)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Vice-Chair: Monica Jones -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(Reliant)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Texas Standard Electronic Transaction (Texas SET) W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Chair: Diana Rehfeldt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– (TNMP)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Vice-Chair: Kyle Patrick – (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Relian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Retail Market Training Task Force (RMTTF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Co-Chair: Deborah McKeever –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(Oncor)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Co-Chair: Sheri Wiegand  -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(TXU Energy)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Co-Chair: Tomas Fernandez  -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(Reliant)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11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rch 23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F540-9A36-4CF8-9BB9-D8E0B4022D5D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Working Group/Taskforces Update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914400" y="6858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Retail Market Training Taskforce (RMTTF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Retail Instructor Led Clas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4853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1c4853"/>
                </a:solidFill>
                <a:latin typeface="Gill Sans MT"/>
              </a:rPr>
              <a:t>AUSTIN </a:t>
            </a:r>
            <a:r>
              <a:rPr b="0" lang="en-US" sz="1800" spc="-1" strike="noStrike">
                <a:solidFill>
                  <a:srgbClr val="1c4853"/>
                </a:solidFill>
                <a:latin typeface="Gill Sans MT"/>
              </a:rPr>
              <a:t>	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Gill Sans MT"/>
              </a:rPr>
              <a:t>Georgetown Library </a:t>
            </a:r>
            <a:r>
              <a:rPr b="1" i="1" lang="en-US" sz="1800" spc="-1" strike="noStrike">
                <a:solidFill>
                  <a:srgbClr val="000000"/>
                </a:solidFill>
                <a:latin typeface="Gill Sans MT"/>
              </a:rPr>
              <a:t>-   </a:t>
            </a:r>
            <a:r>
              <a:rPr b="1" i="1" lang="en-US" sz="1800" spc="-1" strike="noStrike">
                <a:solidFill>
                  <a:srgbClr val="c00000"/>
                </a:solidFill>
                <a:latin typeface="Gill Sans MT"/>
              </a:rPr>
              <a:t>Completed </a:t>
            </a:r>
            <a:r>
              <a:rPr b="0" lang="en-US" sz="1800" spc="-1" strike="noStrike">
                <a:solidFill>
                  <a:srgbClr val="c00000"/>
                </a:solidFill>
                <a:latin typeface="Gill Sans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193040" indent="-167760">
              <a:spcBef>
                <a:spcPts val="45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Retail 101 –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uesday,   January 31, 2017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193040" indent="-167760">
              <a:spcBef>
                <a:spcPts val="45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MarkeTrak  101 –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ednesday,   February 1, 2017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c4853"/>
                </a:solidFill>
                <a:latin typeface="Gill Sans MT"/>
              </a:rPr>
              <a:t>   </a:t>
            </a:r>
            <a:r>
              <a:rPr b="0" i="1" lang="en-US" sz="1800" spc="-1" strike="noStrike">
                <a:solidFill>
                  <a:srgbClr val="1c4853"/>
                </a:solidFill>
                <a:latin typeface="Gill Sans MT"/>
              </a:rPr>
              <a:t>	</a:t>
            </a:r>
            <a:r>
              <a:rPr b="0" i="1" lang="en-US" sz="1800" spc="-1" strike="noStrike">
                <a:solidFill>
                  <a:srgbClr val="1c4853"/>
                </a:solidFill>
                <a:latin typeface="Gill Sans M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spcBef>
                <a:spcPts val="34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Survey comments were consistent with previous Instructor Led Classes –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09080" indent="-159120">
              <a:spcBef>
                <a:spcPts val="34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Materials provided are resourceful, Q &amp; A is valuable and instructors are knowledgeabl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spcBef>
                <a:spcPts val="34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MarkeTrak 101 class length was “just right” with one commenting it was “too short” in length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c4853"/>
                </a:solidFill>
                <a:latin typeface="Gill Sans MT"/>
              </a:rPr>
              <a:t>	</a:t>
            </a:r>
            <a:r>
              <a:rPr b="1" i="1" lang="en-US" sz="1800" spc="-1" strike="noStrike">
                <a:solidFill>
                  <a:srgbClr val="1c4853"/>
                </a:solidFill>
                <a:latin typeface="Gill Sans MT"/>
              </a:rPr>
              <a:t>DALLAS</a:t>
            </a:r>
            <a:r>
              <a:rPr b="0" lang="en-US" sz="1800" spc="-1" strike="noStrike">
                <a:solidFill>
                  <a:srgbClr val="1c4853"/>
                </a:solidFill>
                <a:latin typeface="Gill Sans MT"/>
              </a:rPr>
              <a:t>	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Gill Sans MT"/>
              </a:rPr>
              <a:t>Oncor</a:t>
            </a:r>
            <a:r>
              <a:rPr b="1" i="1" lang="en-US" sz="1800" spc="-1" strike="noStrike">
                <a:solidFill>
                  <a:srgbClr val="000000"/>
                </a:solidFill>
                <a:latin typeface="Gill Sans MT"/>
              </a:rPr>
              <a:t>  -</a:t>
            </a: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i="1" lang="en-US" sz="1800" spc="-1" strike="noStrike">
                <a:solidFill>
                  <a:srgbClr val="c00000"/>
                </a:solidFill>
                <a:latin typeface="Gill Sans MT"/>
              </a:rPr>
              <a:t>Scheduled  </a:t>
            </a:r>
            <a:r>
              <a:rPr b="0" lang="en-US" sz="1800" spc="-1" strike="noStrike">
                <a:solidFill>
                  <a:srgbClr val="c00000"/>
                </a:solidFill>
                <a:latin typeface="Gill Sans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193040" indent="-167760">
              <a:spcBef>
                <a:spcPts val="45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Retail 101 –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Wednesday,  May 3, 2017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193040" indent="-167760">
              <a:spcBef>
                <a:spcPts val="45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Inadvertent Gain Training –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ursday,  May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Gill Sans MT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, 2017 </a:t>
            </a:r>
            <a:r>
              <a:rPr b="0" lang="en-US" sz="1800" spc="-1" strike="noStrike">
                <a:solidFill>
                  <a:srgbClr val="1c4853"/>
                </a:solidFill>
                <a:latin typeface="Gill Sans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09080" indent="-1591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rch 23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64CD-6129-4F22-9074-856313C013B2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2209680" y="2666880"/>
          <a:ext cx="5181840" cy="982800"/>
        </p:xfrm>
        <a:graphic>
          <a:graphicData uri="http://schemas.openxmlformats.org/drawingml/2006/table">
            <a:tbl>
              <a:tblPr/>
              <a:tblGrid>
                <a:gridCol w="1963800"/>
                <a:gridCol w="1177920"/>
                <a:gridCol w="1019160"/>
                <a:gridCol w="1020960"/>
              </a:tblGrid>
              <a:tr h="304920">
                <a:tc>
                  <a:txBody>
                    <a:bodyPr lIns="3960" rIns="3960" tIns="3960" bIns="0" anchor="b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lassro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Web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80880">
                <a:tc>
                  <a:txBody>
                    <a:bodyPr lIns="3960" rIns="3960" tIns="3960" bIns="0" anchor="b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tail 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297000">
                <a:tc>
                  <a:txBody>
                    <a:bodyPr lIns="3960" rIns="3960" tIns="3960" bIns="0" anchor="b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keTrak 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1066320" y="6858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7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76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MT Help Desk Call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360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(-40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)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{12/15 = 259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76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76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MT Help Desk Ticket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323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(-26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)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{12/15 = 240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sidential = 268 </a:t>
            </a: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(-9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23680" indent="-2124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UI access issues = 60 </a:t>
            </a: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(-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 {U/ID &amp; P/W Invalid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23680" indent="-2124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gistration issues = 108 </a:t>
            </a: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(-1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 {Typo errors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6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76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MT Registered Users (Res)  </a:t>
            </a:r>
            <a:r>
              <a:rPr b="1" lang="en-US" sz="3200" spc="-1" strike="noStrike">
                <a:solidFill>
                  <a:srgbClr val="c00000"/>
                </a:solidFill>
                <a:latin typeface="Gill Sans MT"/>
              </a:rPr>
              <a:t>77,495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(+495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76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76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SIs in SM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7,257,115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(+11,401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76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76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ctive Meters in SM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7,194,765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(+11,884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7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66320" y="-2289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 u="sng">
                <a:solidFill>
                  <a:srgbClr val="572314"/>
                </a:solidFill>
                <a:uFillTx/>
                <a:latin typeface="Gill Sans MT"/>
              </a:rPr>
              <a:t>SMT Statistics for December 2016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4373-33D9-4E38-A0A1-3D08AD3A5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rch  23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oter Placeholder 1"/>
          <p:cNvSpPr/>
          <p:nvPr/>
        </p:nvSpPr>
        <p:spPr>
          <a:xfrm>
            <a:off x="6477120" y="63054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Content Placeholder 1" descr=""/>
          <p:cNvPicPr/>
          <p:nvPr/>
        </p:nvPicPr>
        <p:blipFill>
          <a:blip r:embed="rId1"/>
          <a:stretch/>
        </p:blipFill>
        <p:spPr>
          <a:xfrm>
            <a:off x="835200" y="530280"/>
            <a:ext cx="8997840" cy="594972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680" y="-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 u="sng">
                <a:solidFill>
                  <a:srgbClr val="572314"/>
                </a:solidFill>
                <a:uFillTx/>
                <a:latin typeface="Gill Sans MT"/>
              </a:rPr>
              <a:t>SMT Statistics for December 2016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CD61-B62B-4B36-A4CC-946D2BF9B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rch 23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ooter Placeholder 1"/>
          <p:cNvSpPr/>
          <p:nvPr/>
        </p:nvSpPr>
        <p:spPr>
          <a:xfrm>
            <a:off x="6477120" y="63054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1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ERCOT Updates: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9144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2017 Retail Market IT Services Service Level Agreement (SLA)  (Vot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Gill Sans MT"/>
              </a:rPr>
              <a:t>http://ercot.com/content/wcm/key_documents_lists/108474/16._Retail_SLA_2017_Draft.doc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RMS Unanimously Approved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2016 Q3 Performance Measures Report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Gill Sans MT"/>
              </a:rPr>
              <a:t>http://ercot.com/content/wcm/key_documents_lists/108474/16._RMS_3Q_2016_PM_Comparison.pptx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All transactional performance reported at </a:t>
            </a: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100% or 99% 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RCOT will have Q4 2016 Performance Measures filed, therefore, that information will be ready for RMS review on March 2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th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rch 23, 201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B458-199A-4129-A1BD-9D8D704746DB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1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572314"/>
                </a:solidFill>
                <a:latin typeface="Gill Sans MT"/>
              </a:rPr>
              <a:t>RMS Meeting Date Announcements: </a:t>
            </a:r>
            <a:endParaRPr b="0" lang="en-US" sz="3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06668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ue to spring breaks scheduled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or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eek of March and Easter holidays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eek of April, RMS agreed to split the difference and we scheduled our March/April meeting for next Tuesday, March 2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lso RMS leadership identified a meeting conflict with the Annual GCPA Conference scheduled on October 2-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n Austin.  RMS agreed to move our meeting date from Tuesday, October 3rd to the following Tuesday on October10th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19880" indent="-160920"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://ercot.com/calendar/2017/10/10/118259-RM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rch 23, 201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9DC0-883A-4EAC-9CE4-A5FBAF55A055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evill, Rob</dc:creator>
  <dc:description/>
  <dc:language>en-US</dc:language>
  <cp:lastModifiedBy>Scott, Kathy D.</cp:lastModifiedBy>
  <dcterms:modified xsi:type="dcterms:W3CDTF">2017-03-16T05:22:47Z</dcterms:modified>
  <cp:revision>1658</cp:revision>
  <dc:subject/>
  <dc:title>Instructions</dc:title>
</cp:coreProperties>
</file>