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A6A89-9544-4EAC-BE50-2EE52FCCF9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BBDFB-9CB4-4310-B57F-ACAA0D3E5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C96E1-2F88-4ECD-898E-D8C1A62F3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DB0CA-A8D2-469B-A078-D3B36E8B8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D3E63-C7ED-46FC-9495-0F4299DA13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89784-EC52-4F51-8C56-FCDC8B56E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58A2-4817-4F0B-AE38-11A2762EA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AFB1B-B8B5-48F5-914E-1926440E5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6EAB4-A0A0-4092-8EC8-05580C48D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6C63-A948-4596-B309-8C0D4F74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0FA4-1FC7-4892-823F-F7FCD6DC8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DE4E-89FF-4139-9654-36E7E3D59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E4AA4-2867-49CF-8274-4349EEFD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E966-578E-4316-97A1-0A2846FB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35BA-2E76-47D0-8AD2-999080049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D1F1-4C93-4484-96A8-7204D444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FF18-02F0-4E36-8415-EDFA676B3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C38B0-4942-4A54-9D71-5D0F76A207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001A5-923C-4121-BFE4-595037256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DBC6C-DD51-4BAF-8EE8-13697577B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rch 23,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2, Settlements Clean-up [ERCOT]</a:t>
            </a:r>
            <a:endParaRPr b="0" lang="en-US" sz="1800" spc="-1" strike="noStrike">
              <a:solidFill>
                <a:srgbClr val="000000"/>
              </a:solidFill>
              <a:latin typeface="Arial"/>
            </a:endParaRPr>
          </a:p>
        </p:txBody>
      </p:sp>
      <p:sp>
        <p:nvSpPr>
          <p:cNvPr id="191"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current practices and cleans up Protocol language related to Settl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2 as amended by the 11/16/16 ERCOT comments.  On 2/9/17, PRS unanimously voted to endorse and forward to TAC the 1/19/17 PRS Report and Impact Analysis for NPRR8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4, Remove Posting Requirement for Private Use Network Diagrams [ERCOT]</a:t>
            </a:r>
            <a:endParaRPr b="0" lang="en-US" sz="1800" spc="-1" strike="noStrike">
              <a:solidFill>
                <a:srgbClr val="000000"/>
              </a:solidFill>
              <a:latin typeface="Arial"/>
            </a:endParaRPr>
          </a:p>
        </p:txBody>
      </p:sp>
      <p:sp>
        <p:nvSpPr>
          <p:cNvPr id="193"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ERCOT should post both a system wide network model and a set of station one-line diagrams.  It also clarifies that the model posting does not disclose data about Private Use Network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4 as amended by the 1/18/17 ERCOT comments and as revised by PRS.  On 2/9/17, PRS unanimously voted to endorse and forward to TAC the 1/19/17 PRS Report and the Impact Analysis for NPRR8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8, Three Year CRR Auction [Morgan Stanley]</a:t>
            </a:r>
            <a:endParaRPr b="0" lang="en-US" sz="1800" spc="-1" strike="noStrike">
              <a:solidFill>
                <a:srgbClr val="000000"/>
              </a:solidFill>
              <a:latin typeface="Arial"/>
            </a:endParaRPr>
          </a:p>
        </p:txBody>
      </p:sp>
      <p:sp>
        <p:nvSpPr>
          <p:cNvPr id="195"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50k, $130k-$140k annual recurring Operations and Maintenance (O&amp;M); impacts to Market Operations staffing (0.5 FTE); impacts to Credit Monitoring and Management (CMM);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xtends the Congestion Revenue Right (CRR) Auction process into the third year forward; revises the percentages sold in the CRR Long-Term Auction Sequence; and makes aligning changes to the timetable for modifying Load Zon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8 as amended by the 1/18/17 DC Energy comments.  On 2/9/17, PRS unanimously voted to endorse and forward to TAC the 1/19/17 PRS Report and Impact Analysis for NPRR808 with a recommended priority of 2017 and rank of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0, Applicability of RMR Incentive Factor on Reservation and Transportation Costs Associated with Firm Fuel Supplies [ERCOT]</a:t>
            </a:r>
            <a:endParaRPr b="0" lang="en-US" sz="1800" spc="-1" strike="noStrike">
              <a:solidFill>
                <a:srgbClr val="000000"/>
              </a:solidFill>
              <a:latin typeface="Arial"/>
            </a:endParaRPr>
          </a:p>
        </p:txBody>
      </p:sp>
      <p:sp>
        <p:nvSpPr>
          <p:cNvPr id="197"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40; May 1, 2017 for revisions to Section 3.14.1.1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40k; no impacts to ERCOT staffing; impacts to Settlements and Billing (S&amp;B) and Enterprise Information Services (EI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the applicability of the Reliability Must-Run (RMR) Incentive Factor to reservation and transportation costs associated with firm fuel supplies, which should be considered fuel costs.  In addition, this NPRR separates costs in the RMR Standby Payment equation in Section 6.6.6.1 based on Incentive Factor applicabili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10 as revised by PRS.  On 2/9/17, PRS unanimously voted to endorse and forward to TAC the 1/19/17 PRS Report as amended by the 1/30/17 ERCOT comments and the Impact Analysis for NPRR810 with a recommended priority of 2017 and rank of 1940 and a recommended effective date of 5/1/17 for revisions to Section 3.14.1.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2, Alignment of Currently Published Reports [ERCOT]</a:t>
            </a:r>
            <a:endParaRPr b="0" lang="en-US" sz="1800" spc="-1" strike="noStrike">
              <a:solidFill>
                <a:srgbClr val="000000"/>
              </a:solidFill>
              <a:latin typeface="Arial"/>
            </a:endParaRPr>
          </a:p>
        </p:txBody>
      </p:sp>
      <p:sp>
        <p:nvSpPr>
          <p:cNvPr id="199"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0k and $30k; no impacts to ERCOT staffing; impacts to EIS and Market Information System (MI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language related to short-term system adequacy reports, aligns Protocol language with current ERCOT practices and Public Utility Commission of Texas (PUCT) rules regarding the posting of Resource and Load information, and modifies the Protocol requirement to post a Reliability Unit Commitment (RUC) initial conditions report to only include the Hourly RUC (HRUC) process as originally intended in NPRR314, Requirement to Post Generation Resources Temporal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12 as revised by PRS.  On 2/9/17, PRS unanimously voted to endorse and forward to TAC the 1/19/17 PRS Report and Impact Analysis for NPRR812 with a recommended priority of 2017 and rank of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3, Updated Terminology Related to Annual Market Settlement Operations Audits [ERCOT]</a:t>
            </a:r>
            <a:endParaRPr b="0" lang="en-US" sz="1800" spc="-1" strike="noStrike">
              <a:solidFill>
                <a:srgbClr val="000000"/>
              </a:solidFill>
              <a:latin typeface="Arial"/>
            </a:endParaRPr>
          </a:p>
        </p:txBody>
      </p:sp>
      <p:sp>
        <p:nvSpPr>
          <p:cNvPr id="201"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places references to Statement on Standards for Attestation Engagements, No. 16 (SSAE16) within the Protocols with Service Organization Control (SOC) in relation to the annual ERCOT market Settlement audi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unanimously voted to recommend approval of NPRR813 as submitted.  On 3/9/17, PRS unanimously voted to endorse and forward to TAC the 2/9/17 PRS Report and Impact Analysis for NPRR8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776, Voltage Set Point Communic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9, Updates to Outages of Transmission Faciliti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2, Settlements Clean-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4, Remove Posting Requirement for Private Use Network Diagram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8, Three Year CRR Auc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0, Applicability of RMR Incentive Factor on Reservation and Transportation Costs Associated with Firm Fuel Suppli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2, Alignment of Currently Published Repor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3, Updated Terminology Related to Annual Market Settlement Operations Audi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9, GTC or GTL for New Generation Interconnec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8, Allow Curtailment of Certain DC Tie Load Prior to Declaring Emergency Condition – URGENT</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8, Additional CRR Accounts Reques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7, ERCOT-directed Dispatch of Price-Responsive Distributed Gener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5, Update RTL calculation to include Real-Time Reserve Price Adder based componen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09, GTC or GTL for New Generation Interconnection</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6022800"/>
        </p:xfrm>
        <a:graphic>
          <a:graphicData uri="http://schemas.openxmlformats.org/drawingml/2006/table">
            <a:tbl>
              <a:tblPr/>
              <a:tblGrid>
                <a:gridCol w="1245960"/>
                <a:gridCol w="7339320"/>
              </a:tblGrid>
              <a:tr h="1370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LW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odal Protocol Revision Request (NPRR) establishes Initial Energization and Initial Synchronization as defined terms, changes the status of Protected Information used in an interconnection study, adds a reference to a quarterly stability assessment for interconnecting Generation Resources when evaluating the need for a Generic Transmission Constraint (GTC), and clarifies the requirements to be met for a Generation Resource prior to Initial Synchroniz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157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9/17, PRS unanimously voted to recommend approval of NPRR809 as amended by the 1/24/17 ERCOT comments.  On 3/9/17, PRS voted to endorse and forward to TAC the 2/9/17 PRS Report and Impact Analysis for NPRR809, with a recommended priority of 2017 and a rank of 1980.  There was one opposing vote from the Independent Generator Market Segment and one abstention from the Independent Generato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7; Rank 198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40k and $150k, $130k-$140k annual recurring O&amp;M; impacts to Transmission Planning staffing (0.7 FTE); impacts to Data Access &amp; Transparenc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649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 number of recent Full Interconnection Studies (FISs) have identified stability limits associated with generating levels below the full capacity of newly interconnecting generating unit(s).  During the commissioning process for these units, the Interconnecting Entity (IE) provided updates to the model data used in the FIS having the potential to impact the results of the stability limit identified in the FIS.  In these instances, ERCOT established a GTC in order to ensure that the new unit could be brought On-Line with the expectation of being able to reliably operate the system.  However, due to time constraints, these GTCs had to be established based on the FIS without consideration given to the new model data obtained from the IE.  There is the potential for transmission system changes which were not reflected in the FIS to be implemented between completion of the FIS and the date when an IE first seeks to connect to the transmission system.</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8, Allow Curtailment of Certain DC Tie Load Prior to Declaring Emergency Condition – URGENT</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6003720"/>
        </p:xfrm>
        <a:graphic>
          <a:graphicData uri="http://schemas.openxmlformats.org/drawingml/2006/table">
            <a:tbl>
              <a:tblPr/>
              <a:tblGrid>
                <a:gridCol w="1245960"/>
                <a:gridCol w="733932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M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lows ERCOT to curtail certain Direct Current Tie (DC Tie) Load during a Watch prior to declaring an Emergency Condi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98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9/17, PRS voted via roll call vote to grant NPRR818 Urgent status.  There were five opposing votes from the Cooperative (3), Consumer, and Investor Owned Utility (IOU) Market Segments.  PRS then unanimously voted to table NPRR818 and refer the issue to ROS and WMS.  On 3/9/17, PRS voted to recommend approval of NPRR818 as amended by the 2/24/17 REMC comments; and to forward to TAC.  There were two opposing votes from the Independent Generator Market Segment and three abstentions from the Independent Retail Electric Provider (IREP) (2) and Independent Generator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650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inimizes inefficient wholesale market operations and consequent harm to Market Participants.  Market Participants wanting to export power have to procure power in the Day-Ahead Market (DAM) without knowing whether the e-Tag will be approved or denied. In turn, they are subjected to a loss and contractual difficulties with their counterparties if the e-Tag is denied.  There are many instances where the DAM price was relatively high whereas the Real-Time Market (RTM) price was depressed when e-Tags were denied and DC Tie capacity was under-utilized - an avoidable inefficient outcome for the market and loss for the Market Participant.  By allowing ERCOT to curtail e-Tags in a Watch prior to an Emergency Condition, ERCOT can revert back to it's pre-POB #755 operating procedure of approving e-Tags up to the physical limits of the DC Ties.  E-Tag approval can again be done prior to DAM - allowing Market Participants to correspondingly procure energy in DAM and have the added certainty in its contractual obligation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nnual Review of Other Binding Documents (OBD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rsuant to paragraph (3) of Section 1.1, Summary of the ERCOT Protocols Document, PRS reviewed and unanimously approved the current list of OBDs.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7 PRS Goal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6, Voltage Set Point Communication [ERCOT]</a:t>
            </a:r>
            <a:endParaRPr b="0" lang="en-US" sz="1800" spc="-1" strike="noStrike">
              <a:solidFill>
                <a:srgbClr val="000000"/>
              </a:solidFill>
              <a:latin typeface="Arial"/>
            </a:endParaRPr>
          </a:p>
        </p:txBody>
      </p:sp>
      <p:sp>
        <p:nvSpPr>
          <p:cNvPr id="187" name="Rectangle 2"/>
          <p:cNvSpPr/>
          <p:nvPr/>
        </p:nvSpPr>
        <p:spPr>
          <a:xfrm>
            <a:off x="487440" y="879480"/>
            <a:ext cx="8157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70k and $100k, $120k-$140k annual recurring Operations and Maintenance (O&amp;M); impacts to Energy and Market Management System (EMMS) Production Support staffing (0.5 FTE); impacts to Energy Management System (EMS), Network Model Management System (NMMS), and Wide Area Network (WAN);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language with currently used verbal communication practices between Transmission Service Providers (TSPs), Qualified Scheduling Entities (QSEs), and Generation Resources.  This NPRR also identifies a new telemetered data point (Voltage Set Point) and identification of the Point of Interconnection (POI) kV measurements to be used relative to the Voltage Set Point which is to be provided by the TSP to ERCOT, the QSE, and the Generation Resour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unanimously voted to recommend approval of NPRR776 as amended by the 1/23/17 ERCOT comments.  On 3/9/17, PRS unanimously voted to endorse and forward to TAC the 2/9/17 PRS Report and Revised Impact Analysis for NPRR776 with a recommended priority of 2017 and rank of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9, Updates to Outages of Transmission Facilities [DC Energy]</a:t>
            </a:r>
            <a:endParaRPr b="0" lang="en-US" sz="1800" spc="-1" strike="noStrike">
              <a:solidFill>
                <a:srgbClr val="000000"/>
              </a:solidFill>
              <a:latin typeface="Arial"/>
            </a:endParaRPr>
          </a:p>
        </p:txBody>
      </p:sp>
      <p:sp>
        <p:nvSpPr>
          <p:cNvPr id="189"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troduces requirements for submitting updates to the Outage Scheduler for completed or started Outages on Transmission Facili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voted to recommend approval of NPRR799 as amended by the 1/19/17 Morgan Stanley comments.  There was one abstention from the Consumer Market Segment.  On 3/9/17, PRS voted to endorse and forward to TAC the 2/9/17 PRS Report and the Impact Analysis for NPRR799.  There was one abstention from the Consumer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3-10T19:35:22Z</dcterms:modified>
  <cp:revision>34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