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83E5F-A64E-4AE9-B616-7775CC058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4F040-815F-4E70-A822-C737F341B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DE1FD-1C59-4E04-A134-10E7119BD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6D20A-CD2B-4D3C-A214-C3495B18D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49BAB-651C-4E95-8033-A2F35FABD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370C-9EC6-4378-BDAB-3C458DF1F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F0BC6-67B9-43A7-8D54-3B25C9C6A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CA294-9BAE-4623-9EAE-4AF84EE56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10F-1A2C-4950-9043-EEA14E8F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D1A-BCEF-4B14-9B9C-220F3C3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BE223-1717-497F-9FD1-C316DCE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0D0A9-DE13-4D92-A3CA-AC50B1BD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201BA-DD16-4731-9049-F8E9F7D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73FFA-642F-4A30-AC67-527DD49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EB7AC6-62BC-498F-B8BE-9208636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3F619-519F-48D3-9263-F3B7D05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DA6D4D-D3D8-46D5-BE29-B307B64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06E88-93AA-46FC-A1DE-6A6D0E89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A4137-509E-4D8E-9562-0548A611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3AC66-7ECC-49DB-B565-DC52638C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255-8FC6-486A-BC9B-9713D5E9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B737B-C15E-4137-8A4B-831B7A1F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E15F3-F6DF-47E6-BF67-3E60DBA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CB1A2-E176-413F-ABCD-3644F5D8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577E6-612C-4CE3-8D60-9061B8E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3723B-8AE7-4C09-919D-40FA586C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14BC0-34E0-42C3-BAEB-212C56A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2CA0C-C273-483A-8F0F-F7CC08F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1EE32-2B2C-4420-AFB1-8A7517C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F2848-36DD-4922-B8D8-305C9566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A9A32-FAEF-4F6F-98EE-2751DFCB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64A-0F30-4C11-BFF7-79732314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00A69-226B-40B5-B794-6AE6EE32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6D7-823D-4C28-9F8A-28614D0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1B99-DA36-4CBB-B6D0-CF24518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C33-236C-447A-AC99-D0ADE14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A309-5041-4069-A212-D484F49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34F3-A884-4B26-94E3-F7C2E9D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27F-2AA1-4E06-976F-E703313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2ABC-81C8-4DCB-8E6A-EB496F7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37D-E21C-42F1-8BF2-A6AC214F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4DE6-8B2D-4466-A711-72E5F8F4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669B-2C45-40FD-96C7-6141B89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7EE0-4FD8-4D62-A746-D33B2C9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AC8-DB32-44D8-9749-B5630838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4896-824E-40EE-BA89-3AA3B9FF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A60-08B7-4A04-A09A-F0196F81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754-A335-414B-AF09-AE72637E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CA8A3-9BA7-43C6-B090-5F5FFF3E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506-A602-45D3-9CB6-FCC09EC5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4E83F-12FB-4CDF-8121-4921B5CE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6973D-3F72-4C5C-9D53-0610BE6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56B2D-ECF1-4195-8898-4F8B031C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90725-9745-4F25-ADDF-3D10BDC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3C021-53B5-4381-A714-2E8AE15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ED483-CFAF-4CAF-B393-C8C1C80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3F85B-6863-4D0C-9690-DC13C38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2E261-B5E3-4811-BE7F-E84B03E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537D7-9BD5-44F1-B83B-4D579F2B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13F7B-0A8F-468C-9536-22074A1B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128-A194-4A57-BD2D-7B7A579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D36D1-FCF1-414C-B5DD-734ED38C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BF0D8-BDD6-4726-B7BB-26CFAD03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07E9A-1132-4600-A836-B63C147A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456F4-2CCA-4E1C-9719-9C597E7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BE41E-B555-47B0-A144-BE4E85F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61186-24A4-42AD-B3F2-15E2EFCB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3D18C-685C-4CD3-A4C5-66B601F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BB31C-94ED-451D-883B-DCE4A43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405F3-C24D-49D0-8BC5-585AD56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37BA8-182E-4125-8994-6418008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6EB-DA15-48C7-931E-44980D9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C7B60-39A9-412F-8DDA-30ACC08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F6F36-6049-439F-B660-AA74F9B7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729EF-8C42-4064-A1F3-AC653AA6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069A5-853D-4C78-8305-41B7436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F8ED1-5CB6-4FD6-82C7-5968F3F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6EF77-49D7-4878-9BB3-CB2F5EC3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8CCD1-AA4C-4C43-A851-0639C11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7B549-B2ED-4E7A-93F3-B7802F5F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80385-8D64-422C-9F16-DB829A7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F430D-31F0-44E7-94AD-499FF82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DD3-36B9-4396-BC43-F17B9B0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F0C2A-8653-4EE0-A6A9-EDF9583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EA41C-9AD6-4CD3-B162-7D51CC16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41AE8-52E7-4E0E-8C31-E3DD35B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AB703-9782-4055-B8C7-7C188A34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C084C-E70C-42D0-BD67-2BB5B874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44983-E6AC-4F12-A4BE-A6386D66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8DB96-7BAE-4375-BECD-A0378463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5312D-1F85-4888-B04D-758A1E9B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E7A46-B3D6-4238-B79A-1D53ED85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54CD7-EA31-495B-9C3F-9F98B76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2F9-97FC-4805-9A58-697B885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35E95-B44A-46B1-813A-4D9BF84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93154-DA50-4A43-9DAE-BE2016F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C4309-C9C2-4413-9397-FD22E02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7DC26-6E6E-4E34-A4FD-55C3011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85937-C09F-49A1-998D-F9358E1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19E3E-7E34-43B7-BB70-3EEC315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9518D-7684-4327-BF94-51B4A9B7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7DD3D-13E2-4FA6-AF6A-FB1439BB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DD945-6398-4431-911E-6AAA929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413F2-FBDD-4615-8BFE-38DF00AF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9E82A-A01B-4D2E-83C9-FA42B99D6E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E1C83-A221-4C0A-928E-7581A950D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508D6-32EC-405C-91CD-F5C318DB0E8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B41CE-A2E5-4A02-80BE-98D4D9C3AD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9118B-2AED-45FB-B0E5-2CC91003267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7F372-5700-4A96-9E25-FDFD7CE43AB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0AB8B-0CB0-4654-A6D9-EC196249DBA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9DFD7-072B-429B-A8BD-7BCC5ACA121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F1322-09FF-40D6-916F-9E41EA8AE1A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1667E-AA2A-4FDB-A6DF-D69E24AD67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D1E06-4E27-427F-A9C9-1A8C887366A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A7BBC-2B11-4F16-B0EE-F28D3C4C416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90635-97DD-4F3E-A38E-6DE96176E39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1DBBD-7BD8-441A-9CAE-B74C66EC6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8C399-15A2-4412-9B84-48A555C5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EE0F9-A432-4F06-9365-F1DB159FAD6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6985B-4159-443A-B5D2-AAD5A3A5E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7D203-B87A-40FF-8056-C5DCF9728ED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31398-C8F5-45AC-93F5-8249B9B23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C52F1-B0EA-4258-8358-3174D9FB224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F05E-87DC-4F74-A005-06A9E15D29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39B00-87C6-470D-83B8-68D8A167BC9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F0745-806E-4641-836B-7832D6F189C3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518FC-5098-479F-A1CE-CB5E17FB8CA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82600-1B2E-4F13-B41D-D8B7E0CC3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BC96C-E27D-4C72-843D-71BEE49AEE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rch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ril 5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33449-C6D7-4E6C-B5A5-585F1E9FA0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2017 WMS Goa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ssist in the development of appropriate Resource Adequacy related market change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Process TAC Resource Adequacy directives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Evaluate market enhancement performance and propose changes where appropriate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xplore market design enhancements and monitor ongoing market improvements which are cost effective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Review market performance to ensure outcomes are consistent with design and implement change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Out-of-market actions, RMR, RUC, HDL Overrides, etc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Competitive vs. non-competitive solutions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ccommodate the expansion of demand response and emerging technologie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Review the price impact of DG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Consider improvements to utilization rate of ERS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xplore ways to improve credit practices. 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romote access to ERCOT markets through evaluation of potential barriers to ent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ssist the PLWG in reviewing the market impacts of transmission planning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Review State of the Market Report and consider necessary recommendation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Collaborate with ERCOT Staff on the review of ancillary service needs and implement change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Work with ERCOT Staff to develop Protocols and market improvements that support increased data transparency and data availability to the market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Consolidate and combine working group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A7BDE-C7C9-4739-BACD-AA0B033AE9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 Cont’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Multi-Interval Real-Time Market Feasibility Study (MIRTM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by WMS as recommended by SAWG and as revised by W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4CA8F-2631-40F6-BCB9-45599250A3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9 – Updates to Outages of Transmission Facil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/19/17 Morgan Stanley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6 – Voltage Set Point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/23/17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09 – GTC or GTL for New Generation Interconn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 as amended by the 1/24/17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15 – Revise the Limitation of Load Resources Providing Responsive Reserve Service (RR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18 – Allow Curtailment of DC Tie Load Prior to Declaring Emergency Condition – Urg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2/24/17 REMC comments and request QMWG to address the related issues of curtailments during Watc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43342-2C26-4D95-9F8E-D67F15CC7E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Cont’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8 – Additional CRR Accounts Requ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PRS rejec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OGRR 166 – Daily Grid Operations Summary Repor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ROS approve NOGRR 166 as edited by W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C7C98-511D-4A3A-82C9-1533F30804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witchable Generation Resources upd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Bill Blevins presented a progress upd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plans to vote on white paper next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Greens Bayou RMR contract cancell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ed ERCOT present updated estimated costs at September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Possible combining of QMWG and C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ial of coordinated meet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93CEA-739C-4C72-BB87-97C6D6F032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3-10T19:17:30Z</dcterms:modified>
  <cp:revision>90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