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6E37-F37A-4F5D-AF1C-EDF56BE96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EEDC-D22F-405E-92FA-659AB6ADF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A0B4-0F01-4A85-B9F2-1C4733385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E727-5EF4-482A-A541-4D6B566C3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930E-4895-4EB0-9ACB-4638EA615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E0F8-19C1-4E46-B10F-4E85F1B8C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FF2C-FD7F-468A-9494-CA34EBC7A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EA9A-D8EE-4841-A60B-6D70AB4BC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894E-F19E-442E-B203-A651ED4FD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3576-632B-4F08-8A6D-2BCAE5AFA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2B0A-8F97-4878-A18B-EA677C0E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DC77-AFE3-433D-93EC-D11E9AB70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9447-ABC1-406C-B774-1DD8E9B99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67CF-8764-4387-99B4-E10ED5CBA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78395-F9D4-4146-8CD2-83286C74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B0087-B710-435B-B594-BA705628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A2864-DC93-4FDE-952D-E9020B06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43E6-D6C7-4E25-BADC-0194005D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8B27-5E7F-429D-8B3B-6B7135B4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25E8-98BA-4A70-876F-45C61406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7DBC-BC51-4867-BF42-C4C12CFB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2FD0-C627-4613-A2E6-F15077DE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2C9E-4548-415C-809C-841950E5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C633-B98B-4206-9915-D4E8ACC6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AFFB-7323-4BFC-8A55-09DA50394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C2BB-BFE9-4681-8C5D-EE48B3103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52DE0-6822-4C06-83A3-42523A3E8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17956-345E-42D1-9AA4-99E2A76B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0EC2B-03EC-48B9-A220-5D778273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F54FC-1BD8-4044-B70F-7CDA5A73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EF415-C381-4050-8A35-285AF5F0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6A8F-7D4E-4933-9B6A-15902A32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0D58D-B1C0-4449-8C23-275D08FC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A95B2-1FDA-490D-BF3E-D4CC1664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507C5-AAA4-4BC3-9994-D6439ED1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04579-2990-4394-94F7-D17EBDCD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70726-B1FA-4E51-BECA-933DA302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07BF1-B0AF-4F93-955E-8648C484D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9B98C-2B77-4AC9-88F7-02EE1ADB5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284A7-D0CB-4E9E-8E0D-7EE2372B0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ECD3A-904D-48A4-BF7E-B2BC15E2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763AD-AF19-4F00-BDD5-5489E79A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BD72-93AC-43CF-A3A3-0E065DA0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F51E3-0D15-434E-8E4A-B928AE1F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5A9C7-7697-459F-8CD9-648B7D3F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BB647-DCA3-4070-93AF-6E2C9B18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2333E-F8E5-4B32-BF36-7544DB9C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B273B-34C0-4194-AEAB-4F5A4C9D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11F28-5C6D-4988-A937-37FD973D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4E9EB-E2AC-4092-8FEC-12BFCD39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2CF8B-783D-41F2-AAEC-A56928380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D103D-FA60-43F5-A562-1FF69DB18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6006E-C4A0-4FD0-A229-6B963388A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581D-49E0-4E24-822D-FE58C06C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09105-1208-4CFD-B238-DFB22311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E687B-5438-43A1-B969-D14CBF28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1DC51-915C-45B6-AF18-7047CFF7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96615-2B9A-4875-ADD6-B515C8C9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1A307-13A3-4360-A88A-57B934E4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5B5C2-20E5-44DF-B5A4-D2F7819A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4701B-76BE-4553-8F4D-4BA7F0FD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52663-BDAB-4BEE-AD67-98735EF1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71B7E-2C5F-490F-A212-030548A9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AAF82-5A82-43FC-BC72-87C53ABFA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FB84-1D72-4A42-BFD8-78A95C29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3E225-5A89-41D3-AB97-D012715DE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36A8A-6A8F-466F-935C-69EF2C02E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50502-2CD9-4FE4-BD40-EDE36EAC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59937-0CC0-4E16-AFD3-E8A03CD2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F98B7-4796-4A85-BC0B-AC364C5E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A69E7-517B-495B-8624-6B03F3FD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99F65-5105-4C16-A250-E6EA986F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52DCA-68A2-4472-8DC3-CFAC1FA7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AA093-16C7-4677-98B7-8F2FE8A6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C9077-9A63-40DC-BA4F-75457222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B263-090C-4AEC-9775-6CFFEBA2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049DB-E678-4B6E-B7DC-F3E74D7B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396D5-CF1B-4C11-92FD-28E092377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B0F6F-E175-468F-B761-898C845C2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4AF84-8685-4EBB-B887-15A4421AB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C3135-14B2-4CAE-8246-AACB7842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94D0A-3A68-408F-9EAF-2A22CFF0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C6CB5-C8AB-4D83-9DB4-18A22168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FCE7E-7332-4121-89FB-DB13230A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AC3FA-9E6E-4DFC-AABC-2F5A4C43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FD48A-1394-46E8-A0A6-E59B97A3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56B3-CC3E-4A8F-846C-36308BF6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BEA91-6DE7-4E78-B6E6-1EB33ED1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1EA0A-85D6-4247-9D22-BE600E61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C52A0-A749-45F7-A319-958A016A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6C258-936C-42EF-BF90-685C29CF4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0C16F-AC56-4EA2-8FD8-B24484090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BCAD-4AF0-4F09-AB4B-8C8BE75E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D9DB-8CA3-4934-916B-04FD0BB6489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4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Oval 15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62" name="Oval 15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Oval 16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CEDC-8552-4AAC-91FA-2FAB93E64F2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5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17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10" name="Oval 17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Oval 1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E45D-0473-46EC-92A3-61D70B28C14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D560-B143-4EA1-9579-AFC2542C543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5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6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D14E-B0CE-4106-B633-DC60019156D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158F-570F-4DBB-8ED6-8A72D156E23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Rectangle 15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80" name="Rectangle 15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Flowchart: Process 16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lowchart: Process 17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FAEB-D76E-4B1D-A3FC-22E86E059CE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86000" y="2114280"/>
            <a:ext cx="665784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1" lang="en-US" sz="2900" spc="-1" strike="noStrike">
                <a:solidFill>
                  <a:srgbClr val="572314"/>
                </a:solidFill>
                <a:latin typeface="Gill Sans MT"/>
              </a:rPr>
              <a:t>February 7,  2017</a:t>
            </a:r>
            <a:br>
              <a:rPr sz="2900"/>
            </a:br>
            <a:r>
              <a:rPr b="1" lang="en-US" sz="2900" spc="-1" strike="noStrike">
                <a:solidFill>
                  <a:srgbClr val="572314"/>
                </a:solidFill>
                <a:latin typeface="Gill Sans MT"/>
              </a:rPr>
              <a:t>Retail Market Subcommittee (RMS)</a:t>
            </a:r>
            <a:br>
              <a:rPr sz="2900"/>
            </a:br>
            <a:r>
              <a:rPr b="1" lang="en-US" sz="2900" spc="-1" strike="noStrike">
                <a:solidFill>
                  <a:srgbClr val="572314"/>
                </a:solidFill>
                <a:latin typeface="Gill Sans MT"/>
              </a:rPr>
              <a:t>Update to TAC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2361960" y="327636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20e04"/>
                </a:solidFill>
                <a:latin typeface="Gill Sans MT"/>
              </a:rPr>
              <a:t>Kathy Scott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Rectangle 10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ch 23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5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1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0B5E-07DE-473C-9998-86E0F0DA5E63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71600" y="-76680"/>
            <a:ext cx="7499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Questions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Slide Number Placeholder 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FA5D-8120-453E-B780-8BAEDE224392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rch 23, 201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7" descr="C:\Users\00015621\AppData\Local\Microsoft\Windows\Temporary Internet Files\Content.IE5\M2YDF2H6\passe-compose-ou-imparfait-grammaire-bdf-19[1].jpg"/>
          <p:cNvPicPr/>
          <p:nvPr/>
        </p:nvPicPr>
        <p:blipFill>
          <a:blip r:embed="rId1"/>
          <a:stretch/>
        </p:blipFill>
        <p:spPr>
          <a:xfrm>
            <a:off x="1854360" y="990720"/>
            <a:ext cx="59180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New Revision Request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9144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Gill Sans MT"/>
              </a:rPr>
              <a:t>RMGRR144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, Elimination of REP-Specific Switch Hold Lists </a:t>
            </a:r>
            <a:r>
              <a:rPr b="1" lang="en-US" sz="3200" spc="-1" strike="noStrike">
                <a:solidFill>
                  <a:srgbClr val="c00000"/>
                </a:solidFill>
                <a:latin typeface="Gill Sans MT"/>
              </a:rPr>
              <a:t>(Vote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s Retail Market Guide Revision Request (RMGRR) eliminates the requirement for Transmission and/or Distribution Service Providers (TDSPs) to maintain a secure list by Retail Electric Provider (REP) Data Universal Numbering Systems (DUNS) of all Electric Service Identifiers (ESI IDs) with switch hold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41840" indent="-164160"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2/07/17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:  </a:t>
            </a: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RMS Unanimously Approved RMGRR144 and I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41840" indent="-164160"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3/23/17:  </a:t>
            </a: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RMS recommends TAC’s  Approval of RMGRR144</a:t>
            </a:r>
            <a:r>
              <a:rPr b="0" lang="en-US" sz="2000" spc="-1" strike="noStrike">
                <a:solidFill>
                  <a:srgbClr val="c00000"/>
                </a:solidFill>
                <a:latin typeface="Gill Sans MT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31920" indent="-173160">
              <a:spcBef>
                <a:spcPts val="499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41840" indent="-164160">
              <a:spcBef>
                <a:spcPts val="45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NOTE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:  If  TAC approves RMGRR144 these changes would become effective on 4/1/17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rch 23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A60E-5A19-4D93-87E1-6E6737D30589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New Revision Request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9144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Gill Sans MT"/>
              </a:rPr>
              <a:t>RMGRR145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, Appendix for a Mass Customer List (MCL)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s Retail Market Guide Revision Request (RMGRR) provides the format for a Mass Customer List to be used by a Transmission and/or Distribution Service Provider (TDSP) / Municipally Owned Utility (MOU)/Electric Cooperative (EC) TDSP to inform Market Participants of all customers in its service territories when entering competition or expanding its service territory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2/07/17:  </a:t>
            </a: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RMS Unanimously Approved RMGRR145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NOTE: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RMGRR145 will return to RMS for Impact Analysis Review during our March 2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meeting.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rch 23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2742-2CFE-4BDD-8BE8-D49EE310C4E0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1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Gill Sans MT"/>
              </a:rPr>
              <a:t>Approved RMS 2017 WG(s) and Taskforce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9144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Advanced Metering Working Group (AMWG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Co-Chair: Esther Kent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(CenterPoint Energy)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Co-Chair: John Schatz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(TXU Energy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Texas Data Transport and MarkeTrak Systems (TDTMS) W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Chair: Jim Lee –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(AEP)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Vice-Chair: Monica Jones -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(Reliant)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Texas Standard Electronic Transaction (Texas SET) W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Chair: Diana Rehfeldt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– (TNMP)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Vice-Chair: Kyle Patrick – (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Relian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Retail Market Training Task Force (RMTTF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Co-Chair: Deborah McKeever –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(Oncor)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Co-Chair: Sheri Wiegand  -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(TXU Energy)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Co-Chair: Tomas Fernandez  -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(Reliant)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11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rch 23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5E56-2713-45A5-868C-E29E6570201A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Working Group/Taskforces Update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914400" y="6858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Retail Market Training Taskforce (RMTTF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Retail Instructor Led Clas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4853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1c4853"/>
                </a:solidFill>
                <a:latin typeface="Gill Sans MT"/>
              </a:rPr>
              <a:t>AUSTIN </a:t>
            </a:r>
            <a:r>
              <a:rPr b="0" lang="en-US" sz="1800" spc="-1" strike="noStrike">
                <a:solidFill>
                  <a:srgbClr val="1c4853"/>
                </a:solidFill>
                <a:latin typeface="Gill Sans MT"/>
              </a:rPr>
              <a:t>	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Gill Sans MT"/>
              </a:rPr>
              <a:t>Georgetown Library </a:t>
            </a:r>
            <a:r>
              <a:rPr b="1" i="1" lang="en-US" sz="1800" spc="-1" strike="noStrike">
                <a:solidFill>
                  <a:srgbClr val="000000"/>
                </a:solidFill>
                <a:latin typeface="Gill Sans MT"/>
              </a:rPr>
              <a:t>-   </a:t>
            </a:r>
            <a:r>
              <a:rPr b="1" i="1" lang="en-US" sz="1800" spc="-1" strike="noStrike">
                <a:solidFill>
                  <a:srgbClr val="c00000"/>
                </a:solidFill>
                <a:latin typeface="Gill Sans MT"/>
              </a:rPr>
              <a:t>Completed </a:t>
            </a:r>
            <a:r>
              <a:rPr b="0" lang="en-US" sz="1800" spc="-1" strike="noStrike">
                <a:solidFill>
                  <a:srgbClr val="c00000"/>
                </a:solidFill>
                <a:latin typeface="Gill Sans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193040" indent="-167760">
              <a:spcBef>
                <a:spcPts val="45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Retail 101 –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uesday,   January 31, 2017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193040" indent="-167760">
              <a:spcBef>
                <a:spcPts val="45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MarkeTrak  101 –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ednesday,   February 1, 2017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c4853"/>
                </a:solidFill>
                <a:latin typeface="Gill Sans MT"/>
              </a:rPr>
              <a:t>   </a:t>
            </a:r>
            <a:r>
              <a:rPr b="0" i="1" lang="en-US" sz="1800" spc="-1" strike="noStrike">
                <a:solidFill>
                  <a:srgbClr val="1c4853"/>
                </a:solidFill>
                <a:latin typeface="Gill Sans MT"/>
              </a:rPr>
              <a:t>	</a:t>
            </a:r>
            <a:r>
              <a:rPr b="0" i="1" lang="en-US" sz="1800" spc="-1" strike="noStrike">
                <a:solidFill>
                  <a:srgbClr val="1c4853"/>
                </a:solidFill>
                <a:latin typeface="Gill Sans M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spcBef>
                <a:spcPts val="34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Survey comments were consistent with previous Instructor Led Classes –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09080" indent="-159120">
              <a:spcBef>
                <a:spcPts val="34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Materials provided are resourceful, Q &amp; A is valuable and instructors are knowledgeabl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spcBef>
                <a:spcPts val="34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MarkeTrak 101 class length was “just right” with one commenting it was “too short” in length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c4853"/>
                </a:solidFill>
                <a:latin typeface="Gill Sans MT"/>
              </a:rPr>
              <a:t>	</a:t>
            </a:r>
            <a:r>
              <a:rPr b="1" i="1" lang="en-US" sz="1800" spc="-1" strike="noStrike">
                <a:solidFill>
                  <a:srgbClr val="1c4853"/>
                </a:solidFill>
                <a:latin typeface="Gill Sans MT"/>
              </a:rPr>
              <a:t>DALLAS</a:t>
            </a:r>
            <a:r>
              <a:rPr b="0" lang="en-US" sz="1800" spc="-1" strike="noStrike">
                <a:solidFill>
                  <a:srgbClr val="1c4853"/>
                </a:solidFill>
                <a:latin typeface="Gill Sans MT"/>
              </a:rPr>
              <a:t>	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Gill Sans MT"/>
              </a:rPr>
              <a:t>Oncor</a:t>
            </a:r>
            <a:r>
              <a:rPr b="1" i="1" lang="en-US" sz="1800" spc="-1" strike="noStrike">
                <a:solidFill>
                  <a:srgbClr val="000000"/>
                </a:solidFill>
                <a:latin typeface="Gill Sans MT"/>
              </a:rPr>
              <a:t>  -</a:t>
            </a: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i="1" lang="en-US" sz="1800" spc="-1" strike="noStrike">
                <a:solidFill>
                  <a:srgbClr val="c00000"/>
                </a:solidFill>
                <a:latin typeface="Gill Sans MT"/>
              </a:rPr>
              <a:t>Scheduled  </a:t>
            </a:r>
            <a:r>
              <a:rPr b="0" lang="en-US" sz="1800" spc="-1" strike="noStrike">
                <a:solidFill>
                  <a:srgbClr val="c00000"/>
                </a:solidFill>
                <a:latin typeface="Gill Sans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193040" indent="-167760">
              <a:spcBef>
                <a:spcPts val="45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Retail 101 –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Wednesday,  May 3, 2017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193040" indent="-167760">
              <a:spcBef>
                <a:spcPts val="45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Inadvertent Gain Training –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ursday,  May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Gill Sans MT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, 2017 </a:t>
            </a:r>
            <a:r>
              <a:rPr b="0" lang="en-US" sz="1800" spc="-1" strike="noStrike">
                <a:solidFill>
                  <a:srgbClr val="1c4853"/>
                </a:solidFill>
                <a:latin typeface="Gill Sans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09080" indent="-1591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rch 23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8CCA-EFB0-4D48-8855-53F7DAE91722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2209680" y="2666880"/>
          <a:ext cx="5181840" cy="982800"/>
        </p:xfrm>
        <a:graphic>
          <a:graphicData uri="http://schemas.openxmlformats.org/drawingml/2006/table">
            <a:tbl>
              <a:tblPr/>
              <a:tblGrid>
                <a:gridCol w="1963800"/>
                <a:gridCol w="1177920"/>
                <a:gridCol w="1019160"/>
                <a:gridCol w="1020960"/>
              </a:tblGrid>
              <a:tr h="304920">
                <a:tc>
                  <a:txBody>
                    <a:bodyPr lIns="3960" rIns="3960" tIns="3960" bIns="0" anchor="b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lassro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Web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80880">
                <a:tc>
                  <a:txBody>
                    <a:bodyPr lIns="3960" rIns="3960" tIns="3960" bIns="0" anchor="b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tail 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297000">
                <a:tc>
                  <a:txBody>
                    <a:bodyPr lIns="3960" rIns="3960" tIns="3960" bIns="0" anchor="b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keTrak 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1066320" y="6858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7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76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MT Help Desk Call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360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(-40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)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{12/15 = 259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76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76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MT Help Desk Ticket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323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(-26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)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{12/15 = 240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sidential = 268 </a:t>
            </a: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(-9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23680" indent="-2124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UI access issues = 60 </a:t>
            </a: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(-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 {U/ID &amp; P/W Invalid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23680" indent="-2124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gistration issues = 108 </a:t>
            </a: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(-1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 {Typo errors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6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76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MT Registered Users (Res)  </a:t>
            </a:r>
            <a:r>
              <a:rPr b="1" lang="en-US" sz="3200" spc="-1" strike="noStrike">
                <a:solidFill>
                  <a:srgbClr val="c00000"/>
                </a:solidFill>
                <a:latin typeface="Gill Sans MT"/>
              </a:rPr>
              <a:t>77,495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(+495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76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76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SIs in SM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7,257,115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(+11,401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76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76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ctive Meters in SM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7,194,765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(+11,884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7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66320" y="-2289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 u="sng">
                <a:solidFill>
                  <a:srgbClr val="572314"/>
                </a:solidFill>
                <a:uFillTx/>
                <a:latin typeface="Gill Sans MT"/>
              </a:rPr>
              <a:t>SMT Statistics for December 2016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257D-81D6-4705-AABE-79D8B3860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rch  23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oter Placeholder 1"/>
          <p:cNvSpPr/>
          <p:nvPr/>
        </p:nvSpPr>
        <p:spPr>
          <a:xfrm>
            <a:off x="6477120" y="63054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Content Placeholder 1" descr=""/>
          <p:cNvPicPr/>
          <p:nvPr/>
        </p:nvPicPr>
        <p:blipFill>
          <a:blip r:embed="rId1"/>
          <a:stretch/>
        </p:blipFill>
        <p:spPr>
          <a:xfrm>
            <a:off x="835200" y="530280"/>
            <a:ext cx="8997840" cy="594972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680" y="-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 u="sng">
                <a:solidFill>
                  <a:srgbClr val="572314"/>
                </a:solidFill>
                <a:uFillTx/>
                <a:latin typeface="Gill Sans MT"/>
              </a:rPr>
              <a:t>SMT Statistics for December 2016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E24F-0A17-4DC1-B506-983759A85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rch 23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ooter Placeholder 1"/>
          <p:cNvSpPr/>
          <p:nvPr/>
        </p:nvSpPr>
        <p:spPr>
          <a:xfrm>
            <a:off x="6477120" y="63054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1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ERCOT Updates: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9144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2017 Retail Market IT Services Service Level Agreement (SLA)  (Vot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Gill Sans MT"/>
              </a:rPr>
              <a:t>http://ercot.com/content/wcm/key_documents_lists/108474/16._Retail_SLA_2017_Draft.doc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RMS Unanimously Approved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2016 Q3 Performance Measures Report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Gill Sans MT"/>
              </a:rPr>
              <a:t>http://ercot.com/content/wcm/key_documents_lists/108474/16._RMS_3Q_2016_PM_Comparison.pptx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All transactional performance reported at </a:t>
            </a: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100% or 99% 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RCOT will have Q4 2016 Performance Measures filed, therefore, that information will be ready for RMS review on March 2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th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rch 23, 201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C8A1-3245-4243-AA39-FC09C9A7B36C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1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572314"/>
                </a:solidFill>
                <a:latin typeface="Gill Sans MT"/>
              </a:rPr>
              <a:t>RMS Meeting Date Announcements: </a:t>
            </a:r>
            <a:endParaRPr b="0" lang="en-US" sz="3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06668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ue to spring breaks scheduled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or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eek of March and Easter holidays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eek of April, RMS agreed to split the difference and we scheduled our March/April meeting for next Tuesday, March 2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lso RMS leadership identified a meeting conflict with the Annual GCPA Conference scheduled on October 2-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n Austin.  RMS agreed to move our meeting date from Tuesday, October 3rd to the following Tuesday on October10th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19880" indent="-160920"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://ercot.com/calendar/2017/10/10/118259-RM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rch 23, 201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68CC-250F-4ED3-A86F-D16800F0E794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evill, Rob</dc:creator>
  <dc:description/>
  <dc:language>en-US</dc:language>
  <cp:lastModifiedBy>Scott, Kathy D.</cp:lastModifiedBy>
  <dcterms:modified xsi:type="dcterms:W3CDTF">2017-03-16T05:22:47Z</dcterms:modified>
  <cp:revision>1658</cp:revision>
  <dc:subject/>
  <dc:title>Instructions</dc:title>
</cp:coreProperties>
</file>